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70B-EE06-4E38-89F7-E6A16A37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183-A309-41C0-BE9F-F209D31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D44-9C99-4172-9391-1A78DA17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62D-3F3E-4187-9C73-9B7D69C0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6F2-0192-4D23-889B-E1A2BEB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B33-D73A-4D68-827F-E072F83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7B4-0C0C-4E6B-8304-9CB5061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78E-23C9-42CD-8AA3-F9CFB4E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B3D-5C67-4FB8-AF46-0E532196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264-AB8B-4547-AD6E-E20812F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409-939C-4C05-BCF5-E61C462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3D-CD5E-4D88-8AC3-4029F09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B987-E868-4A50-AC59-5FAB44421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Chapter Nine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Series, Sequences and Probabil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625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-11,25-27,  29-33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where there is a specific pattern to the set of numbers contained within it; it is usually infin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The function values     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, a</a:t>
            </a:r>
            <a:r>
              <a:rPr b="0" lang="en-US" sz="5500" spc="-1" strike="noStrike" baseline="-25000">
                <a:solidFill>
                  <a:srgbClr val="cc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, … are called the </a:t>
            </a:r>
            <a:r>
              <a:rPr b="0" lang="en-US" sz="5500" spc="-1" strike="noStrike" u="sng">
                <a:solidFill>
                  <a:srgbClr val="ccffff"/>
                </a:solidFill>
                <a:uFillTx/>
                <a:latin typeface="Arial"/>
              </a:rPr>
              <a:t>terms</a:t>
            </a:r>
            <a:r>
              <a:rPr b="0" lang="en-US" sz="5500" spc="-1" strike="noStrike">
                <a:solidFill>
                  <a:srgbClr val="ccffff"/>
                </a:solidFill>
                <a:latin typeface="Arial"/>
              </a:rPr>
              <a:t> of the sequence</a:t>
            </a:r>
            <a:endParaRPr b="0" lang="en-US" sz="5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our terms of each sequence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3n – 2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84840" y="1901880"/>
            <a:ext cx="142920" cy="447480"/>
          </a:xfrm>
          <a:custGeom>
            <a:avLst/>
            <a:gdLst/>
            <a:ahLst/>
            <a:rect l="l" t="t" r="r" b="b"/>
            <a:pathLst>
              <a:path w="398" h="1242">
                <a:moveTo>
                  <a:pt x="13593" y="5283"/>
                </a:moveTo>
                <a:cubicBezTo>
                  <a:pt x="13593" y="5406"/>
                  <a:pt x="13605" y="5509"/>
                  <a:pt x="13618" y="5631"/>
                </a:cubicBezTo>
                <a:cubicBezTo>
                  <a:pt x="13627" y="5714"/>
                  <a:pt x="13604" y="5776"/>
                  <a:pt x="13593" y="5854"/>
                </a:cubicBezTo>
                <a:cubicBezTo>
                  <a:pt x="13582" y="5934"/>
                  <a:pt x="13587" y="6000"/>
                  <a:pt x="13568" y="6077"/>
                </a:cubicBezTo>
                <a:cubicBezTo>
                  <a:pt x="13568" y="6102"/>
                  <a:pt x="13568" y="6110"/>
                  <a:pt x="13568" y="6127"/>
                </a:cubicBezTo>
              </a:path>
              <a:path w="398" h="1242">
                <a:moveTo>
                  <a:pt x="13965" y="6077"/>
                </a:moveTo>
                <a:cubicBezTo>
                  <a:pt x="13965" y="6160"/>
                  <a:pt x="13977" y="6296"/>
                  <a:pt x="13940" y="6375"/>
                </a:cubicBezTo>
                <a:cubicBezTo>
                  <a:pt x="13923" y="6413"/>
                  <a:pt x="13893" y="6469"/>
                  <a:pt x="13866" y="6499"/>
                </a:cubicBezTo>
                <a:cubicBezTo>
                  <a:pt x="13858" y="6507"/>
                  <a:pt x="13849" y="6516"/>
                  <a:pt x="13841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70320" y="1847880"/>
            <a:ext cx="866880" cy="527040"/>
          </a:xfrm>
          <a:custGeom>
            <a:avLst/>
            <a:gdLst/>
            <a:ahLst/>
            <a:rect l="l" t="t" r="r" b="b"/>
            <a:pathLst>
              <a:path w="2407" h="1464">
                <a:moveTo>
                  <a:pt x="14412" y="5259"/>
                </a:moveTo>
                <a:cubicBezTo>
                  <a:pt x="14412" y="5380"/>
                  <a:pt x="14413" y="5493"/>
                  <a:pt x="14387" y="5606"/>
                </a:cubicBezTo>
                <a:cubicBezTo>
                  <a:pt x="14377" y="5648"/>
                  <a:pt x="14366" y="5692"/>
                  <a:pt x="14362" y="5730"/>
                </a:cubicBezTo>
                <a:cubicBezTo>
                  <a:pt x="14359" y="5754"/>
                  <a:pt x="14362" y="5780"/>
                  <a:pt x="14362" y="5804"/>
                </a:cubicBezTo>
                <a:cubicBezTo>
                  <a:pt x="14415" y="5804"/>
                  <a:pt x="14432" y="5784"/>
                  <a:pt x="14486" y="5779"/>
                </a:cubicBezTo>
                <a:cubicBezTo>
                  <a:pt x="14576" y="5771"/>
                  <a:pt x="14655" y="5780"/>
                  <a:pt x="14734" y="5755"/>
                </a:cubicBezTo>
                <a:cubicBezTo>
                  <a:pt x="14753" y="5749"/>
                  <a:pt x="14788" y="5755"/>
                  <a:pt x="14808" y="5755"/>
                </a:cubicBezTo>
              </a:path>
              <a:path w="2407" h="1464">
                <a:moveTo>
                  <a:pt x="14932" y="5135"/>
                </a:moveTo>
                <a:cubicBezTo>
                  <a:pt x="14932" y="5289"/>
                  <a:pt x="14940" y="5432"/>
                  <a:pt x="14957" y="5581"/>
                </a:cubicBezTo>
                <a:cubicBezTo>
                  <a:pt x="14976" y="5751"/>
                  <a:pt x="14984" y="6000"/>
                  <a:pt x="14932" y="6152"/>
                </a:cubicBezTo>
                <a:cubicBezTo>
                  <a:pt x="14932" y="6176"/>
                  <a:pt x="14932" y="6185"/>
                  <a:pt x="14932" y="6201"/>
                </a:cubicBezTo>
              </a:path>
              <a:path w="2407" h="1464">
                <a:moveTo>
                  <a:pt x="15255" y="6102"/>
                </a:moveTo>
                <a:cubicBezTo>
                  <a:pt x="15277" y="6183"/>
                  <a:pt x="15280" y="6242"/>
                  <a:pt x="15280" y="6325"/>
                </a:cubicBezTo>
                <a:cubicBezTo>
                  <a:pt x="15280" y="6382"/>
                  <a:pt x="15255" y="6418"/>
                  <a:pt x="15255" y="6474"/>
                </a:cubicBezTo>
                <a:cubicBezTo>
                  <a:pt x="15255" y="6517"/>
                  <a:pt x="15230" y="6641"/>
                  <a:pt x="15230" y="6598"/>
                </a:cubicBezTo>
                <a:cubicBezTo>
                  <a:pt x="15230" y="6562"/>
                  <a:pt x="15238" y="6587"/>
                  <a:pt x="15205" y="6598"/>
                </a:cubicBezTo>
              </a:path>
              <a:path w="2407" h="1464">
                <a:moveTo>
                  <a:pt x="15577" y="5407"/>
                </a:moveTo>
                <a:cubicBezTo>
                  <a:pt x="15569" y="5415"/>
                  <a:pt x="15561" y="5424"/>
                  <a:pt x="15553" y="5432"/>
                </a:cubicBezTo>
                <a:cubicBezTo>
                  <a:pt x="15553" y="5372"/>
                  <a:pt x="15563" y="5336"/>
                  <a:pt x="15577" y="5308"/>
                </a:cubicBezTo>
                <a:cubicBezTo>
                  <a:pt x="15599" y="5263"/>
                  <a:pt x="15618" y="5294"/>
                  <a:pt x="15677" y="5283"/>
                </a:cubicBezTo>
                <a:cubicBezTo>
                  <a:pt x="15768" y="5267"/>
                  <a:pt x="15862" y="5249"/>
                  <a:pt x="15949" y="5234"/>
                </a:cubicBezTo>
                <a:cubicBezTo>
                  <a:pt x="16008" y="5224"/>
                  <a:pt x="16130" y="5263"/>
                  <a:pt x="16148" y="5209"/>
                </a:cubicBezTo>
                <a:cubicBezTo>
                  <a:pt x="16120" y="5218"/>
                  <a:pt x="16103" y="5243"/>
                  <a:pt x="16098" y="5283"/>
                </a:cubicBezTo>
                <a:cubicBezTo>
                  <a:pt x="16078" y="5462"/>
                  <a:pt x="16092" y="5655"/>
                  <a:pt x="16073" y="5829"/>
                </a:cubicBezTo>
                <a:cubicBezTo>
                  <a:pt x="16063" y="5920"/>
                  <a:pt x="16047" y="5976"/>
                  <a:pt x="16024" y="6052"/>
                </a:cubicBezTo>
                <a:cubicBezTo>
                  <a:pt x="16014" y="6084"/>
                  <a:pt x="15993" y="6114"/>
                  <a:pt x="16024" y="6102"/>
                </a:cubicBezTo>
                <a:cubicBezTo>
                  <a:pt x="16032" y="6102"/>
                  <a:pt x="16041" y="6102"/>
                  <a:pt x="16049" y="6102"/>
                </a:cubicBezTo>
              </a:path>
              <a:path w="2407" h="1464">
                <a:moveTo>
                  <a:pt x="16396" y="6176"/>
                </a:moveTo>
                <a:cubicBezTo>
                  <a:pt x="16396" y="6266"/>
                  <a:pt x="16384" y="6341"/>
                  <a:pt x="16371" y="6424"/>
                </a:cubicBezTo>
                <a:cubicBezTo>
                  <a:pt x="16362" y="6481"/>
                  <a:pt x="16346" y="6512"/>
                  <a:pt x="16346" y="6573"/>
                </a:cubicBezTo>
                <a:cubicBezTo>
                  <a:pt x="16346" y="6598"/>
                  <a:pt x="16346" y="6606"/>
                  <a:pt x="16346" y="6573"/>
                </a:cubicBezTo>
              </a:path>
              <a:path w="2407" h="1464">
                <a:moveTo>
                  <a:pt x="16743" y="5209"/>
                </a:moveTo>
                <a:cubicBezTo>
                  <a:pt x="16774" y="5280"/>
                  <a:pt x="16768" y="5327"/>
                  <a:pt x="16768" y="5407"/>
                </a:cubicBezTo>
                <a:cubicBezTo>
                  <a:pt x="16768" y="5584"/>
                  <a:pt x="16761" y="5760"/>
                  <a:pt x="16743" y="5928"/>
                </a:cubicBezTo>
                <a:cubicBezTo>
                  <a:pt x="16736" y="5994"/>
                  <a:pt x="16758" y="6155"/>
                  <a:pt x="16718" y="6102"/>
                </a:cubicBezTo>
                <a:cubicBezTo>
                  <a:pt x="16718" y="6094"/>
                  <a:pt x="16718" y="6085"/>
                  <a:pt x="1671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80120" y="1893960"/>
            <a:ext cx="187200" cy="29376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17165" y="5283"/>
                </a:moveTo>
                <a:cubicBezTo>
                  <a:pt x="17186" y="5388"/>
                  <a:pt x="17190" y="5475"/>
                  <a:pt x="17190" y="5581"/>
                </a:cubicBezTo>
                <a:cubicBezTo>
                  <a:pt x="17190" y="5679"/>
                  <a:pt x="17203" y="5787"/>
                  <a:pt x="17239" y="5879"/>
                </a:cubicBezTo>
                <a:cubicBezTo>
                  <a:pt x="17264" y="5945"/>
                  <a:pt x="17279" y="6011"/>
                  <a:pt x="17338" y="6052"/>
                </a:cubicBezTo>
                <a:cubicBezTo>
                  <a:pt x="17361" y="6068"/>
                  <a:pt x="17429" y="6094"/>
                  <a:pt x="17462" y="6077"/>
                </a:cubicBezTo>
                <a:cubicBezTo>
                  <a:pt x="17530" y="6043"/>
                  <a:pt x="17554" y="5995"/>
                  <a:pt x="17587" y="5928"/>
                </a:cubicBezTo>
                <a:cubicBezTo>
                  <a:pt x="17630" y="5841"/>
                  <a:pt x="17637" y="5769"/>
                  <a:pt x="17661" y="5680"/>
                </a:cubicBezTo>
                <a:cubicBezTo>
                  <a:pt x="17683" y="5600"/>
                  <a:pt x="17688" y="5538"/>
                  <a:pt x="17661" y="5457"/>
                </a:cubicBezTo>
                <a:cubicBezTo>
                  <a:pt x="17637" y="5386"/>
                  <a:pt x="17586" y="5308"/>
                  <a:pt x="17512" y="5283"/>
                </a:cubicBezTo>
                <a:cubicBezTo>
                  <a:pt x="17476" y="5271"/>
                  <a:pt x="17455" y="5259"/>
                  <a:pt x="17413" y="5259"/>
                </a:cubicBezTo>
                <a:cubicBezTo>
                  <a:pt x="17328" y="5259"/>
                  <a:pt x="17355" y="5279"/>
                  <a:pt x="17289" y="5308"/>
                </a:cubicBezTo>
                <a:cubicBezTo>
                  <a:pt x="17281" y="5308"/>
                  <a:pt x="17272" y="5308"/>
                  <a:pt x="17264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9120" y="3027240"/>
            <a:ext cx="536760" cy="750960"/>
          </a:xfrm>
          <a:custGeom>
            <a:avLst/>
            <a:gdLst/>
            <a:ahLst/>
            <a:rect l="l" t="t" r="r" b="b"/>
            <a:pathLst>
              <a:path w="1489" h="2084">
                <a:moveTo>
                  <a:pt x="13915" y="9004"/>
                </a:moveTo>
                <a:cubicBezTo>
                  <a:pt x="13908" y="9085"/>
                  <a:pt x="13876" y="9151"/>
                  <a:pt x="13866" y="9227"/>
                </a:cubicBezTo>
                <a:cubicBezTo>
                  <a:pt x="13847" y="9373"/>
                  <a:pt x="13806" y="9506"/>
                  <a:pt x="13767" y="9649"/>
                </a:cubicBezTo>
                <a:cubicBezTo>
                  <a:pt x="13736" y="9765"/>
                  <a:pt x="13709" y="9903"/>
                  <a:pt x="13692" y="10021"/>
                </a:cubicBezTo>
                <a:cubicBezTo>
                  <a:pt x="13682" y="10094"/>
                  <a:pt x="13692" y="10199"/>
                  <a:pt x="13692" y="10269"/>
                </a:cubicBezTo>
                <a:cubicBezTo>
                  <a:pt x="13692" y="10158"/>
                  <a:pt x="13708" y="10054"/>
                  <a:pt x="13717" y="9947"/>
                </a:cubicBezTo>
                <a:cubicBezTo>
                  <a:pt x="13733" y="9756"/>
                  <a:pt x="13769" y="9581"/>
                  <a:pt x="13816" y="9401"/>
                </a:cubicBezTo>
                <a:cubicBezTo>
                  <a:pt x="13874" y="9180"/>
                  <a:pt x="13909" y="8953"/>
                  <a:pt x="13965" y="8731"/>
                </a:cubicBezTo>
                <a:cubicBezTo>
                  <a:pt x="13991" y="8629"/>
                  <a:pt x="14014" y="8512"/>
                  <a:pt x="14089" y="8434"/>
                </a:cubicBezTo>
                <a:cubicBezTo>
                  <a:pt x="14112" y="8411"/>
                  <a:pt x="14116" y="8403"/>
                  <a:pt x="14139" y="8409"/>
                </a:cubicBezTo>
                <a:cubicBezTo>
                  <a:pt x="14181" y="8457"/>
                  <a:pt x="14214" y="8496"/>
                  <a:pt x="14238" y="8558"/>
                </a:cubicBezTo>
                <a:cubicBezTo>
                  <a:pt x="14278" y="8660"/>
                  <a:pt x="14300" y="8819"/>
                  <a:pt x="14312" y="8930"/>
                </a:cubicBezTo>
                <a:cubicBezTo>
                  <a:pt x="14329" y="9082"/>
                  <a:pt x="14354" y="9225"/>
                  <a:pt x="14387" y="9376"/>
                </a:cubicBezTo>
                <a:cubicBezTo>
                  <a:pt x="14419" y="9526"/>
                  <a:pt x="14437" y="9674"/>
                  <a:pt x="14461" y="9823"/>
                </a:cubicBezTo>
                <a:cubicBezTo>
                  <a:pt x="14474" y="9905"/>
                  <a:pt x="14506" y="10027"/>
                  <a:pt x="14560" y="10096"/>
                </a:cubicBezTo>
                <a:cubicBezTo>
                  <a:pt x="14598" y="10145"/>
                  <a:pt x="14600" y="10160"/>
                  <a:pt x="14610" y="10145"/>
                </a:cubicBezTo>
                <a:cubicBezTo>
                  <a:pt x="14610" y="10137"/>
                  <a:pt x="14610" y="10128"/>
                  <a:pt x="14610" y="10120"/>
                </a:cubicBezTo>
              </a:path>
              <a:path w="1489" h="2084">
                <a:moveTo>
                  <a:pt x="13866" y="9847"/>
                </a:moveTo>
                <a:cubicBezTo>
                  <a:pt x="13882" y="9896"/>
                  <a:pt x="13935" y="9850"/>
                  <a:pt x="13990" y="9847"/>
                </a:cubicBezTo>
                <a:cubicBezTo>
                  <a:pt x="14073" y="9842"/>
                  <a:pt x="14155" y="9819"/>
                  <a:pt x="14238" y="9798"/>
                </a:cubicBezTo>
              </a:path>
              <a:path w="1489" h="2084">
                <a:moveTo>
                  <a:pt x="14734" y="9996"/>
                </a:moveTo>
                <a:cubicBezTo>
                  <a:pt x="14734" y="10136"/>
                  <a:pt x="14718" y="10294"/>
                  <a:pt x="14759" y="10418"/>
                </a:cubicBezTo>
                <a:cubicBezTo>
                  <a:pt x="14759" y="10426"/>
                  <a:pt x="14759" y="10435"/>
                  <a:pt x="14759" y="10443"/>
                </a:cubicBezTo>
                <a:cubicBezTo>
                  <a:pt x="14772" y="10393"/>
                  <a:pt x="14784" y="10379"/>
                  <a:pt x="14784" y="10319"/>
                </a:cubicBezTo>
                <a:cubicBezTo>
                  <a:pt x="14784" y="10268"/>
                  <a:pt x="14814" y="10140"/>
                  <a:pt x="14833" y="10096"/>
                </a:cubicBezTo>
                <a:cubicBezTo>
                  <a:pt x="14854" y="10047"/>
                  <a:pt x="14866" y="10013"/>
                  <a:pt x="14908" y="9971"/>
                </a:cubicBezTo>
                <a:cubicBezTo>
                  <a:pt x="14944" y="9935"/>
                  <a:pt x="14971" y="9939"/>
                  <a:pt x="15007" y="9971"/>
                </a:cubicBezTo>
                <a:cubicBezTo>
                  <a:pt x="15060" y="10018"/>
                  <a:pt x="15053" y="10058"/>
                  <a:pt x="15081" y="10120"/>
                </a:cubicBezTo>
                <a:cubicBezTo>
                  <a:pt x="15111" y="10186"/>
                  <a:pt x="15109" y="10254"/>
                  <a:pt x="15131" y="10319"/>
                </a:cubicBezTo>
                <a:cubicBezTo>
                  <a:pt x="15139" y="10343"/>
                  <a:pt x="15146" y="10482"/>
                  <a:pt x="15156" y="10492"/>
                </a:cubicBezTo>
                <a:cubicBezTo>
                  <a:pt x="15180" y="10492"/>
                  <a:pt x="15188" y="10492"/>
                  <a:pt x="15180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6720" y="3143160"/>
            <a:ext cx="1009440" cy="438120"/>
          </a:xfrm>
          <a:custGeom>
            <a:avLst/>
            <a:gdLst/>
            <a:ahLst/>
            <a:rect l="l" t="t" r="r" b="b"/>
            <a:pathLst>
              <a:path w="2804" h="1217">
                <a:moveTo>
                  <a:pt x="15602" y="9451"/>
                </a:moveTo>
                <a:cubicBezTo>
                  <a:pt x="15726" y="9451"/>
                  <a:pt x="15850" y="9451"/>
                  <a:pt x="15974" y="9451"/>
                </a:cubicBezTo>
              </a:path>
              <a:path w="2804" h="1217">
                <a:moveTo>
                  <a:pt x="15627" y="9748"/>
                </a:moveTo>
                <a:cubicBezTo>
                  <a:pt x="15718" y="9748"/>
                  <a:pt x="15790" y="9737"/>
                  <a:pt x="15875" y="9723"/>
                </a:cubicBezTo>
                <a:cubicBezTo>
                  <a:pt x="15935" y="9713"/>
                  <a:pt x="15967" y="9702"/>
                  <a:pt x="16024" y="9674"/>
                </a:cubicBezTo>
              </a:path>
              <a:path w="2804" h="1217">
                <a:moveTo>
                  <a:pt x="16594" y="8905"/>
                </a:moveTo>
                <a:cubicBezTo>
                  <a:pt x="16620" y="8853"/>
                  <a:pt x="16642" y="8790"/>
                  <a:pt x="16694" y="8756"/>
                </a:cubicBezTo>
                <a:cubicBezTo>
                  <a:pt x="16758" y="8715"/>
                  <a:pt x="16844" y="8722"/>
                  <a:pt x="16917" y="8731"/>
                </a:cubicBezTo>
                <a:cubicBezTo>
                  <a:pt x="16989" y="8740"/>
                  <a:pt x="16992" y="8831"/>
                  <a:pt x="16966" y="8880"/>
                </a:cubicBezTo>
                <a:cubicBezTo>
                  <a:pt x="16931" y="8946"/>
                  <a:pt x="16871" y="9001"/>
                  <a:pt x="16818" y="9054"/>
                </a:cubicBezTo>
                <a:cubicBezTo>
                  <a:pt x="16768" y="9104"/>
                  <a:pt x="16704" y="9142"/>
                  <a:pt x="16644" y="9178"/>
                </a:cubicBezTo>
                <a:cubicBezTo>
                  <a:pt x="16573" y="9221"/>
                  <a:pt x="16618" y="9203"/>
                  <a:pt x="16570" y="9252"/>
                </a:cubicBezTo>
                <a:cubicBezTo>
                  <a:pt x="16609" y="9257"/>
                  <a:pt x="16639" y="9271"/>
                  <a:pt x="16669" y="9277"/>
                </a:cubicBezTo>
                <a:cubicBezTo>
                  <a:pt x="16773" y="9298"/>
                  <a:pt x="16788" y="9282"/>
                  <a:pt x="16892" y="9351"/>
                </a:cubicBezTo>
                <a:cubicBezTo>
                  <a:pt x="16944" y="9385"/>
                  <a:pt x="17002" y="9463"/>
                  <a:pt x="17016" y="9525"/>
                </a:cubicBezTo>
                <a:cubicBezTo>
                  <a:pt x="17036" y="9614"/>
                  <a:pt x="17033" y="9640"/>
                  <a:pt x="16991" y="9723"/>
                </a:cubicBezTo>
                <a:cubicBezTo>
                  <a:pt x="16947" y="9811"/>
                  <a:pt x="16877" y="9849"/>
                  <a:pt x="16793" y="9897"/>
                </a:cubicBezTo>
                <a:cubicBezTo>
                  <a:pt x="16741" y="9927"/>
                  <a:pt x="16577" y="9961"/>
                  <a:pt x="16520" y="9947"/>
                </a:cubicBezTo>
                <a:cubicBezTo>
                  <a:pt x="16488" y="9939"/>
                  <a:pt x="16446" y="9908"/>
                  <a:pt x="16446" y="9872"/>
                </a:cubicBezTo>
                <a:cubicBezTo>
                  <a:pt x="16454" y="9864"/>
                  <a:pt x="16462" y="9855"/>
                  <a:pt x="16470" y="9847"/>
                </a:cubicBezTo>
              </a:path>
              <a:path w="2804" h="1217">
                <a:moveTo>
                  <a:pt x="17239" y="9500"/>
                </a:moveTo>
                <a:cubicBezTo>
                  <a:pt x="17239" y="9608"/>
                  <a:pt x="17239" y="9715"/>
                  <a:pt x="17239" y="9823"/>
                </a:cubicBezTo>
                <a:cubicBezTo>
                  <a:pt x="17269" y="9783"/>
                  <a:pt x="17265" y="9749"/>
                  <a:pt x="17289" y="9699"/>
                </a:cubicBezTo>
                <a:cubicBezTo>
                  <a:pt x="17321" y="9632"/>
                  <a:pt x="17328" y="9569"/>
                  <a:pt x="17363" y="9500"/>
                </a:cubicBezTo>
                <a:cubicBezTo>
                  <a:pt x="17401" y="9426"/>
                  <a:pt x="17431" y="9339"/>
                  <a:pt x="17487" y="9277"/>
                </a:cubicBezTo>
                <a:cubicBezTo>
                  <a:pt x="17535" y="9224"/>
                  <a:pt x="17576" y="9231"/>
                  <a:pt x="17636" y="9252"/>
                </a:cubicBezTo>
                <a:cubicBezTo>
                  <a:pt x="17700" y="9275"/>
                  <a:pt x="17757" y="9314"/>
                  <a:pt x="17785" y="9376"/>
                </a:cubicBezTo>
                <a:cubicBezTo>
                  <a:pt x="17819" y="9452"/>
                  <a:pt x="17891" y="9542"/>
                  <a:pt x="17909" y="9624"/>
                </a:cubicBezTo>
                <a:cubicBezTo>
                  <a:pt x="17921" y="9678"/>
                  <a:pt x="17934" y="9714"/>
                  <a:pt x="17934" y="9773"/>
                </a:cubicBezTo>
                <a:cubicBezTo>
                  <a:pt x="17934" y="9781"/>
                  <a:pt x="17934" y="9865"/>
                  <a:pt x="17934" y="9798"/>
                </a:cubicBezTo>
              </a:path>
              <a:path w="2804" h="1217">
                <a:moveTo>
                  <a:pt x="18157" y="9426"/>
                </a:moveTo>
                <a:cubicBezTo>
                  <a:pt x="18240" y="9457"/>
                  <a:pt x="18250" y="9434"/>
                  <a:pt x="18331" y="9426"/>
                </a:cubicBezTo>
                <a:cubicBezTo>
                  <a:pt x="18364" y="9426"/>
                  <a:pt x="18380" y="9426"/>
                  <a:pt x="18405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3106800"/>
            <a:ext cx="285840" cy="438120"/>
          </a:xfrm>
          <a:custGeom>
            <a:avLst/>
            <a:gdLst/>
            <a:ahLst/>
            <a:rect l="l" t="t" r="r" b="b"/>
            <a:pathLst>
              <a:path w="795" h="1216">
                <a:moveTo>
                  <a:pt x="18901" y="8756"/>
                </a:moveTo>
                <a:cubicBezTo>
                  <a:pt x="18949" y="8726"/>
                  <a:pt x="19046" y="8647"/>
                  <a:pt x="19100" y="8632"/>
                </a:cubicBezTo>
                <a:cubicBezTo>
                  <a:pt x="19184" y="8609"/>
                  <a:pt x="19256" y="8645"/>
                  <a:pt x="19323" y="8682"/>
                </a:cubicBezTo>
                <a:cubicBezTo>
                  <a:pt x="19399" y="8724"/>
                  <a:pt x="19449" y="8784"/>
                  <a:pt x="19422" y="8880"/>
                </a:cubicBezTo>
                <a:cubicBezTo>
                  <a:pt x="19394" y="8982"/>
                  <a:pt x="19334" y="9024"/>
                  <a:pt x="19273" y="9103"/>
                </a:cubicBezTo>
                <a:cubicBezTo>
                  <a:pt x="19208" y="9187"/>
                  <a:pt x="19149" y="9273"/>
                  <a:pt x="19075" y="9351"/>
                </a:cubicBezTo>
                <a:cubicBezTo>
                  <a:pt x="19030" y="9399"/>
                  <a:pt x="18939" y="9480"/>
                  <a:pt x="18926" y="9550"/>
                </a:cubicBezTo>
                <a:cubicBezTo>
                  <a:pt x="18909" y="9640"/>
                  <a:pt x="18938" y="9627"/>
                  <a:pt x="19000" y="9649"/>
                </a:cubicBezTo>
                <a:cubicBezTo>
                  <a:pt x="19064" y="9672"/>
                  <a:pt x="19155" y="9694"/>
                  <a:pt x="19224" y="9699"/>
                </a:cubicBezTo>
                <a:cubicBezTo>
                  <a:pt x="19341" y="9708"/>
                  <a:pt x="19460" y="9692"/>
                  <a:pt x="19571" y="9723"/>
                </a:cubicBezTo>
                <a:cubicBezTo>
                  <a:pt x="19592" y="9729"/>
                  <a:pt x="19682" y="9760"/>
                  <a:pt x="19695" y="9773"/>
                </a:cubicBezTo>
                <a:cubicBezTo>
                  <a:pt x="19727" y="9805"/>
                  <a:pt x="19625" y="9845"/>
                  <a:pt x="19621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54080" y="3456000"/>
            <a:ext cx="438120" cy="581040"/>
          </a:xfrm>
          <a:custGeom>
            <a:avLst/>
            <a:gdLst/>
            <a:ahLst/>
            <a:rect l="l" t="t" r="r" b="b"/>
            <a:pathLst>
              <a:path w="1216" h="1614">
                <a:moveTo>
                  <a:pt x="2977" y="9674"/>
                </a:moveTo>
                <a:cubicBezTo>
                  <a:pt x="2989" y="9712"/>
                  <a:pt x="3001" y="9695"/>
                  <a:pt x="3001" y="9748"/>
                </a:cubicBezTo>
                <a:cubicBezTo>
                  <a:pt x="3001" y="9810"/>
                  <a:pt x="3022" y="9866"/>
                  <a:pt x="3026" y="9922"/>
                </a:cubicBezTo>
                <a:cubicBezTo>
                  <a:pt x="3034" y="10024"/>
                  <a:pt x="3044" y="10101"/>
                  <a:pt x="3051" y="10195"/>
                </a:cubicBezTo>
                <a:cubicBezTo>
                  <a:pt x="3054" y="10240"/>
                  <a:pt x="3116" y="10339"/>
                  <a:pt x="3076" y="10319"/>
                </a:cubicBezTo>
                <a:cubicBezTo>
                  <a:pt x="3068" y="10311"/>
                  <a:pt x="3059" y="10302"/>
                  <a:pt x="3051" y="10294"/>
                </a:cubicBezTo>
              </a:path>
              <a:path w="1216" h="1614">
                <a:moveTo>
                  <a:pt x="3547" y="9599"/>
                </a:moveTo>
                <a:cubicBezTo>
                  <a:pt x="3523" y="9641"/>
                  <a:pt x="3497" y="9714"/>
                  <a:pt x="3473" y="9748"/>
                </a:cubicBezTo>
                <a:cubicBezTo>
                  <a:pt x="3417" y="9828"/>
                  <a:pt x="3386" y="9921"/>
                  <a:pt x="3349" y="10021"/>
                </a:cubicBezTo>
                <a:cubicBezTo>
                  <a:pt x="3312" y="10122"/>
                  <a:pt x="3277" y="10226"/>
                  <a:pt x="3225" y="10319"/>
                </a:cubicBezTo>
                <a:cubicBezTo>
                  <a:pt x="3171" y="10416"/>
                  <a:pt x="3130" y="10520"/>
                  <a:pt x="3076" y="10616"/>
                </a:cubicBezTo>
                <a:cubicBezTo>
                  <a:pt x="3034" y="10692"/>
                  <a:pt x="3012" y="10766"/>
                  <a:pt x="2977" y="10840"/>
                </a:cubicBezTo>
                <a:cubicBezTo>
                  <a:pt x="2960" y="10876"/>
                  <a:pt x="2909" y="10975"/>
                  <a:pt x="2927" y="10939"/>
                </a:cubicBezTo>
                <a:cubicBezTo>
                  <a:pt x="2938" y="10917"/>
                  <a:pt x="2941" y="10885"/>
                  <a:pt x="2952" y="10864"/>
                </a:cubicBezTo>
              </a:path>
              <a:path w="1216" h="1614">
                <a:moveTo>
                  <a:pt x="3398" y="10344"/>
                </a:moveTo>
                <a:cubicBezTo>
                  <a:pt x="3438" y="10321"/>
                  <a:pt x="3480" y="10274"/>
                  <a:pt x="3522" y="10269"/>
                </a:cubicBezTo>
                <a:cubicBezTo>
                  <a:pt x="3558" y="10265"/>
                  <a:pt x="3580" y="10229"/>
                  <a:pt x="3621" y="10244"/>
                </a:cubicBezTo>
                <a:cubicBezTo>
                  <a:pt x="3653" y="10256"/>
                  <a:pt x="3734" y="10277"/>
                  <a:pt x="3746" y="10319"/>
                </a:cubicBezTo>
                <a:cubicBezTo>
                  <a:pt x="3763" y="10378"/>
                  <a:pt x="3729" y="10449"/>
                  <a:pt x="3721" y="10492"/>
                </a:cubicBezTo>
                <a:cubicBezTo>
                  <a:pt x="3708" y="10561"/>
                  <a:pt x="3690" y="10608"/>
                  <a:pt x="3646" y="10666"/>
                </a:cubicBezTo>
                <a:cubicBezTo>
                  <a:pt x="3610" y="10714"/>
                  <a:pt x="3583" y="10767"/>
                  <a:pt x="3547" y="10815"/>
                </a:cubicBezTo>
                <a:cubicBezTo>
                  <a:pt x="3536" y="10830"/>
                  <a:pt x="3488" y="10882"/>
                  <a:pt x="3473" y="10889"/>
                </a:cubicBezTo>
                <a:cubicBezTo>
                  <a:pt x="3432" y="10910"/>
                  <a:pt x="3478" y="10866"/>
                  <a:pt x="3497" y="10864"/>
                </a:cubicBezTo>
                <a:cubicBezTo>
                  <a:pt x="3582" y="10853"/>
                  <a:pt x="3675" y="10865"/>
                  <a:pt x="3746" y="10889"/>
                </a:cubicBezTo>
                <a:cubicBezTo>
                  <a:pt x="3796" y="10906"/>
                  <a:pt x="3883" y="10891"/>
                  <a:pt x="3919" y="10864"/>
                </a:cubicBezTo>
              </a:path>
              <a:path w="1216" h="1614">
                <a:moveTo>
                  <a:pt x="4142" y="10765"/>
                </a:moveTo>
                <a:cubicBezTo>
                  <a:pt x="4142" y="10846"/>
                  <a:pt x="4130" y="10891"/>
                  <a:pt x="4118" y="10964"/>
                </a:cubicBezTo>
                <a:cubicBezTo>
                  <a:pt x="4107" y="11030"/>
                  <a:pt x="4067" y="11052"/>
                  <a:pt x="4043" y="11112"/>
                </a:cubicBezTo>
                <a:cubicBezTo>
                  <a:pt x="4024" y="11159"/>
                  <a:pt x="4013" y="11167"/>
                  <a:pt x="3969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0040" y="3473280"/>
            <a:ext cx="401760" cy="590760"/>
          </a:xfrm>
          <a:custGeom>
            <a:avLst/>
            <a:gdLst/>
            <a:ahLst/>
            <a:rect l="l" t="t" r="r" b="b"/>
            <a:pathLst>
              <a:path w="1118" h="1638">
                <a:moveTo>
                  <a:pt x="4713" y="9674"/>
                </a:moveTo>
                <a:cubicBezTo>
                  <a:pt x="4747" y="9752"/>
                  <a:pt x="4718" y="9765"/>
                  <a:pt x="4713" y="9847"/>
                </a:cubicBezTo>
                <a:cubicBezTo>
                  <a:pt x="4706" y="9971"/>
                  <a:pt x="4713" y="10096"/>
                  <a:pt x="4713" y="10220"/>
                </a:cubicBezTo>
              </a:path>
              <a:path w="1118" h="1638">
                <a:moveTo>
                  <a:pt x="5234" y="9649"/>
                </a:moveTo>
                <a:cubicBezTo>
                  <a:pt x="5193" y="9690"/>
                  <a:pt x="5178" y="9724"/>
                  <a:pt x="5159" y="9773"/>
                </a:cubicBezTo>
                <a:cubicBezTo>
                  <a:pt x="5125" y="9860"/>
                  <a:pt x="5103" y="9963"/>
                  <a:pt x="5060" y="10046"/>
                </a:cubicBezTo>
                <a:cubicBezTo>
                  <a:pt x="5009" y="10145"/>
                  <a:pt x="4972" y="10237"/>
                  <a:pt x="4936" y="10344"/>
                </a:cubicBezTo>
                <a:cubicBezTo>
                  <a:pt x="4901" y="10448"/>
                  <a:pt x="4853" y="10540"/>
                  <a:pt x="4812" y="10641"/>
                </a:cubicBezTo>
                <a:cubicBezTo>
                  <a:pt x="4779" y="10724"/>
                  <a:pt x="4740" y="10783"/>
                  <a:pt x="4713" y="10864"/>
                </a:cubicBezTo>
                <a:cubicBezTo>
                  <a:pt x="4695" y="10916"/>
                  <a:pt x="4630" y="10933"/>
                  <a:pt x="4638" y="10988"/>
                </a:cubicBezTo>
                <a:cubicBezTo>
                  <a:pt x="4647" y="11048"/>
                  <a:pt x="4656" y="10981"/>
                  <a:pt x="4663" y="10964"/>
                </a:cubicBezTo>
              </a:path>
              <a:path w="1118" h="1638">
                <a:moveTo>
                  <a:pt x="5110" y="10443"/>
                </a:moveTo>
                <a:cubicBezTo>
                  <a:pt x="5110" y="10512"/>
                  <a:pt x="5108" y="10519"/>
                  <a:pt x="5060" y="10567"/>
                </a:cubicBezTo>
                <a:cubicBezTo>
                  <a:pt x="5022" y="10605"/>
                  <a:pt x="5011" y="10613"/>
                  <a:pt x="5011" y="10666"/>
                </a:cubicBezTo>
                <a:cubicBezTo>
                  <a:pt x="5077" y="10666"/>
                  <a:pt x="5040" y="10685"/>
                  <a:pt x="5110" y="10691"/>
                </a:cubicBezTo>
                <a:cubicBezTo>
                  <a:pt x="5178" y="10697"/>
                  <a:pt x="5222" y="10681"/>
                  <a:pt x="5283" y="10666"/>
                </a:cubicBezTo>
                <a:cubicBezTo>
                  <a:pt x="5308" y="10666"/>
                  <a:pt x="5316" y="10666"/>
                  <a:pt x="5333" y="10666"/>
                </a:cubicBezTo>
              </a:path>
              <a:path w="1118" h="1638">
                <a:moveTo>
                  <a:pt x="5407" y="10269"/>
                </a:moveTo>
                <a:cubicBezTo>
                  <a:pt x="5389" y="10372"/>
                  <a:pt x="5362" y="10466"/>
                  <a:pt x="5358" y="10567"/>
                </a:cubicBezTo>
                <a:cubicBezTo>
                  <a:pt x="5355" y="10654"/>
                  <a:pt x="5338" y="10730"/>
                  <a:pt x="5333" y="10815"/>
                </a:cubicBezTo>
                <a:cubicBezTo>
                  <a:pt x="5332" y="10842"/>
                  <a:pt x="5324" y="11105"/>
                  <a:pt x="5358" y="11088"/>
                </a:cubicBezTo>
                <a:cubicBezTo>
                  <a:pt x="5366" y="11080"/>
                  <a:pt x="5375" y="11071"/>
                  <a:pt x="5383" y="11063"/>
                </a:cubicBezTo>
              </a:path>
              <a:path w="1118" h="1638">
                <a:moveTo>
                  <a:pt x="5755" y="10988"/>
                </a:moveTo>
                <a:cubicBezTo>
                  <a:pt x="5728" y="11061"/>
                  <a:pt x="5700" y="11125"/>
                  <a:pt x="5655" y="11187"/>
                </a:cubicBezTo>
                <a:cubicBezTo>
                  <a:pt x="5628" y="11224"/>
                  <a:pt x="5605" y="11244"/>
                  <a:pt x="5581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59000" y="3463920"/>
            <a:ext cx="268200" cy="536760"/>
          </a:xfrm>
          <a:custGeom>
            <a:avLst/>
            <a:gdLst/>
            <a:ahLst/>
            <a:rect l="l" t="t" r="r" b="b"/>
            <a:pathLst>
              <a:path w="745" h="1489">
                <a:moveTo>
                  <a:pt x="6375" y="9624"/>
                </a:moveTo>
                <a:cubicBezTo>
                  <a:pt x="6375" y="9697"/>
                  <a:pt x="6361" y="9755"/>
                  <a:pt x="6350" y="9823"/>
                </a:cubicBezTo>
                <a:cubicBezTo>
                  <a:pt x="6337" y="9902"/>
                  <a:pt x="6344" y="9970"/>
                  <a:pt x="6325" y="10046"/>
                </a:cubicBezTo>
                <a:cubicBezTo>
                  <a:pt x="6316" y="10084"/>
                  <a:pt x="6329" y="10093"/>
                  <a:pt x="6350" y="10120"/>
                </a:cubicBezTo>
              </a:path>
              <a:path w="745" h="1489">
                <a:moveTo>
                  <a:pt x="6796" y="9624"/>
                </a:moveTo>
                <a:cubicBezTo>
                  <a:pt x="6768" y="9731"/>
                  <a:pt x="6741" y="9845"/>
                  <a:pt x="6697" y="9947"/>
                </a:cubicBezTo>
                <a:cubicBezTo>
                  <a:pt x="6648" y="10060"/>
                  <a:pt x="6640" y="10189"/>
                  <a:pt x="6598" y="10294"/>
                </a:cubicBezTo>
                <a:cubicBezTo>
                  <a:pt x="6547" y="10422"/>
                  <a:pt x="6502" y="10560"/>
                  <a:pt x="6449" y="10691"/>
                </a:cubicBezTo>
                <a:cubicBezTo>
                  <a:pt x="6414" y="10776"/>
                  <a:pt x="6380" y="10823"/>
                  <a:pt x="6325" y="10889"/>
                </a:cubicBezTo>
                <a:cubicBezTo>
                  <a:pt x="6315" y="10901"/>
                  <a:pt x="6239" y="11002"/>
                  <a:pt x="6300" y="10939"/>
                </a:cubicBezTo>
              </a:path>
              <a:path w="745" h="1489">
                <a:moveTo>
                  <a:pt x="6846" y="10468"/>
                </a:moveTo>
                <a:cubicBezTo>
                  <a:pt x="6863" y="10540"/>
                  <a:pt x="6871" y="10574"/>
                  <a:pt x="6871" y="10641"/>
                </a:cubicBezTo>
                <a:cubicBezTo>
                  <a:pt x="6871" y="10694"/>
                  <a:pt x="6822" y="10651"/>
                  <a:pt x="6871" y="10716"/>
                </a:cubicBezTo>
                <a:cubicBezTo>
                  <a:pt x="6898" y="10707"/>
                  <a:pt x="6917" y="10698"/>
                  <a:pt x="6921" y="10666"/>
                </a:cubicBezTo>
                <a:cubicBezTo>
                  <a:pt x="6927" y="10616"/>
                  <a:pt x="6922" y="10611"/>
                  <a:pt x="6896" y="10592"/>
                </a:cubicBezTo>
                <a:cubicBezTo>
                  <a:pt x="6848" y="10556"/>
                  <a:pt x="6889" y="10542"/>
                  <a:pt x="6821" y="10542"/>
                </a:cubicBezTo>
                <a:cubicBezTo>
                  <a:pt x="6796" y="10542"/>
                  <a:pt x="6772" y="10542"/>
                  <a:pt x="6747" y="10542"/>
                </a:cubicBezTo>
                <a:cubicBezTo>
                  <a:pt x="6747" y="10602"/>
                  <a:pt x="6746" y="10635"/>
                  <a:pt x="6772" y="10691"/>
                </a:cubicBezTo>
                <a:cubicBezTo>
                  <a:pt x="6801" y="10753"/>
                  <a:pt x="6833" y="10845"/>
                  <a:pt x="6846" y="10914"/>
                </a:cubicBezTo>
                <a:cubicBezTo>
                  <a:pt x="6855" y="10963"/>
                  <a:pt x="6845" y="11027"/>
                  <a:pt x="6821" y="11063"/>
                </a:cubicBezTo>
                <a:cubicBezTo>
                  <a:pt x="6799" y="11085"/>
                  <a:pt x="6790" y="11090"/>
                  <a:pt x="6796" y="11112"/>
                </a:cubicBezTo>
                <a:cubicBezTo>
                  <a:pt x="6756" y="11112"/>
                  <a:pt x="6716" y="11106"/>
                  <a:pt x="6697" y="11063"/>
                </a:cubicBezTo>
                <a:cubicBezTo>
                  <a:pt x="6680" y="11025"/>
                  <a:pt x="6711" y="10940"/>
                  <a:pt x="6722" y="10914"/>
                </a:cubicBezTo>
                <a:cubicBezTo>
                  <a:pt x="6745" y="10857"/>
                  <a:pt x="6807" y="10795"/>
                  <a:pt x="6846" y="10740"/>
                </a:cubicBezTo>
                <a:cubicBezTo>
                  <a:pt x="6890" y="10677"/>
                  <a:pt x="6934" y="10611"/>
                  <a:pt x="6970" y="10542"/>
                </a:cubicBezTo>
                <a:cubicBezTo>
                  <a:pt x="6996" y="10492"/>
                  <a:pt x="7009" y="10476"/>
                  <a:pt x="7020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0120" y="4027320"/>
            <a:ext cx="1764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7466" y="11187"/>
                </a:moveTo>
                <a:cubicBezTo>
                  <a:pt x="7466" y="11269"/>
                  <a:pt x="7447" y="11333"/>
                  <a:pt x="7441" y="11410"/>
                </a:cubicBezTo>
                <a:cubicBezTo>
                  <a:pt x="7437" y="11466"/>
                  <a:pt x="7429" y="11474"/>
                  <a:pt x="7417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3240" y="3562200"/>
            <a:ext cx="500040" cy="598680"/>
          </a:xfrm>
          <a:custGeom>
            <a:avLst/>
            <a:gdLst/>
            <a:ahLst/>
            <a:rect l="l" t="t" r="r" b="b"/>
            <a:pathLst>
              <a:path w="1390" h="1663">
                <a:moveTo>
                  <a:pt x="8334" y="9897"/>
                </a:moveTo>
                <a:cubicBezTo>
                  <a:pt x="8327" y="10020"/>
                  <a:pt x="8301" y="10125"/>
                  <a:pt x="8285" y="10244"/>
                </a:cubicBezTo>
                <a:cubicBezTo>
                  <a:pt x="8274" y="10321"/>
                  <a:pt x="8260" y="10389"/>
                  <a:pt x="8260" y="10468"/>
                </a:cubicBezTo>
                <a:cubicBezTo>
                  <a:pt x="8260" y="10509"/>
                  <a:pt x="8260" y="10551"/>
                  <a:pt x="8260" y="10592"/>
                </a:cubicBezTo>
              </a:path>
              <a:path w="1390" h="1663">
                <a:moveTo>
                  <a:pt x="8806" y="9996"/>
                </a:moveTo>
                <a:cubicBezTo>
                  <a:pt x="8745" y="10118"/>
                  <a:pt x="8683" y="10241"/>
                  <a:pt x="8632" y="10368"/>
                </a:cubicBezTo>
                <a:cubicBezTo>
                  <a:pt x="8589" y="10475"/>
                  <a:pt x="8540" y="10579"/>
                  <a:pt x="8508" y="10691"/>
                </a:cubicBezTo>
                <a:cubicBezTo>
                  <a:pt x="8477" y="10799"/>
                  <a:pt x="8449" y="10908"/>
                  <a:pt x="8409" y="11013"/>
                </a:cubicBezTo>
                <a:cubicBezTo>
                  <a:pt x="8377" y="11097"/>
                  <a:pt x="8362" y="11184"/>
                  <a:pt x="8334" y="11261"/>
                </a:cubicBezTo>
                <a:cubicBezTo>
                  <a:pt x="8312" y="11284"/>
                  <a:pt x="8304" y="11289"/>
                  <a:pt x="8310" y="11311"/>
                </a:cubicBezTo>
                <a:cubicBezTo>
                  <a:pt x="8330" y="11291"/>
                  <a:pt x="8375" y="11246"/>
                  <a:pt x="8409" y="11212"/>
                </a:cubicBezTo>
              </a:path>
              <a:path w="1390" h="1663">
                <a:moveTo>
                  <a:pt x="8830" y="10790"/>
                </a:moveTo>
                <a:cubicBezTo>
                  <a:pt x="8823" y="10908"/>
                  <a:pt x="8797" y="10998"/>
                  <a:pt x="8781" y="11112"/>
                </a:cubicBezTo>
                <a:cubicBezTo>
                  <a:pt x="8774" y="11163"/>
                  <a:pt x="8759" y="11355"/>
                  <a:pt x="8806" y="11361"/>
                </a:cubicBezTo>
                <a:cubicBezTo>
                  <a:pt x="8814" y="11361"/>
                  <a:pt x="8822" y="11361"/>
                  <a:pt x="8830" y="11361"/>
                </a:cubicBezTo>
              </a:path>
              <a:path w="1390" h="1663">
                <a:moveTo>
                  <a:pt x="9178" y="10889"/>
                </a:moveTo>
                <a:cubicBezTo>
                  <a:pt x="9154" y="10960"/>
                  <a:pt x="9096" y="11091"/>
                  <a:pt x="9103" y="11162"/>
                </a:cubicBezTo>
                <a:cubicBezTo>
                  <a:pt x="9108" y="11213"/>
                  <a:pt x="9169" y="11299"/>
                  <a:pt x="9203" y="11336"/>
                </a:cubicBezTo>
                <a:cubicBezTo>
                  <a:pt x="9269" y="11407"/>
                  <a:pt x="9356" y="11455"/>
                  <a:pt x="9451" y="11460"/>
                </a:cubicBezTo>
                <a:cubicBezTo>
                  <a:pt x="9526" y="11464"/>
                  <a:pt x="9548" y="11461"/>
                  <a:pt x="9599" y="11410"/>
                </a:cubicBezTo>
                <a:cubicBezTo>
                  <a:pt x="9615" y="11394"/>
                  <a:pt x="9659" y="11335"/>
                  <a:pt x="9649" y="11311"/>
                </a:cubicBezTo>
                <a:cubicBezTo>
                  <a:pt x="9635" y="11279"/>
                  <a:pt x="9616" y="11246"/>
                  <a:pt x="9575" y="11261"/>
                </a:cubicBezTo>
                <a:cubicBezTo>
                  <a:pt x="9511" y="11284"/>
                  <a:pt x="9481" y="11328"/>
                  <a:pt x="9451" y="11385"/>
                </a:cubicBezTo>
                <a:cubicBezTo>
                  <a:pt x="9421" y="11442"/>
                  <a:pt x="9421" y="11498"/>
                  <a:pt x="9401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5120" y="3919680"/>
            <a:ext cx="447840" cy="661680"/>
          </a:xfrm>
          <a:custGeom>
            <a:avLst/>
            <a:gdLst/>
            <a:ahLst/>
            <a:rect l="l" t="t" r="r" b="b"/>
            <a:pathLst>
              <a:path w="1242" h="1837">
                <a:moveTo>
                  <a:pt x="13643" y="11410"/>
                </a:moveTo>
                <a:cubicBezTo>
                  <a:pt x="13643" y="11484"/>
                  <a:pt x="13626" y="11538"/>
                  <a:pt x="13618" y="11609"/>
                </a:cubicBezTo>
                <a:cubicBezTo>
                  <a:pt x="13605" y="11723"/>
                  <a:pt x="13597" y="11842"/>
                  <a:pt x="13593" y="11956"/>
                </a:cubicBezTo>
                <a:cubicBezTo>
                  <a:pt x="13589" y="12084"/>
                  <a:pt x="13583" y="12207"/>
                  <a:pt x="13568" y="12328"/>
                </a:cubicBezTo>
                <a:cubicBezTo>
                  <a:pt x="13564" y="12360"/>
                  <a:pt x="13573" y="12346"/>
                  <a:pt x="13568" y="12378"/>
                </a:cubicBezTo>
                <a:cubicBezTo>
                  <a:pt x="13549" y="12321"/>
                  <a:pt x="13543" y="12275"/>
                  <a:pt x="13543" y="12204"/>
                </a:cubicBezTo>
                <a:cubicBezTo>
                  <a:pt x="13543" y="12043"/>
                  <a:pt x="13555" y="11891"/>
                  <a:pt x="13568" y="11733"/>
                </a:cubicBezTo>
                <a:cubicBezTo>
                  <a:pt x="13579" y="11600"/>
                  <a:pt x="13591" y="11463"/>
                  <a:pt x="13643" y="11336"/>
                </a:cubicBezTo>
                <a:cubicBezTo>
                  <a:pt x="13691" y="11219"/>
                  <a:pt x="13747" y="11139"/>
                  <a:pt x="13816" y="11038"/>
                </a:cubicBezTo>
                <a:cubicBezTo>
                  <a:pt x="13854" y="10982"/>
                  <a:pt x="13898" y="10915"/>
                  <a:pt x="13965" y="10889"/>
                </a:cubicBezTo>
                <a:cubicBezTo>
                  <a:pt x="14042" y="10860"/>
                  <a:pt x="14093" y="10913"/>
                  <a:pt x="14139" y="10964"/>
                </a:cubicBezTo>
                <a:cubicBezTo>
                  <a:pt x="14228" y="11064"/>
                  <a:pt x="14268" y="11176"/>
                  <a:pt x="14337" y="11286"/>
                </a:cubicBezTo>
                <a:cubicBezTo>
                  <a:pt x="14404" y="11393"/>
                  <a:pt x="14445" y="11531"/>
                  <a:pt x="14461" y="11658"/>
                </a:cubicBezTo>
                <a:cubicBezTo>
                  <a:pt x="14474" y="11759"/>
                  <a:pt x="14486" y="11852"/>
                  <a:pt x="14486" y="11956"/>
                </a:cubicBezTo>
                <a:cubicBezTo>
                  <a:pt x="14486" y="11998"/>
                  <a:pt x="14510" y="12180"/>
                  <a:pt x="14461" y="12179"/>
                </a:cubicBezTo>
                <a:cubicBezTo>
                  <a:pt x="14461" y="12171"/>
                  <a:pt x="14461" y="12162"/>
                  <a:pt x="14461" y="12154"/>
                </a:cubicBezTo>
              </a:path>
              <a:path w="1242" h="1837">
                <a:moveTo>
                  <a:pt x="13643" y="12105"/>
                </a:moveTo>
                <a:cubicBezTo>
                  <a:pt x="13726" y="12082"/>
                  <a:pt x="13811" y="12101"/>
                  <a:pt x="13891" y="12080"/>
                </a:cubicBezTo>
                <a:cubicBezTo>
                  <a:pt x="13976" y="12057"/>
                  <a:pt x="14047" y="12055"/>
                  <a:pt x="14139" y="12055"/>
                </a:cubicBezTo>
                <a:cubicBezTo>
                  <a:pt x="14188" y="12055"/>
                  <a:pt x="14205" y="12055"/>
                  <a:pt x="14238" y="12055"/>
                </a:cubicBezTo>
              </a:path>
              <a:path w="1242" h="1837">
                <a:moveTo>
                  <a:pt x="14759" y="12030"/>
                </a:moveTo>
                <a:cubicBezTo>
                  <a:pt x="14767" y="12134"/>
                  <a:pt x="14784" y="12221"/>
                  <a:pt x="14784" y="12328"/>
                </a:cubicBezTo>
                <a:cubicBezTo>
                  <a:pt x="14784" y="12469"/>
                  <a:pt x="14784" y="12841"/>
                  <a:pt x="14784" y="127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18080" y="4160880"/>
            <a:ext cx="152640" cy="81000"/>
          </a:xfrm>
          <a:custGeom>
            <a:avLst/>
            <a:gdLst/>
            <a:ahLst/>
            <a:rect l="l" t="t" r="r" b="b"/>
            <a:pathLst>
              <a:path w="423" h="224">
                <a:moveTo>
                  <a:pt x="15329" y="11559"/>
                </a:moveTo>
                <a:cubicBezTo>
                  <a:pt x="15393" y="11583"/>
                  <a:pt x="15434" y="11584"/>
                  <a:pt x="15503" y="11584"/>
                </a:cubicBezTo>
                <a:cubicBezTo>
                  <a:pt x="15553" y="11584"/>
                  <a:pt x="15602" y="11584"/>
                  <a:pt x="15652" y="11584"/>
                </a:cubicBezTo>
              </a:path>
              <a:path w="423" h="224">
                <a:moveTo>
                  <a:pt x="15404" y="11782"/>
                </a:moveTo>
                <a:cubicBezTo>
                  <a:pt x="15480" y="11777"/>
                  <a:pt x="15555" y="11777"/>
                  <a:pt x="15627" y="11757"/>
                </a:cubicBezTo>
                <a:cubicBezTo>
                  <a:pt x="15680" y="11742"/>
                  <a:pt x="15696" y="11733"/>
                  <a:pt x="15751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5200" y="3911760"/>
            <a:ext cx="1652760" cy="446040"/>
          </a:xfrm>
          <a:custGeom>
            <a:avLst/>
            <a:gdLst/>
            <a:ahLst/>
            <a:rect l="l" t="t" r="r" b="b"/>
            <a:pathLst>
              <a:path w="4590" h="1242">
                <a:moveTo>
                  <a:pt x="16396" y="10914"/>
                </a:moveTo>
                <a:cubicBezTo>
                  <a:pt x="16435" y="10875"/>
                  <a:pt x="16431" y="10868"/>
                  <a:pt x="16520" y="10864"/>
                </a:cubicBezTo>
                <a:cubicBezTo>
                  <a:pt x="16612" y="10859"/>
                  <a:pt x="16663" y="10874"/>
                  <a:pt x="16743" y="10914"/>
                </a:cubicBezTo>
                <a:cubicBezTo>
                  <a:pt x="16790" y="10937"/>
                  <a:pt x="16862" y="11001"/>
                  <a:pt x="16842" y="11063"/>
                </a:cubicBezTo>
                <a:cubicBezTo>
                  <a:pt x="16822" y="11125"/>
                  <a:pt x="16762" y="11173"/>
                  <a:pt x="16718" y="11212"/>
                </a:cubicBezTo>
                <a:cubicBezTo>
                  <a:pt x="16659" y="11264"/>
                  <a:pt x="16607" y="11314"/>
                  <a:pt x="16545" y="11361"/>
                </a:cubicBezTo>
                <a:cubicBezTo>
                  <a:pt x="16512" y="11386"/>
                  <a:pt x="16511" y="11407"/>
                  <a:pt x="16495" y="11435"/>
                </a:cubicBezTo>
                <a:cubicBezTo>
                  <a:pt x="16591" y="11435"/>
                  <a:pt x="16633" y="11431"/>
                  <a:pt x="16718" y="11485"/>
                </a:cubicBezTo>
                <a:cubicBezTo>
                  <a:pt x="16777" y="11523"/>
                  <a:pt x="16809" y="11546"/>
                  <a:pt x="16842" y="11609"/>
                </a:cubicBezTo>
                <a:cubicBezTo>
                  <a:pt x="16878" y="11677"/>
                  <a:pt x="16862" y="11761"/>
                  <a:pt x="16842" y="11832"/>
                </a:cubicBezTo>
                <a:cubicBezTo>
                  <a:pt x="16819" y="11915"/>
                  <a:pt x="16727" y="11951"/>
                  <a:pt x="16669" y="12005"/>
                </a:cubicBezTo>
                <a:cubicBezTo>
                  <a:pt x="16599" y="12071"/>
                  <a:pt x="16544" y="12100"/>
                  <a:pt x="16446" y="12105"/>
                </a:cubicBezTo>
                <a:cubicBezTo>
                  <a:pt x="16359" y="12110"/>
                  <a:pt x="16332" y="12080"/>
                  <a:pt x="16321" y="12005"/>
                </a:cubicBezTo>
              </a:path>
              <a:path w="4590" h="1242">
                <a:moveTo>
                  <a:pt x="17140" y="11013"/>
                </a:moveTo>
                <a:cubicBezTo>
                  <a:pt x="17114" y="11130"/>
                  <a:pt x="17099" y="11248"/>
                  <a:pt x="17066" y="11361"/>
                </a:cubicBezTo>
                <a:cubicBezTo>
                  <a:pt x="17029" y="11486"/>
                  <a:pt x="17036" y="11630"/>
                  <a:pt x="17066" y="11757"/>
                </a:cubicBezTo>
                <a:cubicBezTo>
                  <a:pt x="17076" y="11800"/>
                  <a:pt x="17124" y="11909"/>
                  <a:pt x="17165" y="11931"/>
                </a:cubicBezTo>
                <a:cubicBezTo>
                  <a:pt x="17193" y="11947"/>
                  <a:pt x="17248" y="11929"/>
                  <a:pt x="17264" y="11906"/>
                </a:cubicBezTo>
                <a:cubicBezTo>
                  <a:pt x="17289" y="11857"/>
                  <a:pt x="17298" y="11840"/>
                  <a:pt x="17314" y="11807"/>
                </a:cubicBezTo>
              </a:path>
              <a:path w="4590" h="1242">
                <a:moveTo>
                  <a:pt x="17587" y="11137"/>
                </a:moveTo>
                <a:cubicBezTo>
                  <a:pt x="17587" y="11275"/>
                  <a:pt x="17552" y="11454"/>
                  <a:pt x="17562" y="11584"/>
                </a:cubicBezTo>
                <a:cubicBezTo>
                  <a:pt x="17569" y="11675"/>
                  <a:pt x="17587" y="11761"/>
                  <a:pt x="17587" y="11857"/>
                </a:cubicBezTo>
                <a:cubicBezTo>
                  <a:pt x="17587" y="11900"/>
                  <a:pt x="17581" y="11977"/>
                  <a:pt x="17562" y="11881"/>
                </a:cubicBezTo>
              </a:path>
              <a:path w="4590" h="1242">
                <a:moveTo>
                  <a:pt x="17735" y="10864"/>
                </a:moveTo>
                <a:cubicBezTo>
                  <a:pt x="17857" y="10986"/>
                  <a:pt x="17936" y="11092"/>
                  <a:pt x="18033" y="11237"/>
                </a:cubicBezTo>
                <a:cubicBezTo>
                  <a:pt x="18106" y="11347"/>
                  <a:pt x="18166" y="11434"/>
                  <a:pt x="18207" y="11559"/>
                </a:cubicBezTo>
                <a:cubicBezTo>
                  <a:pt x="18237" y="11650"/>
                  <a:pt x="18237" y="11746"/>
                  <a:pt x="18182" y="11832"/>
                </a:cubicBezTo>
                <a:cubicBezTo>
                  <a:pt x="18128" y="11916"/>
                  <a:pt x="18022" y="11959"/>
                  <a:pt x="17959" y="12030"/>
                </a:cubicBezTo>
                <a:cubicBezTo>
                  <a:pt x="17905" y="12090"/>
                  <a:pt x="17904" y="12082"/>
                  <a:pt x="17835" y="12105"/>
                </a:cubicBezTo>
                <a:cubicBezTo>
                  <a:pt x="17843" y="12105"/>
                  <a:pt x="17851" y="12105"/>
                  <a:pt x="17859" y="12105"/>
                </a:cubicBezTo>
              </a:path>
              <a:path w="4590" h="1242">
                <a:moveTo>
                  <a:pt x="18604" y="11311"/>
                </a:moveTo>
                <a:cubicBezTo>
                  <a:pt x="18741" y="11311"/>
                  <a:pt x="18871" y="11314"/>
                  <a:pt x="19000" y="11286"/>
                </a:cubicBezTo>
                <a:cubicBezTo>
                  <a:pt x="19022" y="11281"/>
                  <a:pt x="19052" y="11286"/>
                  <a:pt x="19075" y="11286"/>
                </a:cubicBezTo>
              </a:path>
              <a:path w="4590" h="1242">
                <a:moveTo>
                  <a:pt x="19323" y="10939"/>
                </a:moveTo>
                <a:cubicBezTo>
                  <a:pt x="19368" y="10919"/>
                  <a:pt x="19484" y="10843"/>
                  <a:pt x="19546" y="10864"/>
                </a:cubicBezTo>
                <a:cubicBezTo>
                  <a:pt x="19596" y="10881"/>
                  <a:pt x="19688" y="10920"/>
                  <a:pt x="19720" y="10964"/>
                </a:cubicBezTo>
                <a:cubicBezTo>
                  <a:pt x="19760" y="11019"/>
                  <a:pt x="19783" y="11094"/>
                  <a:pt x="19769" y="11162"/>
                </a:cubicBezTo>
                <a:cubicBezTo>
                  <a:pt x="19749" y="11260"/>
                  <a:pt x="19669" y="11352"/>
                  <a:pt x="19621" y="11435"/>
                </a:cubicBezTo>
                <a:cubicBezTo>
                  <a:pt x="19573" y="11517"/>
                  <a:pt x="19497" y="11578"/>
                  <a:pt x="19447" y="11658"/>
                </a:cubicBezTo>
                <a:cubicBezTo>
                  <a:pt x="19422" y="11698"/>
                  <a:pt x="19406" y="11738"/>
                  <a:pt x="19397" y="11782"/>
                </a:cubicBezTo>
                <a:cubicBezTo>
                  <a:pt x="19439" y="11814"/>
                  <a:pt x="19465" y="11807"/>
                  <a:pt x="19521" y="11807"/>
                </a:cubicBezTo>
                <a:cubicBezTo>
                  <a:pt x="19596" y="11807"/>
                  <a:pt x="19651" y="11820"/>
                  <a:pt x="19720" y="11832"/>
                </a:cubicBezTo>
                <a:cubicBezTo>
                  <a:pt x="19770" y="11840"/>
                  <a:pt x="19824" y="11831"/>
                  <a:pt x="19869" y="11857"/>
                </a:cubicBezTo>
                <a:cubicBezTo>
                  <a:pt x="19891" y="11879"/>
                  <a:pt x="19899" y="11884"/>
                  <a:pt x="19893" y="11906"/>
                </a:cubicBezTo>
              </a:path>
              <a:path w="4590" h="1242">
                <a:moveTo>
                  <a:pt x="20340" y="11485"/>
                </a:moveTo>
                <a:cubicBezTo>
                  <a:pt x="20406" y="11485"/>
                  <a:pt x="20472" y="11485"/>
                  <a:pt x="20538" y="11485"/>
                </a:cubicBezTo>
              </a:path>
              <a:path w="4590" h="1242">
                <a:moveTo>
                  <a:pt x="20464" y="11733"/>
                </a:moveTo>
                <a:cubicBezTo>
                  <a:pt x="20571" y="11733"/>
                  <a:pt x="20595" y="11729"/>
                  <a:pt x="20687" y="11683"/>
                </a:cubicBezTo>
                <a:cubicBezTo>
                  <a:pt x="20768" y="11642"/>
                  <a:pt x="20834" y="11607"/>
                  <a:pt x="20910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15160" y="3902040"/>
            <a:ext cx="63720" cy="420840"/>
          </a:xfrm>
          <a:custGeom>
            <a:avLst/>
            <a:gdLst/>
            <a:ahLst/>
            <a:rect l="l" t="t" r="r" b="b"/>
            <a:pathLst>
              <a:path w="175" h="1166">
                <a:moveTo>
                  <a:pt x="21605" y="10840"/>
                </a:moveTo>
                <a:cubicBezTo>
                  <a:pt x="21583" y="10985"/>
                  <a:pt x="21580" y="11114"/>
                  <a:pt x="21580" y="11261"/>
                </a:cubicBezTo>
                <a:cubicBezTo>
                  <a:pt x="21580" y="11422"/>
                  <a:pt x="21581" y="11580"/>
                  <a:pt x="21555" y="11733"/>
                </a:cubicBezTo>
                <a:cubicBezTo>
                  <a:pt x="21545" y="11795"/>
                  <a:pt x="21553" y="11847"/>
                  <a:pt x="21530" y="11906"/>
                </a:cubicBezTo>
                <a:cubicBezTo>
                  <a:pt x="21526" y="11917"/>
                  <a:pt x="21473" y="12027"/>
                  <a:pt x="21456" y="12005"/>
                </a:cubicBezTo>
                <a:cubicBezTo>
                  <a:pt x="21456" y="11977"/>
                  <a:pt x="21453" y="11967"/>
                  <a:pt x="21431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2920" y="4697280"/>
            <a:ext cx="731880" cy="704880"/>
          </a:xfrm>
          <a:custGeom>
            <a:avLst/>
            <a:gdLst/>
            <a:ahLst/>
            <a:rect l="l" t="t" r="r" b="b"/>
            <a:pathLst>
              <a:path w="2035" h="1961">
                <a:moveTo>
                  <a:pt x="13568" y="13866"/>
                </a:moveTo>
                <a:cubicBezTo>
                  <a:pt x="13561" y="14029"/>
                  <a:pt x="13534" y="14177"/>
                  <a:pt x="13519" y="14337"/>
                </a:cubicBezTo>
                <a:cubicBezTo>
                  <a:pt x="13512" y="14415"/>
                  <a:pt x="13512" y="14509"/>
                  <a:pt x="13494" y="14585"/>
                </a:cubicBezTo>
                <a:cubicBezTo>
                  <a:pt x="13471" y="14608"/>
                  <a:pt x="13463" y="14612"/>
                  <a:pt x="13469" y="14635"/>
                </a:cubicBezTo>
                <a:cubicBezTo>
                  <a:pt x="13438" y="14573"/>
                  <a:pt x="13435" y="14534"/>
                  <a:pt x="13419" y="14461"/>
                </a:cubicBezTo>
                <a:cubicBezTo>
                  <a:pt x="13393" y="14344"/>
                  <a:pt x="13395" y="14236"/>
                  <a:pt x="13395" y="14114"/>
                </a:cubicBezTo>
                <a:cubicBezTo>
                  <a:pt x="13395" y="13970"/>
                  <a:pt x="13408" y="13833"/>
                  <a:pt x="13419" y="13692"/>
                </a:cubicBezTo>
                <a:cubicBezTo>
                  <a:pt x="13430" y="13558"/>
                  <a:pt x="13447" y="13366"/>
                  <a:pt x="13519" y="13246"/>
                </a:cubicBezTo>
                <a:cubicBezTo>
                  <a:pt x="13559" y="13180"/>
                  <a:pt x="13598" y="13110"/>
                  <a:pt x="13667" y="13072"/>
                </a:cubicBezTo>
                <a:cubicBezTo>
                  <a:pt x="13744" y="13029"/>
                  <a:pt x="13793" y="13063"/>
                  <a:pt x="13866" y="13122"/>
                </a:cubicBezTo>
                <a:cubicBezTo>
                  <a:pt x="13947" y="13187"/>
                  <a:pt x="13998" y="13277"/>
                  <a:pt x="14039" y="13370"/>
                </a:cubicBezTo>
                <a:cubicBezTo>
                  <a:pt x="14086" y="13476"/>
                  <a:pt x="14110" y="13604"/>
                  <a:pt x="14139" y="13717"/>
                </a:cubicBezTo>
                <a:cubicBezTo>
                  <a:pt x="14168" y="13831"/>
                  <a:pt x="14202" y="13949"/>
                  <a:pt x="14213" y="14064"/>
                </a:cubicBezTo>
                <a:cubicBezTo>
                  <a:pt x="14226" y="14201"/>
                  <a:pt x="14205" y="14333"/>
                  <a:pt x="14188" y="14461"/>
                </a:cubicBezTo>
                <a:cubicBezTo>
                  <a:pt x="14188" y="14486"/>
                  <a:pt x="14188" y="14511"/>
                  <a:pt x="14188" y="14536"/>
                </a:cubicBezTo>
              </a:path>
              <a:path w="2035" h="1961">
                <a:moveTo>
                  <a:pt x="13667" y="14188"/>
                </a:moveTo>
                <a:cubicBezTo>
                  <a:pt x="13725" y="14163"/>
                  <a:pt x="13752" y="14163"/>
                  <a:pt x="13816" y="14163"/>
                </a:cubicBezTo>
                <a:cubicBezTo>
                  <a:pt x="13905" y="14163"/>
                  <a:pt x="13941" y="14171"/>
                  <a:pt x="14039" y="14139"/>
                </a:cubicBezTo>
              </a:path>
              <a:path w="2035" h="1961">
                <a:moveTo>
                  <a:pt x="14461" y="14362"/>
                </a:moveTo>
                <a:cubicBezTo>
                  <a:pt x="14461" y="14326"/>
                  <a:pt x="14468" y="14290"/>
                  <a:pt x="14486" y="14263"/>
                </a:cubicBezTo>
                <a:cubicBezTo>
                  <a:pt x="14504" y="14237"/>
                  <a:pt x="14548" y="14192"/>
                  <a:pt x="14585" y="14213"/>
                </a:cubicBezTo>
                <a:cubicBezTo>
                  <a:pt x="14625" y="14235"/>
                  <a:pt x="14650" y="14296"/>
                  <a:pt x="14660" y="14337"/>
                </a:cubicBezTo>
                <a:cubicBezTo>
                  <a:pt x="14675" y="14398"/>
                  <a:pt x="14684" y="14446"/>
                  <a:pt x="14684" y="14511"/>
                </a:cubicBezTo>
                <a:cubicBezTo>
                  <a:pt x="14684" y="14610"/>
                  <a:pt x="14686" y="14692"/>
                  <a:pt x="14660" y="14784"/>
                </a:cubicBezTo>
                <a:cubicBezTo>
                  <a:pt x="14645" y="14837"/>
                  <a:pt x="14619" y="14949"/>
                  <a:pt x="14560" y="14982"/>
                </a:cubicBezTo>
                <a:cubicBezTo>
                  <a:pt x="14508" y="15012"/>
                  <a:pt x="14510" y="14994"/>
                  <a:pt x="14486" y="14982"/>
                </a:cubicBezTo>
                <a:cubicBezTo>
                  <a:pt x="14461" y="14969"/>
                  <a:pt x="14439" y="14951"/>
                  <a:pt x="14436" y="14908"/>
                </a:cubicBezTo>
                <a:cubicBezTo>
                  <a:pt x="14432" y="14848"/>
                  <a:pt x="14471" y="14810"/>
                  <a:pt x="14486" y="14759"/>
                </a:cubicBezTo>
                <a:cubicBezTo>
                  <a:pt x="14495" y="14730"/>
                  <a:pt x="14520" y="14713"/>
                  <a:pt x="14560" y="14709"/>
                </a:cubicBezTo>
                <a:cubicBezTo>
                  <a:pt x="14608" y="14704"/>
                  <a:pt x="14646" y="14730"/>
                  <a:pt x="14684" y="14759"/>
                </a:cubicBezTo>
                <a:cubicBezTo>
                  <a:pt x="14732" y="14795"/>
                  <a:pt x="14731" y="14867"/>
                  <a:pt x="14759" y="14908"/>
                </a:cubicBezTo>
                <a:cubicBezTo>
                  <a:pt x="14796" y="14963"/>
                  <a:pt x="14827" y="14913"/>
                  <a:pt x="14858" y="14883"/>
                </a:cubicBezTo>
              </a:path>
              <a:path w="2035" h="1961">
                <a:moveTo>
                  <a:pt x="15081" y="13791"/>
                </a:moveTo>
                <a:cubicBezTo>
                  <a:pt x="15173" y="13791"/>
                  <a:pt x="15250" y="13792"/>
                  <a:pt x="15329" y="13816"/>
                </a:cubicBezTo>
                <a:cubicBezTo>
                  <a:pt x="15354" y="13816"/>
                  <a:pt x="15362" y="13816"/>
                  <a:pt x="15379" y="13816"/>
                </a:cubicBezTo>
              </a:path>
              <a:path w="2035" h="1961">
                <a:moveTo>
                  <a:pt x="15156" y="13990"/>
                </a:moveTo>
                <a:cubicBezTo>
                  <a:pt x="15248" y="13990"/>
                  <a:pt x="15326" y="13991"/>
                  <a:pt x="15404" y="13965"/>
                </a:cubicBezTo>
                <a:cubicBezTo>
                  <a:pt x="15412" y="13965"/>
                  <a:pt x="15421" y="13965"/>
                  <a:pt x="15429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32640" y="4599000"/>
            <a:ext cx="1804680" cy="492120"/>
          </a:xfrm>
          <a:custGeom>
            <a:avLst/>
            <a:gdLst/>
            <a:ahLst/>
            <a:rect l="l" t="t" r="r" b="b"/>
            <a:pathLst>
              <a:path w="5011" h="1366">
                <a:moveTo>
                  <a:pt x="15925" y="13072"/>
                </a:moveTo>
                <a:cubicBezTo>
                  <a:pt x="15929" y="13041"/>
                  <a:pt x="15929" y="12993"/>
                  <a:pt x="15949" y="12973"/>
                </a:cubicBezTo>
                <a:cubicBezTo>
                  <a:pt x="15971" y="12951"/>
                  <a:pt x="16046" y="12940"/>
                  <a:pt x="16073" y="12923"/>
                </a:cubicBezTo>
                <a:cubicBezTo>
                  <a:pt x="16113" y="12899"/>
                  <a:pt x="16195" y="12878"/>
                  <a:pt x="16247" y="12898"/>
                </a:cubicBezTo>
                <a:cubicBezTo>
                  <a:pt x="16282" y="12911"/>
                  <a:pt x="16323" y="13000"/>
                  <a:pt x="16321" y="13022"/>
                </a:cubicBezTo>
                <a:cubicBezTo>
                  <a:pt x="16312" y="13134"/>
                  <a:pt x="16279" y="13183"/>
                  <a:pt x="16222" y="13271"/>
                </a:cubicBezTo>
                <a:cubicBezTo>
                  <a:pt x="16176" y="13342"/>
                  <a:pt x="16118" y="13401"/>
                  <a:pt x="16073" y="13469"/>
                </a:cubicBezTo>
                <a:cubicBezTo>
                  <a:pt x="16053" y="13510"/>
                  <a:pt x="16056" y="13527"/>
                  <a:pt x="16024" y="13519"/>
                </a:cubicBezTo>
                <a:cubicBezTo>
                  <a:pt x="16052" y="13491"/>
                  <a:pt x="16045" y="13497"/>
                  <a:pt x="16073" y="13469"/>
                </a:cubicBezTo>
                <a:cubicBezTo>
                  <a:pt x="16123" y="13419"/>
                  <a:pt x="16143" y="13422"/>
                  <a:pt x="16197" y="13395"/>
                </a:cubicBezTo>
                <a:cubicBezTo>
                  <a:pt x="16232" y="13377"/>
                  <a:pt x="16250" y="13359"/>
                  <a:pt x="16297" y="13370"/>
                </a:cubicBezTo>
                <a:cubicBezTo>
                  <a:pt x="16338" y="13379"/>
                  <a:pt x="16398" y="13434"/>
                  <a:pt x="16421" y="13469"/>
                </a:cubicBezTo>
                <a:cubicBezTo>
                  <a:pt x="16468" y="13542"/>
                  <a:pt x="16491" y="13603"/>
                  <a:pt x="16495" y="13692"/>
                </a:cubicBezTo>
                <a:cubicBezTo>
                  <a:pt x="16498" y="13745"/>
                  <a:pt x="16474" y="13870"/>
                  <a:pt x="16446" y="13915"/>
                </a:cubicBezTo>
                <a:cubicBezTo>
                  <a:pt x="16410" y="13974"/>
                  <a:pt x="16328" y="14056"/>
                  <a:pt x="16272" y="14089"/>
                </a:cubicBezTo>
                <a:cubicBezTo>
                  <a:pt x="16230" y="14114"/>
                  <a:pt x="16186" y="14168"/>
                  <a:pt x="16148" y="14114"/>
                </a:cubicBezTo>
                <a:cubicBezTo>
                  <a:pt x="16148" y="14106"/>
                  <a:pt x="16148" y="14097"/>
                  <a:pt x="16148" y="14089"/>
                </a:cubicBezTo>
              </a:path>
              <a:path w="5011" h="1366">
                <a:moveTo>
                  <a:pt x="16867" y="12824"/>
                </a:moveTo>
                <a:cubicBezTo>
                  <a:pt x="16860" y="13002"/>
                  <a:pt x="16816" y="13148"/>
                  <a:pt x="16793" y="13320"/>
                </a:cubicBezTo>
                <a:cubicBezTo>
                  <a:pt x="16779" y="13428"/>
                  <a:pt x="16768" y="13533"/>
                  <a:pt x="16768" y="13643"/>
                </a:cubicBezTo>
                <a:cubicBezTo>
                  <a:pt x="16768" y="13732"/>
                  <a:pt x="16788" y="13805"/>
                  <a:pt x="16793" y="13891"/>
                </a:cubicBezTo>
                <a:cubicBezTo>
                  <a:pt x="16796" y="13944"/>
                  <a:pt x="16809" y="13983"/>
                  <a:pt x="16867" y="13990"/>
                </a:cubicBezTo>
                <a:cubicBezTo>
                  <a:pt x="16908" y="13995"/>
                  <a:pt x="16910" y="13989"/>
                  <a:pt x="16942" y="13965"/>
                </a:cubicBezTo>
              </a:path>
              <a:path w="5011" h="1366">
                <a:moveTo>
                  <a:pt x="17066" y="13246"/>
                </a:moveTo>
                <a:cubicBezTo>
                  <a:pt x="17070" y="13173"/>
                  <a:pt x="17055" y="13085"/>
                  <a:pt x="17140" y="13047"/>
                </a:cubicBezTo>
                <a:cubicBezTo>
                  <a:pt x="17189" y="13025"/>
                  <a:pt x="17230" y="13076"/>
                  <a:pt x="17264" y="13097"/>
                </a:cubicBezTo>
                <a:cubicBezTo>
                  <a:pt x="17356" y="13153"/>
                  <a:pt x="17341" y="13199"/>
                  <a:pt x="17363" y="13295"/>
                </a:cubicBezTo>
                <a:cubicBezTo>
                  <a:pt x="17383" y="13383"/>
                  <a:pt x="17388" y="13451"/>
                  <a:pt x="17388" y="13543"/>
                </a:cubicBezTo>
                <a:cubicBezTo>
                  <a:pt x="17388" y="13634"/>
                  <a:pt x="17353" y="13708"/>
                  <a:pt x="17314" y="13791"/>
                </a:cubicBezTo>
                <a:cubicBezTo>
                  <a:pt x="17293" y="13836"/>
                  <a:pt x="17240" y="13918"/>
                  <a:pt x="17190" y="13940"/>
                </a:cubicBezTo>
                <a:cubicBezTo>
                  <a:pt x="17165" y="13940"/>
                  <a:pt x="17157" y="13940"/>
                  <a:pt x="17140" y="13940"/>
                </a:cubicBezTo>
                <a:cubicBezTo>
                  <a:pt x="17140" y="13863"/>
                  <a:pt x="17126" y="13785"/>
                  <a:pt x="17165" y="13717"/>
                </a:cubicBezTo>
                <a:cubicBezTo>
                  <a:pt x="17190" y="13673"/>
                  <a:pt x="17189" y="13625"/>
                  <a:pt x="17239" y="13593"/>
                </a:cubicBezTo>
                <a:cubicBezTo>
                  <a:pt x="17289" y="13561"/>
                  <a:pt x="17321" y="13556"/>
                  <a:pt x="17363" y="13593"/>
                </a:cubicBezTo>
                <a:cubicBezTo>
                  <a:pt x="17415" y="13639"/>
                  <a:pt x="17434" y="13673"/>
                  <a:pt x="17438" y="13742"/>
                </a:cubicBezTo>
                <a:cubicBezTo>
                  <a:pt x="17443" y="13824"/>
                  <a:pt x="17415" y="13924"/>
                  <a:pt x="17462" y="13990"/>
                </a:cubicBezTo>
              </a:path>
              <a:path w="5011" h="1366">
                <a:moveTo>
                  <a:pt x="17562" y="12799"/>
                </a:moveTo>
                <a:cubicBezTo>
                  <a:pt x="17655" y="12867"/>
                  <a:pt x="17670" y="12915"/>
                  <a:pt x="17735" y="12998"/>
                </a:cubicBezTo>
                <a:cubicBezTo>
                  <a:pt x="17802" y="13083"/>
                  <a:pt x="17824" y="13166"/>
                  <a:pt x="17859" y="13271"/>
                </a:cubicBezTo>
                <a:cubicBezTo>
                  <a:pt x="17889" y="13360"/>
                  <a:pt x="17899" y="13473"/>
                  <a:pt x="17884" y="13568"/>
                </a:cubicBezTo>
                <a:cubicBezTo>
                  <a:pt x="17863" y="13700"/>
                  <a:pt x="17812" y="13798"/>
                  <a:pt x="17760" y="13915"/>
                </a:cubicBezTo>
                <a:cubicBezTo>
                  <a:pt x="17727" y="13989"/>
                  <a:pt x="17691" y="14053"/>
                  <a:pt x="17636" y="14114"/>
                </a:cubicBezTo>
                <a:cubicBezTo>
                  <a:pt x="17579" y="14178"/>
                  <a:pt x="17670" y="14093"/>
                  <a:pt x="17686" y="14064"/>
                </a:cubicBezTo>
              </a:path>
              <a:path w="5011" h="1366">
                <a:moveTo>
                  <a:pt x="18083" y="13543"/>
                </a:moveTo>
                <a:cubicBezTo>
                  <a:pt x="18190" y="13543"/>
                  <a:pt x="18298" y="13543"/>
                  <a:pt x="18405" y="13543"/>
                </a:cubicBezTo>
              </a:path>
              <a:path w="5011" h="1366">
                <a:moveTo>
                  <a:pt x="18728" y="12923"/>
                </a:moveTo>
                <a:cubicBezTo>
                  <a:pt x="18808" y="12872"/>
                  <a:pt x="18852" y="12834"/>
                  <a:pt x="18926" y="12849"/>
                </a:cubicBezTo>
                <a:cubicBezTo>
                  <a:pt x="18953" y="12854"/>
                  <a:pt x="19015" y="12889"/>
                  <a:pt x="19025" y="12923"/>
                </a:cubicBezTo>
                <a:cubicBezTo>
                  <a:pt x="19048" y="13004"/>
                  <a:pt x="19044" y="13224"/>
                  <a:pt x="19000" y="13295"/>
                </a:cubicBezTo>
                <a:cubicBezTo>
                  <a:pt x="18953" y="13372"/>
                  <a:pt x="18909" y="13470"/>
                  <a:pt x="18852" y="13543"/>
                </a:cubicBezTo>
                <a:cubicBezTo>
                  <a:pt x="18801" y="13608"/>
                  <a:pt x="18750" y="13673"/>
                  <a:pt x="18703" y="13742"/>
                </a:cubicBezTo>
                <a:cubicBezTo>
                  <a:pt x="18675" y="13783"/>
                  <a:pt x="18673" y="13826"/>
                  <a:pt x="18703" y="13841"/>
                </a:cubicBezTo>
                <a:cubicBezTo>
                  <a:pt x="18710" y="13844"/>
                  <a:pt x="18787" y="13821"/>
                  <a:pt x="18802" y="13816"/>
                </a:cubicBezTo>
                <a:cubicBezTo>
                  <a:pt x="18876" y="13789"/>
                  <a:pt x="18869" y="13767"/>
                  <a:pt x="18951" y="13767"/>
                </a:cubicBezTo>
                <a:cubicBezTo>
                  <a:pt x="18996" y="13767"/>
                  <a:pt x="19010" y="13787"/>
                  <a:pt x="19050" y="13791"/>
                </a:cubicBezTo>
                <a:cubicBezTo>
                  <a:pt x="19070" y="13793"/>
                  <a:pt x="19131" y="13806"/>
                  <a:pt x="19149" y="13816"/>
                </a:cubicBezTo>
                <a:cubicBezTo>
                  <a:pt x="19197" y="13843"/>
                  <a:pt x="19175" y="13852"/>
                  <a:pt x="19224" y="13816"/>
                </a:cubicBezTo>
              </a:path>
              <a:path w="5011" h="1366">
                <a:moveTo>
                  <a:pt x="19546" y="13221"/>
                </a:moveTo>
                <a:cubicBezTo>
                  <a:pt x="19652" y="13221"/>
                  <a:pt x="19848" y="13259"/>
                  <a:pt x="19943" y="13196"/>
                </a:cubicBezTo>
                <a:cubicBezTo>
                  <a:pt x="19951" y="13188"/>
                  <a:pt x="19960" y="13179"/>
                  <a:pt x="19968" y="13171"/>
                </a:cubicBezTo>
              </a:path>
              <a:path w="5011" h="1366">
                <a:moveTo>
                  <a:pt x="19645" y="13469"/>
                </a:moveTo>
                <a:cubicBezTo>
                  <a:pt x="19725" y="13469"/>
                  <a:pt x="19796" y="13477"/>
                  <a:pt x="19869" y="13444"/>
                </a:cubicBezTo>
                <a:cubicBezTo>
                  <a:pt x="19918" y="13419"/>
                  <a:pt x="19934" y="13411"/>
                  <a:pt x="19943" y="13370"/>
                </a:cubicBezTo>
              </a:path>
              <a:path w="5011" h="1366">
                <a:moveTo>
                  <a:pt x="20513" y="12824"/>
                </a:moveTo>
                <a:cubicBezTo>
                  <a:pt x="20513" y="12900"/>
                  <a:pt x="20480" y="12928"/>
                  <a:pt x="20464" y="12998"/>
                </a:cubicBezTo>
                <a:cubicBezTo>
                  <a:pt x="20452" y="13054"/>
                  <a:pt x="20418" y="13115"/>
                  <a:pt x="20414" y="13171"/>
                </a:cubicBezTo>
                <a:cubicBezTo>
                  <a:pt x="20409" y="13248"/>
                  <a:pt x="20420" y="13306"/>
                  <a:pt x="20439" y="13345"/>
                </a:cubicBezTo>
                <a:cubicBezTo>
                  <a:pt x="20456" y="13380"/>
                  <a:pt x="20465" y="13370"/>
                  <a:pt x="20513" y="13370"/>
                </a:cubicBezTo>
                <a:cubicBezTo>
                  <a:pt x="20621" y="13370"/>
                  <a:pt x="20626" y="13349"/>
                  <a:pt x="20737" y="13320"/>
                </a:cubicBezTo>
                <a:cubicBezTo>
                  <a:pt x="20796" y="13304"/>
                  <a:pt x="20836" y="13294"/>
                  <a:pt x="20886" y="13246"/>
                </a:cubicBezTo>
                <a:cubicBezTo>
                  <a:pt x="20902" y="13229"/>
                  <a:pt x="20919" y="13213"/>
                  <a:pt x="20935" y="13196"/>
                </a:cubicBezTo>
              </a:path>
              <a:path w="5011" h="1366">
                <a:moveTo>
                  <a:pt x="20811" y="12774"/>
                </a:moveTo>
                <a:cubicBezTo>
                  <a:pt x="20789" y="12855"/>
                  <a:pt x="20786" y="12914"/>
                  <a:pt x="20786" y="12998"/>
                </a:cubicBezTo>
                <a:cubicBezTo>
                  <a:pt x="20786" y="13118"/>
                  <a:pt x="20766" y="13227"/>
                  <a:pt x="20762" y="13345"/>
                </a:cubicBezTo>
                <a:cubicBezTo>
                  <a:pt x="20758" y="13450"/>
                  <a:pt x="20766" y="13537"/>
                  <a:pt x="20762" y="13643"/>
                </a:cubicBezTo>
                <a:cubicBezTo>
                  <a:pt x="20758" y="13757"/>
                  <a:pt x="20714" y="13857"/>
                  <a:pt x="20687" y="13965"/>
                </a:cubicBezTo>
                <a:cubicBezTo>
                  <a:pt x="20675" y="14011"/>
                  <a:pt x="20674" y="14051"/>
                  <a:pt x="20638" y="14064"/>
                </a:cubicBezTo>
                <a:cubicBezTo>
                  <a:pt x="20654" y="14014"/>
                  <a:pt x="20645" y="14053"/>
                  <a:pt x="20638" y="13990"/>
                </a:cubicBezTo>
                <a:cubicBezTo>
                  <a:pt x="20638" y="13965"/>
                  <a:pt x="20638" y="13957"/>
                  <a:pt x="20662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11840" y="5214960"/>
            <a:ext cx="2392200" cy="911160"/>
          </a:xfrm>
          <a:custGeom>
            <a:avLst/>
            <a:gdLst/>
            <a:ahLst/>
            <a:rect l="l" t="t" r="r" b="b"/>
            <a:pathLst>
              <a:path w="6648" h="2531">
                <a:moveTo>
                  <a:pt x="13816" y="16396"/>
                </a:moveTo>
                <a:cubicBezTo>
                  <a:pt x="13816" y="16469"/>
                  <a:pt x="13837" y="16585"/>
                  <a:pt x="13791" y="16644"/>
                </a:cubicBezTo>
                <a:cubicBezTo>
                  <a:pt x="13791" y="16669"/>
                  <a:pt x="13791" y="16677"/>
                  <a:pt x="13767" y="16669"/>
                </a:cubicBezTo>
                <a:cubicBezTo>
                  <a:pt x="13747" y="16635"/>
                  <a:pt x="13742" y="16601"/>
                  <a:pt x="13717" y="16545"/>
                </a:cubicBezTo>
                <a:cubicBezTo>
                  <a:pt x="13678" y="16458"/>
                  <a:pt x="13687" y="16364"/>
                  <a:pt x="13667" y="16272"/>
                </a:cubicBezTo>
                <a:cubicBezTo>
                  <a:pt x="13634" y="16117"/>
                  <a:pt x="13655" y="15981"/>
                  <a:pt x="13667" y="15825"/>
                </a:cubicBezTo>
                <a:cubicBezTo>
                  <a:pt x="13675" y="15718"/>
                  <a:pt x="13684" y="15574"/>
                  <a:pt x="13742" y="15478"/>
                </a:cubicBezTo>
                <a:cubicBezTo>
                  <a:pt x="13785" y="15407"/>
                  <a:pt x="13816" y="15343"/>
                  <a:pt x="13891" y="15304"/>
                </a:cubicBezTo>
                <a:cubicBezTo>
                  <a:pt x="13943" y="15277"/>
                  <a:pt x="13994" y="15271"/>
                  <a:pt x="14039" y="15304"/>
                </a:cubicBezTo>
                <a:cubicBezTo>
                  <a:pt x="14084" y="15336"/>
                  <a:pt x="14176" y="15449"/>
                  <a:pt x="14188" y="15503"/>
                </a:cubicBezTo>
                <a:cubicBezTo>
                  <a:pt x="14224" y="15669"/>
                  <a:pt x="14272" y="15854"/>
                  <a:pt x="14288" y="16024"/>
                </a:cubicBezTo>
                <a:cubicBezTo>
                  <a:pt x="14299" y="16147"/>
                  <a:pt x="14308" y="16274"/>
                  <a:pt x="14312" y="16396"/>
                </a:cubicBezTo>
                <a:cubicBezTo>
                  <a:pt x="14315" y="16488"/>
                  <a:pt x="14305" y="16560"/>
                  <a:pt x="14337" y="16644"/>
                </a:cubicBezTo>
                <a:cubicBezTo>
                  <a:pt x="14349" y="16677"/>
                  <a:pt x="14328" y="16626"/>
                  <a:pt x="14312" y="16594"/>
                </a:cubicBezTo>
              </a:path>
              <a:path w="6648" h="2531">
                <a:moveTo>
                  <a:pt x="14015" y="16421"/>
                </a:moveTo>
                <a:cubicBezTo>
                  <a:pt x="14085" y="16394"/>
                  <a:pt x="14144" y="16415"/>
                  <a:pt x="14213" y="16396"/>
                </a:cubicBezTo>
                <a:cubicBezTo>
                  <a:pt x="14261" y="16372"/>
                  <a:pt x="14275" y="16364"/>
                  <a:pt x="14312" y="16371"/>
                </a:cubicBezTo>
              </a:path>
              <a:path w="6648" h="2531">
                <a:moveTo>
                  <a:pt x="14560" y="16346"/>
                </a:moveTo>
                <a:cubicBezTo>
                  <a:pt x="14606" y="16311"/>
                  <a:pt x="14610" y="16313"/>
                  <a:pt x="14635" y="16346"/>
                </a:cubicBezTo>
                <a:cubicBezTo>
                  <a:pt x="14655" y="16373"/>
                  <a:pt x="14674" y="16407"/>
                  <a:pt x="14660" y="16446"/>
                </a:cubicBezTo>
                <a:cubicBezTo>
                  <a:pt x="14638" y="16506"/>
                  <a:pt x="14583" y="16543"/>
                  <a:pt x="14560" y="16594"/>
                </a:cubicBezTo>
                <a:cubicBezTo>
                  <a:pt x="14560" y="16602"/>
                  <a:pt x="14560" y="16611"/>
                  <a:pt x="14560" y="16619"/>
                </a:cubicBezTo>
                <a:cubicBezTo>
                  <a:pt x="14570" y="16590"/>
                  <a:pt x="14594" y="16574"/>
                  <a:pt x="14635" y="16570"/>
                </a:cubicBezTo>
                <a:cubicBezTo>
                  <a:pt x="14682" y="16565"/>
                  <a:pt x="14724" y="16564"/>
                  <a:pt x="14759" y="16594"/>
                </a:cubicBezTo>
                <a:cubicBezTo>
                  <a:pt x="14794" y="16625"/>
                  <a:pt x="14795" y="16698"/>
                  <a:pt x="14784" y="16743"/>
                </a:cubicBezTo>
                <a:cubicBezTo>
                  <a:pt x="14765" y="16820"/>
                  <a:pt x="14756" y="16899"/>
                  <a:pt x="14709" y="16966"/>
                </a:cubicBezTo>
                <a:cubicBezTo>
                  <a:pt x="14658" y="17039"/>
                  <a:pt x="14669" y="16989"/>
                  <a:pt x="14660" y="16917"/>
                </a:cubicBezTo>
              </a:path>
              <a:path w="6648" h="2531">
                <a:moveTo>
                  <a:pt x="14982" y="15726"/>
                </a:moveTo>
                <a:cubicBezTo>
                  <a:pt x="14982" y="15701"/>
                  <a:pt x="14982" y="15693"/>
                  <a:pt x="14982" y="15677"/>
                </a:cubicBezTo>
                <a:cubicBezTo>
                  <a:pt x="15031" y="15665"/>
                  <a:pt x="15077" y="15640"/>
                  <a:pt x="15131" y="15627"/>
                </a:cubicBezTo>
                <a:cubicBezTo>
                  <a:pt x="15183" y="15615"/>
                  <a:pt x="15223" y="15602"/>
                  <a:pt x="15280" y="15602"/>
                </a:cubicBezTo>
              </a:path>
              <a:path w="6648" h="2531">
                <a:moveTo>
                  <a:pt x="15131" y="15875"/>
                </a:moveTo>
                <a:cubicBezTo>
                  <a:pt x="15188" y="15875"/>
                  <a:pt x="15208" y="15853"/>
                  <a:pt x="15255" y="15825"/>
                </a:cubicBezTo>
                <a:cubicBezTo>
                  <a:pt x="15271" y="15817"/>
                  <a:pt x="15288" y="15809"/>
                  <a:pt x="15304" y="15801"/>
                </a:cubicBezTo>
              </a:path>
              <a:path w="6648" h="2531">
                <a:moveTo>
                  <a:pt x="15850" y="15131"/>
                </a:moveTo>
                <a:cubicBezTo>
                  <a:pt x="15899" y="15100"/>
                  <a:pt x="15988" y="15011"/>
                  <a:pt x="16049" y="15081"/>
                </a:cubicBezTo>
                <a:cubicBezTo>
                  <a:pt x="16068" y="15102"/>
                  <a:pt x="16083" y="15172"/>
                  <a:pt x="16073" y="15205"/>
                </a:cubicBezTo>
                <a:cubicBezTo>
                  <a:pt x="16054" y="15266"/>
                  <a:pt x="15972" y="15450"/>
                  <a:pt x="15925" y="15503"/>
                </a:cubicBezTo>
                <a:cubicBezTo>
                  <a:pt x="15878" y="15556"/>
                  <a:pt x="15875" y="15523"/>
                  <a:pt x="15875" y="15602"/>
                </a:cubicBezTo>
                <a:cubicBezTo>
                  <a:pt x="15924" y="15590"/>
                  <a:pt x="15953" y="15543"/>
                  <a:pt x="15999" y="15528"/>
                </a:cubicBezTo>
                <a:cubicBezTo>
                  <a:pt x="16047" y="15512"/>
                  <a:pt x="16054" y="15489"/>
                  <a:pt x="16098" y="15528"/>
                </a:cubicBezTo>
                <a:cubicBezTo>
                  <a:pt x="16146" y="15571"/>
                  <a:pt x="16148" y="15588"/>
                  <a:pt x="16148" y="15652"/>
                </a:cubicBezTo>
                <a:cubicBezTo>
                  <a:pt x="16148" y="15725"/>
                  <a:pt x="16110" y="15811"/>
                  <a:pt x="16073" y="15875"/>
                </a:cubicBezTo>
                <a:cubicBezTo>
                  <a:pt x="16021" y="15965"/>
                  <a:pt x="15976" y="16034"/>
                  <a:pt x="15900" y="16098"/>
                </a:cubicBezTo>
                <a:cubicBezTo>
                  <a:pt x="15892" y="16106"/>
                  <a:pt x="15883" y="16115"/>
                  <a:pt x="15875" y="16123"/>
                </a:cubicBezTo>
              </a:path>
              <a:path w="6648" h="2531">
                <a:moveTo>
                  <a:pt x="16470" y="15131"/>
                </a:moveTo>
                <a:cubicBezTo>
                  <a:pt x="16447" y="15297"/>
                  <a:pt x="16451" y="15462"/>
                  <a:pt x="16421" y="15627"/>
                </a:cubicBezTo>
                <a:cubicBezTo>
                  <a:pt x="16405" y="15716"/>
                  <a:pt x="16371" y="15833"/>
                  <a:pt x="16396" y="15925"/>
                </a:cubicBezTo>
                <a:cubicBezTo>
                  <a:pt x="16414" y="15992"/>
                  <a:pt x="16475" y="15995"/>
                  <a:pt x="16520" y="15974"/>
                </a:cubicBezTo>
                <a:cubicBezTo>
                  <a:pt x="16608" y="15933"/>
                  <a:pt x="16635" y="15896"/>
                  <a:pt x="16694" y="15825"/>
                </a:cubicBezTo>
                <a:cubicBezTo>
                  <a:pt x="16740" y="15779"/>
                  <a:pt x="16754" y="15767"/>
                  <a:pt x="16768" y="15726"/>
                </a:cubicBezTo>
              </a:path>
              <a:path w="6648" h="2531">
                <a:moveTo>
                  <a:pt x="16694" y="15304"/>
                </a:moveTo>
                <a:cubicBezTo>
                  <a:pt x="16735" y="15231"/>
                  <a:pt x="16736" y="15230"/>
                  <a:pt x="16818" y="15230"/>
                </a:cubicBezTo>
                <a:cubicBezTo>
                  <a:pt x="16858" y="15230"/>
                  <a:pt x="16949" y="15292"/>
                  <a:pt x="16966" y="15329"/>
                </a:cubicBezTo>
                <a:cubicBezTo>
                  <a:pt x="16995" y="15392"/>
                  <a:pt x="16943" y="15476"/>
                  <a:pt x="16917" y="15528"/>
                </a:cubicBezTo>
                <a:cubicBezTo>
                  <a:pt x="16891" y="15579"/>
                  <a:pt x="16839" y="15629"/>
                  <a:pt x="16818" y="15677"/>
                </a:cubicBezTo>
                <a:cubicBezTo>
                  <a:pt x="16818" y="15685"/>
                  <a:pt x="16818" y="15693"/>
                  <a:pt x="16818" y="15701"/>
                </a:cubicBezTo>
                <a:cubicBezTo>
                  <a:pt x="16860" y="15659"/>
                  <a:pt x="16893" y="15623"/>
                  <a:pt x="16942" y="15602"/>
                </a:cubicBezTo>
                <a:cubicBezTo>
                  <a:pt x="17027" y="15565"/>
                  <a:pt x="17014" y="15527"/>
                  <a:pt x="17090" y="15553"/>
                </a:cubicBezTo>
                <a:cubicBezTo>
                  <a:pt x="17133" y="15568"/>
                  <a:pt x="17125" y="15614"/>
                  <a:pt x="17090" y="15652"/>
                </a:cubicBezTo>
                <a:cubicBezTo>
                  <a:pt x="17011" y="15738"/>
                  <a:pt x="16931" y="15806"/>
                  <a:pt x="16842" y="15875"/>
                </a:cubicBezTo>
                <a:cubicBezTo>
                  <a:pt x="16834" y="15883"/>
                  <a:pt x="16826" y="15892"/>
                  <a:pt x="16818" y="15900"/>
                </a:cubicBezTo>
              </a:path>
              <a:path w="6648" h="2531">
                <a:moveTo>
                  <a:pt x="17115" y="14957"/>
                </a:moveTo>
                <a:cubicBezTo>
                  <a:pt x="17163" y="14969"/>
                  <a:pt x="17172" y="15005"/>
                  <a:pt x="17214" y="15032"/>
                </a:cubicBezTo>
                <a:cubicBezTo>
                  <a:pt x="17296" y="15084"/>
                  <a:pt x="17350" y="15162"/>
                  <a:pt x="17388" y="15255"/>
                </a:cubicBezTo>
                <a:cubicBezTo>
                  <a:pt x="17424" y="15343"/>
                  <a:pt x="17429" y="15483"/>
                  <a:pt x="17413" y="15577"/>
                </a:cubicBezTo>
                <a:cubicBezTo>
                  <a:pt x="17393" y="15699"/>
                  <a:pt x="17344" y="15840"/>
                  <a:pt x="17289" y="15949"/>
                </a:cubicBezTo>
                <a:cubicBezTo>
                  <a:pt x="17258" y="16010"/>
                  <a:pt x="17227" y="16034"/>
                  <a:pt x="17214" y="16098"/>
                </a:cubicBezTo>
              </a:path>
              <a:path w="6648" h="2531">
                <a:moveTo>
                  <a:pt x="17636" y="15404"/>
                </a:moveTo>
                <a:cubicBezTo>
                  <a:pt x="17677" y="15394"/>
                  <a:pt x="17722" y="15362"/>
                  <a:pt x="17760" y="15354"/>
                </a:cubicBezTo>
                <a:cubicBezTo>
                  <a:pt x="17819" y="15342"/>
                  <a:pt x="17852" y="15333"/>
                  <a:pt x="17909" y="15304"/>
                </a:cubicBezTo>
              </a:path>
              <a:path w="6648" h="2531">
                <a:moveTo>
                  <a:pt x="18157" y="15081"/>
                </a:moveTo>
                <a:cubicBezTo>
                  <a:pt x="18167" y="15011"/>
                  <a:pt x="18192" y="14995"/>
                  <a:pt x="18256" y="14957"/>
                </a:cubicBezTo>
                <a:cubicBezTo>
                  <a:pt x="18328" y="14914"/>
                  <a:pt x="18322" y="14938"/>
                  <a:pt x="18380" y="14957"/>
                </a:cubicBezTo>
                <a:cubicBezTo>
                  <a:pt x="18439" y="14977"/>
                  <a:pt x="18430" y="14991"/>
                  <a:pt x="18430" y="15056"/>
                </a:cubicBezTo>
                <a:cubicBezTo>
                  <a:pt x="18430" y="15125"/>
                  <a:pt x="18381" y="15164"/>
                  <a:pt x="18355" y="15230"/>
                </a:cubicBezTo>
                <a:cubicBezTo>
                  <a:pt x="18318" y="15327"/>
                  <a:pt x="18261" y="15412"/>
                  <a:pt x="18207" y="15503"/>
                </a:cubicBezTo>
                <a:cubicBezTo>
                  <a:pt x="18198" y="15518"/>
                  <a:pt x="18076" y="15670"/>
                  <a:pt x="18107" y="15726"/>
                </a:cubicBezTo>
                <a:cubicBezTo>
                  <a:pt x="18130" y="15766"/>
                  <a:pt x="18193" y="15751"/>
                  <a:pt x="18231" y="15751"/>
                </a:cubicBezTo>
                <a:cubicBezTo>
                  <a:pt x="18279" y="15751"/>
                  <a:pt x="18366" y="15707"/>
                  <a:pt x="18405" y="15677"/>
                </a:cubicBezTo>
                <a:cubicBezTo>
                  <a:pt x="18422" y="15660"/>
                  <a:pt x="18438" y="15644"/>
                  <a:pt x="18455" y="15627"/>
                </a:cubicBezTo>
              </a:path>
              <a:path w="6648" h="2531">
                <a:moveTo>
                  <a:pt x="18802" y="15156"/>
                </a:moveTo>
                <a:cubicBezTo>
                  <a:pt x="18864" y="15156"/>
                  <a:pt x="18899" y="15163"/>
                  <a:pt x="18951" y="15180"/>
                </a:cubicBezTo>
                <a:cubicBezTo>
                  <a:pt x="18959" y="15180"/>
                  <a:pt x="18968" y="15180"/>
                  <a:pt x="18976" y="15180"/>
                </a:cubicBezTo>
              </a:path>
              <a:path w="6648" h="2531">
                <a:moveTo>
                  <a:pt x="18901" y="15429"/>
                </a:moveTo>
                <a:cubicBezTo>
                  <a:pt x="18982" y="15445"/>
                  <a:pt x="19019" y="15431"/>
                  <a:pt x="19100" y="15404"/>
                </a:cubicBezTo>
                <a:cubicBezTo>
                  <a:pt x="19176" y="15378"/>
                  <a:pt x="19232" y="15321"/>
                  <a:pt x="19298" y="15280"/>
                </a:cubicBezTo>
              </a:path>
              <a:path w="6648" h="2531">
                <a:moveTo>
                  <a:pt x="19621" y="14759"/>
                </a:moveTo>
                <a:cubicBezTo>
                  <a:pt x="19684" y="14719"/>
                  <a:pt x="19750" y="14663"/>
                  <a:pt x="19819" y="14635"/>
                </a:cubicBezTo>
                <a:cubicBezTo>
                  <a:pt x="19928" y="14590"/>
                  <a:pt x="20032" y="14569"/>
                  <a:pt x="20141" y="14536"/>
                </a:cubicBezTo>
                <a:cubicBezTo>
                  <a:pt x="20189" y="14522"/>
                  <a:pt x="20227" y="14510"/>
                  <a:pt x="20265" y="14486"/>
                </a:cubicBezTo>
                <a:cubicBezTo>
                  <a:pt x="20281" y="14543"/>
                  <a:pt x="20272" y="14530"/>
                  <a:pt x="20265" y="14585"/>
                </a:cubicBezTo>
                <a:cubicBezTo>
                  <a:pt x="20255" y="14671"/>
                  <a:pt x="20263" y="14746"/>
                  <a:pt x="20241" y="14833"/>
                </a:cubicBezTo>
                <a:cubicBezTo>
                  <a:pt x="20207" y="14972"/>
                  <a:pt x="20165" y="15114"/>
                  <a:pt x="20141" y="15255"/>
                </a:cubicBezTo>
                <a:cubicBezTo>
                  <a:pt x="20110" y="15434"/>
                  <a:pt x="20067" y="15619"/>
                  <a:pt x="20067" y="15801"/>
                </a:cubicBezTo>
                <a:cubicBezTo>
                  <a:pt x="20067" y="15817"/>
                  <a:pt x="20067" y="15834"/>
                  <a:pt x="20067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indicated term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(3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/(4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)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5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– 2n + 10;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920" y="2251080"/>
            <a:ext cx="2901960" cy="2606760"/>
          </a:xfrm>
          <a:custGeom>
            <a:avLst/>
            <a:gdLst/>
            <a:ahLst/>
            <a:rect l="l" t="t" r="r" b="b"/>
            <a:pathLst>
              <a:path w="8063" h="7244">
                <a:moveTo>
                  <a:pt x="1215" y="6251"/>
                </a:moveTo>
                <a:cubicBezTo>
                  <a:pt x="1160" y="6324"/>
                  <a:pt x="1092" y="6397"/>
                  <a:pt x="1042" y="6474"/>
                </a:cubicBezTo>
                <a:cubicBezTo>
                  <a:pt x="971" y="6583"/>
                  <a:pt x="917" y="6704"/>
                  <a:pt x="868" y="6821"/>
                </a:cubicBezTo>
                <a:cubicBezTo>
                  <a:pt x="805" y="6972"/>
                  <a:pt x="770" y="7115"/>
                  <a:pt x="719" y="7268"/>
                </a:cubicBezTo>
                <a:cubicBezTo>
                  <a:pt x="660" y="7445"/>
                  <a:pt x="624" y="7601"/>
                  <a:pt x="620" y="7789"/>
                </a:cubicBezTo>
                <a:cubicBezTo>
                  <a:pt x="615" y="8045"/>
                  <a:pt x="607" y="8305"/>
                  <a:pt x="645" y="8558"/>
                </a:cubicBezTo>
                <a:cubicBezTo>
                  <a:pt x="678" y="8777"/>
                  <a:pt x="708" y="8991"/>
                  <a:pt x="769" y="9203"/>
                </a:cubicBezTo>
                <a:cubicBezTo>
                  <a:pt x="828" y="9409"/>
                  <a:pt x="881" y="9614"/>
                  <a:pt x="992" y="9798"/>
                </a:cubicBezTo>
                <a:cubicBezTo>
                  <a:pt x="1116" y="10002"/>
                  <a:pt x="1234" y="10165"/>
                  <a:pt x="1389" y="10344"/>
                </a:cubicBezTo>
                <a:cubicBezTo>
                  <a:pt x="1526" y="10502"/>
                  <a:pt x="1666" y="10647"/>
                  <a:pt x="1836" y="10765"/>
                </a:cubicBezTo>
                <a:cubicBezTo>
                  <a:pt x="2025" y="10896"/>
                  <a:pt x="2226" y="10988"/>
                  <a:pt x="2431" y="11088"/>
                </a:cubicBezTo>
                <a:cubicBezTo>
                  <a:pt x="2515" y="11129"/>
                  <a:pt x="2620" y="11285"/>
                  <a:pt x="2679" y="11212"/>
                </a:cubicBezTo>
                <a:cubicBezTo>
                  <a:pt x="2705" y="11180"/>
                  <a:pt x="2652" y="11110"/>
                  <a:pt x="2654" y="11088"/>
                </a:cubicBezTo>
              </a:path>
              <a:path w="8063" h="7244">
                <a:moveTo>
                  <a:pt x="2431" y="10641"/>
                </a:moveTo>
                <a:cubicBezTo>
                  <a:pt x="2508" y="10691"/>
                  <a:pt x="2579" y="10741"/>
                  <a:pt x="2654" y="10790"/>
                </a:cubicBezTo>
                <a:cubicBezTo>
                  <a:pt x="2741" y="10847"/>
                  <a:pt x="2845" y="10875"/>
                  <a:pt x="2927" y="10939"/>
                </a:cubicBezTo>
                <a:cubicBezTo>
                  <a:pt x="2978" y="10979"/>
                  <a:pt x="3021" y="11043"/>
                  <a:pt x="3001" y="11112"/>
                </a:cubicBezTo>
                <a:cubicBezTo>
                  <a:pt x="2984" y="11171"/>
                  <a:pt x="2903" y="11251"/>
                  <a:pt x="2853" y="11286"/>
                </a:cubicBezTo>
                <a:cubicBezTo>
                  <a:pt x="2783" y="11335"/>
                  <a:pt x="2731" y="11372"/>
                  <a:pt x="2679" y="11435"/>
                </a:cubicBezTo>
                <a:cubicBezTo>
                  <a:pt x="2644" y="11477"/>
                  <a:pt x="2643" y="11442"/>
                  <a:pt x="2629" y="11485"/>
                </a:cubicBezTo>
                <a:cubicBezTo>
                  <a:pt x="2644" y="11528"/>
                  <a:pt x="2668" y="11511"/>
                  <a:pt x="2704" y="11485"/>
                </a:cubicBezTo>
              </a:path>
              <a:path w="8063" h="7244">
                <a:moveTo>
                  <a:pt x="3572" y="10567"/>
                </a:moveTo>
                <a:cubicBezTo>
                  <a:pt x="3633" y="10552"/>
                  <a:pt x="3638" y="10555"/>
                  <a:pt x="3696" y="10567"/>
                </a:cubicBezTo>
                <a:cubicBezTo>
                  <a:pt x="3777" y="10583"/>
                  <a:pt x="3842" y="10567"/>
                  <a:pt x="3919" y="10616"/>
                </a:cubicBezTo>
                <a:cubicBezTo>
                  <a:pt x="3964" y="10645"/>
                  <a:pt x="3984" y="10692"/>
                  <a:pt x="3994" y="10740"/>
                </a:cubicBezTo>
                <a:cubicBezTo>
                  <a:pt x="4004" y="10787"/>
                  <a:pt x="3958" y="10861"/>
                  <a:pt x="3919" y="10889"/>
                </a:cubicBezTo>
                <a:cubicBezTo>
                  <a:pt x="3853" y="10937"/>
                  <a:pt x="3819" y="10933"/>
                  <a:pt x="3770" y="10988"/>
                </a:cubicBezTo>
                <a:cubicBezTo>
                  <a:pt x="3746" y="10988"/>
                  <a:pt x="3738" y="10988"/>
                  <a:pt x="3746" y="11013"/>
                </a:cubicBezTo>
                <a:cubicBezTo>
                  <a:pt x="3793" y="11013"/>
                  <a:pt x="3809" y="11030"/>
                  <a:pt x="3845" y="11038"/>
                </a:cubicBezTo>
                <a:cubicBezTo>
                  <a:pt x="3904" y="11051"/>
                  <a:pt x="3950" y="11027"/>
                  <a:pt x="3994" y="11088"/>
                </a:cubicBezTo>
                <a:cubicBezTo>
                  <a:pt x="4041" y="11154"/>
                  <a:pt x="4088" y="11203"/>
                  <a:pt x="4093" y="11286"/>
                </a:cubicBezTo>
                <a:cubicBezTo>
                  <a:pt x="4097" y="11359"/>
                  <a:pt x="4089" y="11425"/>
                  <a:pt x="4043" y="11485"/>
                </a:cubicBezTo>
                <a:cubicBezTo>
                  <a:pt x="4004" y="11535"/>
                  <a:pt x="3908" y="11595"/>
                  <a:pt x="3845" y="11609"/>
                </a:cubicBezTo>
                <a:cubicBezTo>
                  <a:pt x="3787" y="11622"/>
                  <a:pt x="3698" y="11602"/>
                  <a:pt x="3646" y="11584"/>
                </a:cubicBezTo>
                <a:cubicBezTo>
                  <a:pt x="3564" y="11556"/>
                  <a:pt x="3551" y="11482"/>
                  <a:pt x="3547" y="11410"/>
                </a:cubicBezTo>
                <a:cubicBezTo>
                  <a:pt x="3547" y="11394"/>
                  <a:pt x="3547" y="11377"/>
                  <a:pt x="3547" y="11361"/>
                </a:cubicBezTo>
              </a:path>
              <a:path w="8063" h="7244">
                <a:moveTo>
                  <a:pt x="4142" y="10269"/>
                </a:moveTo>
                <a:cubicBezTo>
                  <a:pt x="4215" y="10253"/>
                  <a:pt x="4337" y="10222"/>
                  <a:pt x="4415" y="10244"/>
                </a:cubicBezTo>
                <a:cubicBezTo>
                  <a:pt x="4460" y="10256"/>
                  <a:pt x="4465" y="10278"/>
                  <a:pt x="4465" y="10319"/>
                </a:cubicBezTo>
                <a:cubicBezTo>
                  <a:pt x="4465" y="10373"/>
                  <a:pt x="4421" y="10372"/>
                  <a:pt x="4390" y="10393"/>
                </a:cubicBezTo>
                <a:cubicBezTo>
                  <a:pt x="4352" y="10419"/>
                  <a:pt x="4328" y="10415"/>
                  <a:pt x="4291" y="10443"/>
                </a:cubicBezTo>
                <a:cubicBezTo>
                  <a:pt x="4327" y="10452"/>
                  <a:pt x="4380" y="10469"/>
                  <a:pt x="4415" y="10492"/>
                </a:cubicBezTo>
                <a:cubicBezTo>
                  <a:pt x="4449" y="10514"/>
                  <a:pt x="4486" y="10554"/>
                  <a:pt x="4490" y="10592"/>
                </a:cubicBezTo>
                <a:cubicBezTo>
                  <a:pt x="4495" y="10633"/>
                  <a:pt x="4461" y="10656"/>
                  <a:pt x="4440" y="10666"/>
                </a:cubicBezTo>
                <a:cubicBezTo>
                  <a:pt x="4377" y="10695"/>
                  <a:pt x="4336" y="10691"/>
                  <a:pt x="4266" y="10691"/>
                </a:cubicBezTo>
                <a:cubicBezTo>
                  <a:pt x="4242" y="10691"/>
                  <a:pt x="4234" y="10691"/>
                  <a:pt x="4242" y="10666"/>
                </a:cubicBezTo>
              </a:path>
              <a:path w="8063" h="7244">
                <a:moveTo>
                  <a:pt x="5035" y="10418"/>
                </a:moveTo>
                <a:cubicBezTo>
                  <a:pt x="5005" y="10581"/>
                  <a:pt x="4956" y="10738"/>
                  <a:pt x="4887" y="10889"/>
                </a:cubicBezTo>
                <a:cubicBezTo>
                  <a:pt x="4830" y="11013"/>
                  <a:pt x="4769" y="11137"/>
                  <a:pt x="4713" y="11261"/>
                </a:cubicBezTo>
                <a:cubicBezTo>
                  <a:pt x="4659" y="11379"/>
                  <a:pt x="4591" y="11493"/>
                  <a:pt x="4539" y="11609"/>
                </a:cubicBezTo>
                <a:cubicBezTo>
                  <a:pt x="4504" y="11686"/>
                  <a:pt x="4458" y="11736"/>
                  <a:pt x="4415" y="11807"/>
                </a:cubicBezTo>
                <a:cubicBezTo>
                  <a:pt x="4371" y="11880"/>
                  <a:pt x="4407" y="11840"/>
                  <a:pt x="4440" y="11782"/>
                </a:cubicBezTo>
              </a:path>
              <a:path w="8063" h="7244">
                <a:moveTo>
                  <a:pt x="5159" y="11013"/>
                </a:moveTo>
                <a:cubicBezTo>
                  <a:pt x="5147" y="11062"/>
                  <a:pt x="5100" y="11091"/>
                  <a:pt x="5085" y="11137"/>
                </a:cubicBezTo>
                <a:cubicBezTo>
                  <a:pt x="5077" y="11161"/>
                  <a:pt x="5043" y="11207"/>
                  <a:pt x="5060" y="11237"/>
                </a:cubicBezTo>
                <a:cubicBezTo>
                  <a:pt x="5076" y="11264"/>
                  <a:pt x="5180" y="11305"/>
                  <a:pt x="5209" y="11311"/>
                </a:cubicBezTo>
                <a:cubicBezTo>
                  <a:pt x="5276" y="11326"/>
                  <a:pt x="5336" y="11336"/>
                  <a:pt x="5407" y="11336"/>
                </a:cubicBezTo>
                <a:cubicBezTo>
                  <a:pt x="5476" y="11336"/>
                  <a:pt x="5496" y="11304"/>
                  <a:pt x="5556" y="11261"/>
                </a:cubicBezTo>
              </a:path>
              <a:path w="8063" h="7244">
                <a:moveTo>
                  <a:pt x="5531" y="10840"/>
                </a:moveTo>
                <a:cubicBezTo>
                  <a:pt x="5531" y="10952"/>
                  <a:pt x="5495" y="11053"/>
                  <a:pt x="5482" y="11162"/>
                </a:cubicBezTo>
                <a:cubicBezTo>
                  <a:pt x="5469" y="11268"/>
                  <a:pt x="5469" y="11380"/>
                  <a:pt x="5457" y="11485"/>
                </a:cubicBezTo>
                <a:cubicBezTo>
                  <a:pt x="5445" y="11596"/>
                  <a:pt x="5458" y="11704"/>
                  <a:pt x="5482" y="11807"/>
                </a:cubicBezTo>
                <a:cubicBezTo>
                  <a:pt x="5493" y="11854"/>
                  <a:pt x="5476" y="11874"/>
                  <a:pt x="5507" y="11832"/>
                </a:cubicBezTo>
                <a:cubicBezTo>
                  <a:pt x="5515" y="11824"/>
                  <a:pt x="5523" y="11815"/>
                  <a:pt x="5531" y="11807"/>
                </a:cubicBezTo>
              </a:path>
              <a:path w="8063" h="7244">
                <a:moveTo>
                  <a:pt x="5730" y="10443"/>
                </a:moveTo>
                <a:cubicBezTo>
                  <a:pt x="5799" y="10443"/>
                  <a:pt x="5868" y="10429"/>
                  <a:pt x="5928" y="10468"/>
                </a:cubicBezTo>
                <a:cubicBezTo>
                  <a:pt x="5965" y="10492"/>
                  <a:pt x="5953" y="10529"/>
                  <a:pt x="5953" y="10567"/>
                </a:cubicBezTo>
                <a:cubicBezTo>
                  <a:pt x="5953" y="10631"/>
                  <a:pt x="5892" y="10618"/>
                  <a:pt x="5854" y="10641"/>
                </a:cubicBezTo>
                <a:cubicBezTo>
                  <a:pt x="5819" y="10662"/>
                  <a:pt x="5814" y="10662"/>
                  <a:pt x="5804" y="10691"/>
                </a:cubicBezTo>
                <a:cubicBezTo>
                  <a:pt x="5816" y="10726"/>
                  <a:pt x="5841" y="10714"/>
                  <a:pt x="5879" y="10740"/>
                </a:cubicBezTo>
                <a:cubicBezTo>
                  <a:pt x="5922" y="10770"/>
                  <a:pt x="5991" y="10804"/>
                  <a:pt x="6003" y="10840"/>
                </a:cubicBezTo>
                <a:cubicBezTo>
                  <a:pt x="5993" y="10868"/>
                  <a:pt x="5968" y="10884"/>
                  <a:pt x="5928" y="10889"/>
                </a:cubicBezTo>
                <a:cubicBezTo>
                  <a:pt x="5870" y="10896"/>
                  <a:pt x="5820" y="10865"/>
                  <a:pt x="5804" y="10914"/>
                </a:cubicBezTo>
              </a:path>
              <a:path w="8063" h="7244">
                <a:moveTo>
                  <a:pt x="6077" y="11212"/>
                </a:moveTo>
                <a:cubicBezTo>
                  <a:pt x="6132" y="11245"/>
                  <a:pt x="6170" y="11215"/>
                  <a:pt x="6226" y="11237"/>
                </a:cubicBezTo>
                <a:cubicBezTo>
                  <a:pt x="6272" y="11255"/>
                  <a:pt x="6261" y="11246"/>
                  <a:pt x="6325" y="11237"/>
                </a:cubicBezTo>
              </a:path>
              <a:path w="8063" h="7244">
                <a:moveTo>
                  <a:pt x="6102" y="11410"/>
                </a:moveTo>
                <a:cubicBezTo>
                  <a:pt x="6193" y="11425"/>
                  <a:pt x="6260" y="11435"/>
                  <a:pt x="6350" y="11435"/>
                </a:cubicBezTo>
              </a:path>
              <a:path w="8063" h="7244">
                <a:moveTo>
                  <a:pt x="7119" y="10790"/>
                </a:moveTo>
                <a:cubicBezTo>
                  <a:pt x="7097" y="10834"/>
                  <a:pt x="7094" y="10845"/>
                  <a:pt x="7069" y="10864"/>
                </a:cubicBezTo>
                <a:cubicBezTo>
                  <a:pt x="7115" y="10853"/>
                  <a:pt x="7125" y="10841"/>
                  <a:pt x="7144" y="10815"/>
                </a:cubicBezTo>
                <a:cubicBezTo>
                  <a:pt x="7191" y="10752"/>
                  <a:pt x="7257" y="10712"/>
                  <a:pt x="7317" y="10666"/>
                </a:cubicBezTo>
                <a:cubicBezTo>
                  <a:pt x="7358" y="10635"/>
                  <a:pt x="7376" y="10629"/>
                  <a:pt x="7417" y="10666"/>
                </a:cubicBezTo>
                <a:cubicBezTo>
                  <a:pt x="7464" y="10709"/>
                  <a:pt x="7441" y="10833"/>
                  <a:pt x="7441" y="10889"/>
                </a:cubicBezTo>
                <a:cubicBezTo>
                  <a:pt x="7441" y="10994"/>
                  <a:pt x="7444" y="11112"/>
                  <a:pt x="7417" y="11212"/>
                </a:cubicBezTo>
                <a:cubicBezTo>
                  <a:pt x="7399" y="11279"/>
                  <a:pt x="7359" y="11354"/>
                  <a:pt x="7317" y="11410"/>
                </a:cubicBezTo>
                <a:cubicBezTo>
                  <a:pt x="7295" y="11439"/>
                  <a:pt x="7219" y="11490"/>
                  <a:pt x="7193" y="11485"/>
                </a:cubicBezTo>
                <a:cubicBezTo>
                  <a:pt x="7162" y="11479"/>
                  <a:pt x="7122" y="11410"/>
                  <a:pt x="7119" y="11385"/>
                </a:cubicBezTo>
                <a:cubicBezTo>
                  <a:pt x="7116" y="11360"/>
                  <a:pt x="7129" y="11296"/>
                  <a:pt x="7144" y="11286"/>
                </a:cubicBezTo>
                <a:cubicBezTo>
                  <a:pt x="7169" y="11286"/>
                  <a:pt x="7177" y="11286"/>
                  <a:pt x="7169" y="11261"/>
                </a:cubicBezTo>
                <a:cubicBezTo>
                  <a:pt x="7213" y="11272"/>
                  <a:pt x="7244" y="11299"/>
                  <a:pt x="7293" y="11311"/>
                </a:cubicBezTo>
                <a:cubicBezTo>
                  <a:pt x="7352" y="11326"/>
                  <a:pt x="7384" y="11366"/>
                  <a:pt x="7441" y="11385"/>
                </a:cubicBezTo>
                <a:cubicBezTo>
                  <a:pt x="7487" y="11400"/>
                  <a:pt x="7545" y="11433"/>
                  <a:pt x="7590" y="11385"/>
                </a:cubicBezTo>
                <a:cubicBezTo>
                  <a:pt x="7617" y="11356"/>
                  <a:pt x="7645" y="11296"/>
                  <a:pt x="7665" y="11261"/>
                </a:cubicBezTo>
              </a:path>
              <a:path w="8063" h="7244">
                <a:moveTo>
                  <a:pt x="7764" y="10616"/>
                </a:moveTo>
                <a:cubicBezTo>
                  <a:pt x="7843" y="10623"/>
                  <a:pt x="7906" y="10641"/>
                  <a:pt x="7987" y="10641"/>
                </a:cubicBezTo>
                <a:cubicBezTo>
                  <a:pt x="8075" y="10641"/>
                  <a:pt x="8144" y="10666"/>
                  <a:pt x="8235" y="10666"/>
                </a:cubicBezTo>
                <a:cubicBezTo>
                  <a:pt x="8260" y="10666"/>
                  <a:pt x="8268" y="10666"/>
                  <a:pt x="8285" y="10666"/>
                </a:cubicBezTo>
                <a:cubicBezTo>
                  <a:pt x="8253" y="10705"/>
                  <a:pt x="8198" y="10764"/>
                  <a:pt x="8186" y="10815"/>
                </a:cubicBezTo>
                <a:cubicBezTo>
                  <a:pt x="8167" y="10897"/>
                  <a:pt x="8161" y="10977"/>
                  <a:pt x="8161" y="11063"/>
                </a:cubicBezTo>
                <a:cubicBezTo>
                  <a:pt x="8161" y="11150"/>
                  <a:pt x="8180" y="11253"/>
                  <a:pt x="8210" y="11336"/>
                </a:cubicBezTo>
                <a:cubicBezTo>
                  <a:pt x="8232" y="11396"/>
                  <a:pt x="8269" y="11456"/>
                  <a:pt x="8285" y="11509"/>
                </a:cubicBezTo>
                <a:cubicBezTo>
                  <a:pt x="8285" y="11537"/>
                  <a:pt x="8283" y="11548"/>
                  <a:pt x="8260" y="11559"/>
                </a:cubicBezTo>
              </a:path>
              <a:path w="8063" h="7244">
                <a:moveTo>
                  <a:pt x="7193" y="11683"/>
                </a:moveTo>
                <a:cubicBezTo>
                  <a:pt x="7315" y="11683"/>
                  <a:pt x="7421" y="11661"/>
                  <a:pt x="7541" y="11658"/>
                </a:cubicBezTo>
                <a:cubicBezTo>
                  <a:pt x="7659" y="11655"/>
                  <a:pt x="7797" y="11653"/>
                  <a:pt x="7913" y="11633"/>
                </a:cubicBezTo>
                <a:cubicBezTo>
                  <a:pt x="7979" y="11622"/>
                  <a:pt x="8100" y="11633"/>
                  <a:pt x="8161" y="11609"/>
                </a:cubicBezTo>
                <a:cubicBezTo>
                  <a:pt x="8184" y="11586"/>
                  <a:pt x="8195" y="11578"/>
                  <a:pt x="8161" y="11584"/>
                </a:cubicBezTo>
              </a:path>
              <a:path w="8063" h="7244">
                <a:moveTo>
                  <a:pt x="7714" y="11906"/>
                </a:moveTo>
                <a:cubicBezTo>
                  <a:pt x="7667" y="12000"/>
                  <a:pt x="7604" y="12104"/>
                  <a:pt x="7565" y="12204"/>
                </a:cubicBezTo>
                <a:cubicBezTo>
                  <a:pt x="7547" y="12252"/>
                  <a:pt x="7521" y="12349"/>
                  <a:pt x="7541" y="12402"/>
                </a:cubicBezTo>
                <a:cubicBezTo>
                  <a:pt x="7557" y="12445"/>
                  <a:pt x="7650" y="12493"/>
                  <a:pt x="7689" y="12502"/>
                </a:cubicBezTo>
                <a:cubicBezTo>
                  <a:pt x="7796" y="12526"/>
                  <a:pt x="7877" y="12503"/>
                  <a:pt x="7962" y="12452"/>
                </a:cubicBezTo>
                <a:cubicBezTo>
                  <a:pt x="8009" y="12424"/>
                  <a:pt x="8071" y="12359"/>
                  <a:pt x="8086" y="12303"/>
                </a:cubicBezTo>
                <a:cubicBezTo>
                  <a:pt x="8094" y="12271"/>
                  <a:pt x="8088" y="12171"/>
                  <a:pt x="8062" y="12154"/>
                </a:cubicBezTo>
                <a:cubicBezTo>
                  <a:pt x="8038" y="12138"/>
                  <a:pt x="7974" y="12155"/>
                  <a:pt x="7962" y="12179"/>
                </a:cubicBezTo>
                <a:cubicBezTo>
                  <a:pt x="7940" y="12223"/>
                  <a:pt x="7916" y="12279"/>
                  <a:pt x="7913" y="12328"/>
                </a:cubicBezTo>
                <a:cubicBezTo>
                  <a:pt x="7910" y="12375"/>
                  <a:pt x="7893" y="12498"/>
                  <a:pt x="7938" y="12526"/>
                </a:cubicBezTo>
                <a:cubicBezTo>
                  <a:pt x="7946" y="12526"/>
                  <a:pt x="7954" y="12526"/>
                  <a:pt x="7962" y="12526"/>
                </a:cubicBezTo>
              </a:path>
              <a:path w="8063" h="7244">
                <a:moveTo>
                  <a:pt x="8260" y="11956"/>
                </a:moveTo>
                <a:cubicBezTo>
                  <a:pt x="8260" y="12027"/>
                  <a:pt x="8248" y="12092"/>
                  <a:pt x="8285" y="12154"/>
                </a:cubicBezTo>
                <a:cubicBezTo>
                  <a:pt x="8335" y="12239"/>
                  <a:pt x="8361" y="12271"/>
                  <a:pt x="8458" y="12278"/>
                </a:cubicBezTo>
                <a:cubicBezTo>
                  <a:pt x="8491" y="12278"/>
                  <a:pt x="8508" y="12278"/>
                  <a:pt x="8533" y="12278"/>
                </a:cubicBezTo>
              </a:path>
              <a:path w="8063" h="7244">
                <a:moveTo>
                  <a:pt x="8682" y="11832"/>
                </a:moveTo>
                <a:cubicBezTo>
                  <a:pt x="8632" y="11932"/>
                  <a:pt x="8593" y="12023"/>
                  <a:pt x="8558" y="12129"/>
                </a:cubicBezTo>
                <a:cubicBezTo>
                  <a:pt x="8522" y="12238"/>
                  <a:pt x="8512" y="12362"/>
                  <a:pt x="8508" y="12477"/>
                </a:cubicBezTo>
                <a:cubicBezTo>
                  <a:pt x="8505" y="12573"/>
                  <a:pt x="8534" y="12711"/>
                  <a:pt x="8483" y="12799"/>
                </a:cubicBezTo>
                <a:cubicBezTo>
                  <a:pt x="8475" y="12799"/>
                  <a:pt x="8466" y="12799"/>
                  <a:pt x="8458" y="12799"/>
                </a:cubicBezTo>
              </a:path>
              <a:path w="8063" h="7244">
                <a:moveTo>
                  <a:pt x="2084" y="8062"/>
                </a:moveTo>
                <a:cubicBezTo>
                  <a:pt x="2037" y="8087"/>
                  <a:pt x="1954" y="8102"/>
                  <a:pt x="1910" y="8136"/>
                </a:cubicBezTo>
                <a:cubicBezTo>
                  <a:pt x="1775" y="8241"/>
                  <a:pt x="1626" y="8416"/>
                  <a:pt x="1538" y="8558"/>
                </a:cubicBezTo>
                <a:cubicBezTo>
                  <a:pt x="1455" y="8692"/>
                  <a:pt x="1360" y="8839"/>
                  <a:pt x="1290" y="8979"/>
                </a:cubicBezTo>
                <a:cubicBezTo>
                  <a:pt x="1211" y="9137"/>
                  <a:pt x="1173" y="9332"/>
                  <a:pt x="1116" y="9500"/>
                </a:cubicBezTo>
                <a:cubicBezTo>
                  <a:pt x="1031" y="9753"/>
                  <a:pt x="985" y="10032"/>
                  <a:pt x="943" y="10294"/>
                </a:cubicBezTo>
                <a:cubicBezTo>
                  <a:pt x="898" y="10576"/>
                  <a:pt x="868" y="10829"/>
                  <a:pt x="868" y="11112"/>
                </a:cubicBezTo>
                <a:cubicBezTo>
                  <a:pt x="868" y="11382"/>
                  <a:pt x="911" y="11649"/>
                  <a:pt x="992" y="11906"/>
                </a:cubicBezTo>
                <a:cubicBezTo>
                  <a:pt x="1087" y="12209"/>
                  <a:pt x="1216" y="12427"/>
                  <a:pt x="1439" y="12650"/>
                </a:cubicBezTo>
                <a:cubicBezTo>
                  <a:pt x="1610" y="12821"/>
                  <a:pt x="1791" y="12993"/>
                  <a:pt x="2009" y="13097"/>
                </a:cubicBezTo>
                <a:cubicBezTo>
                  <a:pt x="2170" y="13174"/>
                  <a:pt x="2341" y="13253"/>
                  <a:pt x="2505" y="13320"/>
                </a:cubicBezTo>
                <a:cubicBezTo>
                  <a:pt x="2620" y="13367"/>
                  <a:pt x="2718" y="13420"/>
                  <a:pt x="2828" y="13469"/>
                </a:cubicBezTo>
                <a:cubicBezTo>
                  <a:pt x="2868" y="13489"/>
                  <a:pt x="2874" y="13498"/>
                  <a:pt x="2902" y="13494"/>
                </a:cubicBezTo>
                <a:cubicBezTo>
                  <a:pt x="2865" y="13433"/>
                  <a:pt x="2869" y="13447"/>
                  <a:pt x="2828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589640"/>
            <a:ext cx="2001600" cy="795240"/>
          </a:xfrm>
          <a:custGeom>
            <a:avLst/>
            <a:gdLst/>
            <a:ahLst/>
            <a:rect l="l" t="t" r="r" b="b"/>
            <a:pathLst>
              <a:path w="5558" h="2208">
                <a:moveTo>
                  <a:pt x="2753" y="13196"/>
                </a:moveTo>
                <a:cubicBezTo>
                  <a:pt x="2790" y="13261"/>
                  <a:pt x="2839" y="13303"/>
                  <a:pt x="2902" y="13345"/>
                </a:cubicBezTo>
                <a:cubicBezTo>
                  <a:pt x="3001" y="13412"/>
                  <a:pt x="3113" y="13460"/>
                  <a:pt x="3200" y="13543"/>
                </a:cubicBezTo>
                <a:cubicBezTo>
                  <a:pt x="3255" y="13595"/>
                  <a:pt x="3305" y="13651"/>
                  <a:pt x="3249" y="13717"/>
                </a:cubicBezTo>
                <a:cubicBezTo>
                  <a:pt x="3185" y="13792"/>
                  <a:pt x="3153" y="13780"/>
                  <a:pt x="3076" y="13816"/>
                </a:cubicBezTo>
                <a:cubicBezTo>
                  <a:pt x="3040" y="13833"/>
                  <a:pt x="2946" y="13887"/>
                  <a:pt x="2927" y="13915"/>
                </a:cubicBezTo>
                <a:cubicBezTo>
                  <a:pt x="2905" y="13947"/>
                  <a:pt x="2946" y="13972"/>
                  <a:pt x="2952" y="13990"/>
                </a:cubicBezTo>
              </a:path>
              <a:path w="5558" h="2208">
                <a:moveTo>
                  <a:pt x="3597" y="13171"/>
                </a:moveTo>
                <a:cubicBezTo>
                  <a:pt x="3586" y="13271"/>
                  <a:pt x="3557" y="13368"/>
                  <a:pt x="3547" y="13469"/>
                </a:cubicBezTo>
                <a:cubicBezTo>
                  <a:pt x="3536" y="13576"/>
                  <a:pt x="3526" y="13685"/>
                  <a:pt x="3522" y="13791"/>
                </a:cubicBezTo>
                <a:cubicBezTo>
                  <a:pt x="3519" y="13882"/>
                  <a:pt x="3522" y="13973"/>
                  <a:pt x="3522" y="14064"/>
                </a:cubicBezTo>
                <a:cubicBezTo>
                  <a:pt x="3522" y="14150"/>
                  <a:pt x="3509" y="14080"/>
                  <a:pt x="3522" y="14039"/>
                </a:cubicBezTo>
                <a:cubicBezTo>
                  <a:pt x="3550" y="13950"/>
                  <a:pt x="3567" y="13860"/>
                  <a:pt x="3597" y="13767"/>
                </a:cubicBezTo>
                <a:cubicBezTo>
                  <a:pt x="3638" y="13641"/>
                  <a:pt x="3638" y="13521"/>
                  <a:pt x="3671" y="13395"/>
                </a:cubicBezTo>
                <a:cubicBezTo>
                  <a:pt x="3701" y="13280"/>
                  <a:pt x="3719" y="13165"/>
                  <a:pt x="3746" y="13047"/>
                </a:cubicBezTo>
                <a:cubicBezTo>
                  <a:pt x="3762" y="12980"/>
                  <a:pt x="3776" y="12787"/>
                  <a:pt x="3845" y="12750"/>
                </a:cubicBezTo>
                <a:cubicBezTo>
                  <a:pt x="3853" y="12750"/>
                  <a:pt x="3862" y="12750"/>
                  <a:pt x="3870" y="12750"/>
                </a:cubicBezTo>
                <a:cubicBezTo>
                  <a:pt x="3886" y="12809"/>
                  <a:pt x="3899" y="12865"/>
                  <a:pt x="3919" y="12923"/>
                </a:cubicBezTo>
                <a:cubicBezTo>
                  <a:pt x="3955" y="13026"/>
                  <a:pt x="3967" y="13138"/>
                  <a:pt x="3994" y="13246"/>
                </a:cubicBezTo>
                <a:cubicBezTo>
                  <a:pt x="4042" y="13436"/>
                  <a:pt x="4090" y="13627"/>
                  <a:pt x="4142" y="13816"/>
                </a:cubicBezTo>
                <a:cubicBezTo>
                  <a:pt x="4175" y="13938"/>
                  <a:pt x="4206" y="14070"/>
                  <a:pt x="4242" y="14188"/>
                </a:cubicBezTo>
                <a:cubicBezTo>
                  <a:pt x="4250" y="14213"/>
                  <a:pt x="4276" y="14296"/>
                  <a:pt x="4291" y="14312"/>
                </a:cubicBezTo>
                <a:cubicBezTo>
                  <a:pt x="4322" y="14344"/>
                  <a:pt x="4291" y="14252"/>
                  <a:pt x="4291" y="14238"/>
                </a:cubicBezTo>
              </a:path>
              <a:path w="5558" h="2208">
                <a:moveTo>
                  <a:pt x="3621" y="13841"/>
                </a:moveTo>
                <a:cubicBezTo>
                  <a:pt x="3716" y="13841"/>
                  <a:pt x="3802" y="13861"/>
                  <a:pt x="3894" y="13891"/>
                </a:cubicBezTo>
                <a:cubicBezTo>
                  <a:pt x="3950" y="13918"/>
                  <a:pt x="3972" y="13926"/>
                  <a:pt x="4018" y="13915"/>
                </a:cubicBezTo>
              </a:path>
              <a:path w="5558" h="2208">
                <a:moveTo>
                  <a:pt x="4564" y="14064"/>
                </a:moveTo>
                <a:cubicBezTo>
                  <a:pt x="4551" y="14109"/>
                  <a:pt x="4537" y="14220"/>
                  <a:pt x="4514" y="14263"/>
                </a:cubicBezTo>
                <a:cubicBezTo>
                  <a:pt x="4494" y="14301"/>
                  <a:pt x="4490" y="14292"/>
                  <a:pt x="4490" y="14337"/>
                </a:cubicBezTo>
                <a:cubicBezTo>
                  <a:pt x="4527" y="14308"/>
                  <a:pt x="4541" y="14312"/>
                  <a:pt x="4589" y="14312"/>
                </a:cubicBezTo>
                <a:cubicBezTo>
                  <a:pt x="4638" y="14312"/>
                  <a:pt x="4703" y="14373"/>
                  <a:pt x="4762" y="14387"/>
                </a:cubicBezTo>
                <a:cubicBezTo>
                  <a:pt x="4800" y="14396"/>
                  <a:pt x="4809" y="14383"/>
                  <a:pt x="4837" y="14362"/>
                </a:cubicBezTo>
              </a:path>
              <a:path w="5558" h="2208">
                <a:moveTo>
                  <a:pt x="4812" y="13915"/>
                </a:moveTo>
                <a:cubicBezTo>
                  <a:pt x="4812" y="14125"/>
                  <a:pt x="4816" y="14329"/>
                  <a:pt x="4837" y="14536"/>
                </a:cubicBezTo>
                <a:cubicBezTo>
                  <a:pt x="4847" y="14637"/>
                  <a:pt x="4848" y="14737"/>
                  <a:pt x="4862" y="14833"/>
                </a:cubicBezTo>
                <a:cubicBezTo>
                  <a:pt x="4871" y="14894"/>
                  <a:pt x="4836" y="14971"/>
                  <a:pt x="4911" y="14932"/>
                </a:cubicBezTo>
              </a:path>
              <a:path w="5558" h="2208">
                <a:moveTo>
                  <a:pt x="5135" y="13643"/>
                </a:moveTo>
                <a:cubicBezTo>
                  <a:pt x="5217" y="13612"/>
                  <a:pt x="5255" y="13609"/>
                  <a:pt x="5333" y="13618"/>
                </a:cubicBezTo>
                <a:cubicBezTo>
                  <a:pt x="5403" y="13626"/>
                  <a:pt x="5463" y="13634"/>
                  <a:pt x="5531" y="13643"/>
                </a:cubicBezTo>
              </a:path>
              <a:path w="5558" h="2208">
                <a:moveTo>
                  <a:pt x="5234" y="13866"/>
                </a:moveTo>
                <a:cubicBezTo>
                  <a:pt x="5336" y="13912"/>
                  <a:pt x="5416" y="13965"/>
                  <a:pt x="5531" y="13940"/>
                </a:cubicBezTo>
                <a:cubicBezTo>
                  <a:pt x="5556" y="13932"/>
                  <a:pt x="5581" y="13923"/>
                  <a:pt x="5606" y="13915"/>
                </a:cubicBezTo>
              </a:path>
              <a:path w="5558" h="2208">
                <a:moveTo>
                  <a:pt x="6846" y="13643"/>
                </a:moveTo>
                <a:cubicBezTo>
                  <a:pt x="6887" y="13637"/>
                  <a:pt x="6909" y="13632"/>
                  <a:pt x="6945" y="13618"/>
                </a:cubicBezTo>
                <a:cubicBezTo>
                  <a:pt x="6914" y="13541"/>
                  <a:pt x="6878" y="13493"/>
                  <a:pt x="6796" y="13444"/>
                </a:cubicBezTo>
                <a:cubicBezTo>
                  <a:pt x="6733" y="13406"/>
                  <a:pt x="6689" y="13392"/>
                  <a:pt x="6623" y="13370"/>
                </a:cubicBezTo>
                <a:cubicBezTo>
                  <a:pt x="6576" y="13354"/>
                  <a:pt x="6503" y="13326"/>
                  <a:pt x="6449" y="13345"/>
                </a:cubicBezTo>
                <a:cubicBezTo>
                  <a:pt x="6395" y="13364"/>
                  <a:pt x="6381" y="13385"/>
                  <a:pt x="6350" y="13419"/>
                </a:cubicBezTo>
                <a:cubicBezTo>
                  <a:pt x="6322" y="13450"/>
                  <a:pt x="6292" y="13498"/>
                  <a:pt x="6300" y="13543"/>
                </a:cubicBezTo>
                <a:cubicBezTo>
                  <a:pt x="6309" y="13595"/>
                  <a:pt x="6327" y="13644"/>
                  <a:pt x="6350" y="13692"/>
                </a:cubicBezTo>
                <a:cubicBezTo>
                  <a:pt x="6390" y="13777"/>
                  <a:pt x="6458" y="13833"/>
                  <a:pt x="6499" y="13915"/>
                </a:cubicBezTo>
                <a:cubicBezTo>
                  <a:pt x="6564" y="14045"/>
                  <a:pt x="6650" y="14154"/>
                  <a:pt x="6722" y="14288"/>
                </a:cubicBezTo>
                <a:cubicBezTo>
                  <a:pt x="6755" y="14350"/>
                  <a:pt x="6785" y="14419"/>
                  <a:pt x="6796" y="14486"/>
                </a:cubicBezTo>
                <a:cubicBezTo>
                  <a:pt x="6804" y="14536"/>
                  <a:pt x="6798" y="14592"/>
                  <a:pt x="6772" y="14635"/>
                </a:cubicBezTo>
                <a:cubicBezTo>
                  <a:pt x="6744" y="14680"/>
                  <a:pt x="6699" y="14695"/>
                  <a:pt x="6648" y="14684"/>
                </a:cubicBezTo>
                <a:cubicBezTo>
                  <a:pt x="6604" y="14675"/>
                  <a:pt x="6567" y="14657"/>
                  <a:pt x="6548" y="14635"/>
                </a:cubicBezTo>
                <a:cubicBezTo>
                  <a:pt x="6514" y="14595"/>
                  <a:pt x="6502" y="14559"/>
                  <a:pt x="6499" y="14511"/>
                </a:cubicBezTo>
                <a:cubicBezTo>
                  <a:pt x="6493" y="14415"/>
                  <a:pt x="6499" y="14377"/>
                  <a:pt x="6548" y="14288"/>
                </a:cubicBezTo>
                <a:cubicBezTo>
                  <a:pt x="6585" y="14220"/>
                  <a:pt x="6652" y="14191"/>
                  <a:pt x="6697" y="14139"/>
                </a:cubicBezTo>
                <a:cubicBezTo>
                  <a:pt x="6745" y="14084"/>
                  <a:pt x="6764" y="14010"/>
                  <a:pt x="6821" y="13965"/>
                </a:cubicBezTo>
                <a:cubicBezTo>
                  <a:pt x="6876" y="13921"/>
                  <a:pt x="6898" y="13894"/>
                  <a:pt x="6945" y="13841"/>
                </a:cubicBezTo>
                <a:cubicBezTo>
                  <a:pt x="6994" y="13786"/>
                  <a:pt x="6989" y="13791"/>
                  <a:pt x="6995" y="13717"/>
                </a:cubicBezTo>
                <a:cubicBezTo>
                  <a:pt x="6995" y="13709"/>
                  <a:pt x="6995" y="13700"/>
                  <a:pt x="6995" y="13692"/>
                </a:cubicBezTo>
              </a:path>
              <a:path w="5558" h="2208">
                <a:moveTo>
                  <a:pt x="7193" y="13618"/>
                </a:moveTo>
                <a:cubicBezTo>
                  <a:pt x="7216" y="13662"/>
                  <a:pt x="7225" y="13702"/>
                  <a:pt x="7243" y="13742"/>
                </a:cubicBezTo>
                <a:cubicBezTo>
                  <a:pt x="7297" y="13708"/>
                  <a:pt x="7296" y="13722"/>
                  <a:pt x="7342" y="13667"/>
                </a:cubicBezTo>
                <a:cubicBezTo>
                  <a:pt x="7351" y="13656"/>
                  <a:pt x="7387" y="13602"/>
                  <a:pt x="7417" y="13593"/>
                </a:cubicBezTo>
                <a:cubicBezTo>
                  <a:pt x="7461" y="13580"/>
                  <a:pt x="7484" y="13600"/>
                  <a:pt x="7516" y="13618"/>
                </a:cubicBezTo>
                <a:cubicBezTo>
                  <a:pt x="7573" y="13649"/>
                  <a:pt x="7574" y="13683"/>
                  <a:pt x="7615" y="13742"/>
                </a:cubicBezTo>
                <a:cubicBezTo>
                  <a:pt x="7660" y="13807"/>
                  <a:pt x="7686" y="13857"/>
                  <a:pt x="7689" y="13940"/>
                </a:cubicBezTo>
                <a:cubicBezTo>
                  <a:pt x="7693" y="14050"/>
                  <a:pt x="7697" y="14158"/>
                  <a:pt x="7665" y="14263"/>
                </a:cubicBezTo>
                <a:cubicBezTo>
                  <a:pt x="7638" y="14351"/>
                  <a:pt x="7594" y="14460"/>
                  <a:pt x="7541" y="14536"/>
                </a:cubicBezTo>
                <a:cubicBezTo>
                  <a:pt x="7509" y="14582"/>
                  <a:pt x="7479" y="14645"/>
                  <a:pt x="7417" y="14660"/>
                </a:cubicBezTo>
                <a:cubicBezTo>
                  <a:pt x="7363" y="14673"/>
                  <a:pt x="7338" y="14652"/>
                  <a:pt x="7317" y="14635"/>
                </a:cubicBezTo>
                <a:cubicBezTo>
                  <a:pt x="7262" y="14590"/>
                  <a:pt x="7313" y="14577"/>
                  <a:pt x="7317" y="14536"/>
                </a:cubicBezTo>
                <a:cubicBezTo>
                  <a:pt x="7320" y="14505"/>
                  <a:pt x="7322" y="14456"/>
                  <a:pt x="7342" y="14436"/>
                </a:cubicBezTo>
                <a:cubicBezTo>
                  <a:pt x="7355" y="14423"/>
                  <a:pt x="7415" y="14404"/>
                  <a:pt x="7441" y="14412"/>
                </a:cubicBezTo>
                <a:cubicBezTo>
                  <a:pt x="7471" y="14422"/>
                  <a:pt x="7522" y="14456"/>
                  <a:pt x="7541" y="14486"/>
                </a:cubicBezTo>
                <a:cubicBezTo>
                  <a:pt x="7583" y="14552"/>
                  <a:pt x="7642" y="14555"/>
                  <a:pt x="7689" y="14610"/>
                </a:cubicBezTo>
                <a:cubicBezTo>
                  <a:pt x="7747" y="14678"/>
                  <a:pt x="7774" y="14724"/>
                  <a:pt x="7863" y="14759"/>
                </a:cubicBezTo>
                <a:cubicBezTo>
                  <a:pt x="7914" y="14779"/>
                  <a:pt x="7957" y="14781"/>
                  <a:pt x="8012" y="14784"/>
                </a:cubicBezTo>
                <a:cubicBezTo>
                  <a:pt x="8078" y="14787"/>
                  <a:pt x="8114" y="14752"/>
                  <a:pt x="8161" y="14709"/>
                </a:cubicBezTo>
                <a:cubicBezTo>
                  <a:pt x="8204" y="14669"/>
                  <a:pt x="8240" y="14636"/>
                  <a:pt x="8285" y="14610"/>
                </a:cubicBezTo>
                <a:cubicBezTo>
                  <a:pt x="8310" y="14610"/>
                  <a:pt x="8318" y="14610"/>
                  <a:pt x="8285" y="146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cursive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quence where the later terms are defined by using the previous te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the first five terms of this recursive sequenc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32;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+1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= A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-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9080" y="2830680"/>
            <a:ext cx="795240" cy="607680"/>
          </a:xfrm>
          <a:custGeom>
            <a:avLst/>
            <a:gdLst/>
            <a:ahLst/>
            <a:rect l="l" t="t" r="r" b="b"/>
            <a:pathLst>
              <a:path w="2209" h="1688">
                <a:moveTo>
                  <a:pt x="6077" y="8260"/>
                </a:moveTo>
                <a:cubicBezTo>
                  <a:pt x="6049" y="8360"/>
                  <a:pt x="6018" y="8479"/>
                  <a:pt x="6003" y="8582"/>
                </a:cubicBezTo>
                <a:cubicBezTo>
                  <a:pt x="5987" y="8691"/>
                  <a:pt x="5966" y="8798"/>
                  <a:pt x="5928" y="8905"/>
                </a:cubicBezTo>
                <a:cubicBezTo>
                  <a:pt x="5902" y="8978"/>
                  <a:pt x="5866" y="9054"/>
                  <a:pt x="5854" y="9128"/>
                </a:cubicBezTo>
                <a:cubicBezTo>
                  <a:pt x="5843" y="9195"/>
                  <a:pt x="5836" y="9196"/>
                  <a:pt x="5804" y="9227"/>
                </a:cubicBezTo>
                <a:cubicBezTo>
                  <a:pt x="5821" y="9172"/>
                  <a:pt x="5831" y="9110"/>
                  <a:pt x="5854" y="9054"/>
                </a:cubicBezTo>
                <a:cubicBezTo>
                  <a:pt x="5890" y="8967"/>
                  <a:pt x="5896" y="8860"/>
                  <a:pt x="5928" y="8781"/>
                </a:cubicBezTo>
                <a:cubicBezTo>
                  <a:pt x="5974" y="8669"/>
                  <a:pt x="5998" y="8573"/>
                  <a:pt x="6028" y="8458"/>
                </a:cubicBezTo>
                <a:cubicBezTo>
                  <a:pt x="6059" y="8338"/>
                  <a:pt x="6110" y="8226"/>
                  <a:pt x="6152" y="8111"/>
                </a:cubicBezTo>
                <a:cubicBezTo>
                  <a:pt x="6178" y="8041"/>
                  <a:pt x="6175" y="7994"/>
                  <a:pt x="6226" y="7938"/>
                </a:cubicBezTo>
                <a:cubicBezTo>
                  <a:pt x="6254" y="7907"/>
                  <a:pt x="6250" y="7895"/>
                  <a:pt x="6276" y="7863"/>
                </a:cubicBezTo>
                <a:cubicBezTo>
                  <a:pt x="6318" y="7900"/>
                  <a:pt x="6323" y="7893"/>
                  <a:pt x="6350" y="7962"/>
                </a:cubicBezTo>
                <a:cubicBezTo>
                  <a:pt x="6383" y="8046"/>
                  <a:pt x="6378" y="8144"/>
                  <a:pt x="6400" y="8235"/>
                </a:cubicBezTo>
                <a:cubicBezTo>
                  <a:pt x="6423" y="8330"/>
                  <a:pt x="6439" y="8435"/>
                  <a:pt x="6449" y="8533"/>
                </a:cubicBezTo>
                <a:cubicBezTo>
                  <a:pt x="6460" y="8643"/>
                  <a:pt x="6476" y="8747"/>
                  <a:pt x="6499" y="8855"/>
                </a:cubicBezTo>
                <a:cubicBezTo>
                  <a:pt x="6513" y="8922"/>
                  <a:pt x="6523" y="9063"/>
                  <a:pt x="6548" y="9128"/>
                </a:cubicBezTo>
                <a:cubicBezTo>
                  <a:pt x="6566" y="9175"/>
                  <a:pt x="6593" y="9185"/>
                  <a:pt x="6573" y="9178"/>
                </a:cubicBezTo>
                <a:cubicBezTo>
                  <a:pt x="6545" y="9178"/>
                  <a:pt x="6534" y="9176"/>
                  <a:pt x="6524" y="9153"/>
                </a:cubicBezTo>
              </a:path>
              <a:path w="2209" h="1688">
                <a:moveTo>
                  <a:pt x="6028" y="8979"/>
                </a:moveTo>
                <a:cubicBezTo>
                  <a:pt x="6086" y="8979"/>
                  <a:pt x="6122" y="8991"/>
                  <a:pt x="6176" y="9004"/>
                </a:cubicBezTo>
                <a:cubicBezTo>
                  <a:pt x="6274" y="9027"/>
                  <a:pt x="6397" y="9004"/>
                  <a:pt x="6499" y="9004"/>
                </a:cubicBezTo>
              </a:path>
              <a:path w="2209" h="1688">
                <a:moveTo>
                  <a:pt x="6846" y="9079"/>
                </a:moveTo>
                <a:cubicBezTo>
                  <a:pt x="6869" y="9071"/>
                  <a:pt x="6894" y="9070"/>
                  <a:pt x="6921" y="9054"/>
                </a:cubicBezTo>
                <a:cubicBezTo>
                  <a:pt x="6962" y="9031"/>
                  <a:pt x="6969" y="9029"/>
                  <a:pt x="7020" y="9029"/>
                </a:cubicBezTo>
                <a:cubicBezTo>
                  <a:pt x="7066" y="9029"/>
                  <a:pt x="7088" y="9028"/>
                  <a:pt x="7094" y="9079"/>
                </a:cubicBezTo>
                <a:cubicBezTo>
                  <a:pt x="7100" y="9129"/>
                  <a:pt x="7079" y="9144"/>
                  <a:pt x="7045" y="9178"/>
                </a:cubicBezTo>
                <a:cubicBezTo>
                  <a:pt x="7006" y="9218"/>
                  <a:pt x="7003" y="9264"/>
                  <a:pt x="6970" y="9302"/>
                </a:cubicBezTo>
                <a:cubicBezTo>
                  <a:pt x="6925" y="9353"/>
                  <a:pt x="6886" y="9398"/>
                  <a:pt x="6846" y="9451"/>
                </a:cubicBezTo>
                <a:cubicBezTo>
                  <a:pt x="6825" y="9479"/>
                  <a:pt x="6780" y="9483"/>
                  <a:pt x="6772" y="9500"/>
                </a:cubicBezTo>
                <a:cubicBezTo>
                  <a:pt x="6756" y="9534"/>
                  <a:pt x="6759" y="9514"/>
                  <a:pt x="6747" y="9550"/>
                </a:cubicBezTo>
                <a:cubicBezTo>
                  <a:pt x="6844" y="9550"/>
                  <a:pt x="7146" y="9593"/>
                  <a:pt x="7169" y="9525"/>
                </a:cubicBezTo>
              </a:path>
              <a:path w="2209" h="1688">
                <a:moveTo>
                  <a:pt x="7615" y="8756"/>
                </a:moveTo>
                <a:cubicBezTo>
                  <a:pt x="7662" y="8756"/>
                  <a:pt x="7678" y="8773"/>
                  <a:pt x="7714" y="8781"/>
                </a:cubicBezTo>
                <a:cubicBezTo>
                  <a:pt x="7797" y="8799"/>
                  <a:pt x="7901" y="8781"/>
                  <a:pt x="7987" y="8781"/>
                </a:cubicBezTo>
                <a:cubicBezTo>
                  <a:pt x="7962" y="8781"/>
                  <a:pt x="7954" y="8781"/>
                  <a:pt x="7962" y="8806"/>
                </a:cubicBezTo>
              </a:path>
              <a:path w="2209" h="1688">
                <a:moveTo>
                  <a:pt x="7516" y="8979"/>
                </a:moveTo>
                <a:cubicBezTo>
                  <a:pt x="7523" y="9001"/>
                  <a:pt x="7558" y="9018"/>
                  <a:pt x="7590" y="9029"/>
                </a:cubicBezTo>
                <a:cubicBezTo>
                  <a:pt x="7647" y="9048"/>
                  <a:pt x="7754" y="9044"/>
                  <a:pt x="7813" y="9054"/>
                </a:cubicBezTo>
                <a:cubicBezTo>
                  <a:pt x="7887" y="9066"/>
                  <a:pt x="7912" y="9054"/>
                  <a:pt x="7987" y="9054"/>
                </a:cubicBezTo>
                <a:cubicBezTo>
                  <a:pt x="7995" y="9054"/>
                  <a:pt x="8004" y="9054"/>
                  <a:pt x="8012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2946240"/>
            <a:ext cx="973080" cy="428760"/>
          </a:xfrm>
          <a:custGeom>
            <a:avLst/>
            <a:gdLst/>
            <a:ahLst/>
            <a:rect l="l" t="t" r="r" b="b"/>
            <a:pathLst>
              <a:path w="2705" h="1191">
                <a:moveTo>
                  <a:pt x="8582" y="8310"/>
                </a:moveTo>
                <a:cubicBezTo>
                  <a:pt x="8589" y="8260"/>
                  <a:pt x="8602" y="8222"/>
                  <a:pt x="8657" y="8210"/>
                </a:cubicBezTo>
                <a:cubicBezTo>
                  <a:pt x="8718" y="8197"/>
                  <a:pt x="8762" y="8186"/>
                  <a:pt x="8830" y="8186"/>
                </a:cubicBezTo>
                <a:cubicBezTo>
                  <a:pt x="8882" y="8186"/>
                  <a:pt x="8956" y="8230"/>
                  <a:pt x="8979" y="8285"/>
                </a:cubicBezTo>
                <a:cubicBezTo>
                  <a:pt x="9003" y="8343"/>
                  <a:pt x="8929" y="8412"/>
                  <a:pt x="8905" y="8458"/>
                </a:cubicBezTo>
                <a:cubicBezTo>
                  <a:pt x="8861" y="8540"/>
                  <a:pt x="8797" y="8571"/>
                  <a:pt x="8731" y="8632"/>
                </a:cubicBezTo>
                <a:cubicBezTo>
                  <a:pt x="8697" y="8664"/>
                  <a:pt x="8665" y="8698"/>
                  <a:pt x="8632" y="8731"/>
                </a:cubicBezTo>
                <a:cubicBezTo>
                  <a:pt x="8669" y="8731"/>
                  <a:pt x="8704" y="8724"/>
                  <a:pt x="8731" y="8706"/>
                </a:cubicBezTo>
                <a:cubicBezTo>
                  <a:pt x="8762" y="8686"/>
                  <a:pt x="8812" y="8661"/>
                  <a:pt x="8855" y="8682"/>
                </a:cubicBezTo>
                <a:cubicBezTo>
                  <a:pt x="8863" y="8686"/>
                  <a:pt x="8928" y="8773"/>
                  <a:pt x="8930" y="8781"/>
                </a:cubicBezTo>
                <a:cubicBezTo>
                  <a:pt x="8951" y="8881"/>
                  <a:pt x="8936" y="9037"/>
                  <a:pt x="8905" y="9128"/>
                </a:cubicBezTo>
                <a:cubicBezTo>
                  <a:pt x="8875" y="9216"/>
                  <a:pt x="8850" y="9291"/>
                  <a:pt x="8756" y="9327"/>
                </a:cubicBezTo>
                <a:cubicBezTo>
                  <a:pt x="8703" y="9347"/>
                  <a:pt x="8660" y="9346"/>
                  <a:pt x="8607" y="9327"/>
                </a:cubicBezTo>
                <a:cubicBezTo>
                  <a:pt x="8575" y="9316"/>
                  <a:pt x="8495" y="9293"/>
                  <a:pt x="8483" y="9252"/>
                </a:cubicBezTo>
                <a:cubicBezTo>
                  <a:pt x="8483" y="9211"/>
                  <a:pt x="8483" y="9203"/>
                  <a:pt x="8483" y="9178"/>
                </a:cubicBezTo>
              </a:path>
              <a:path w="2705" h="1191">
                <a:moveTo>
                  <a:pt x="9178" y="8334"/>
                </a:moveTo>
                <a:cubicBezTo>
                  <a:pt x="9252" y="8312"/>
                  <a:pt x="9324" y="8289"/>
                  <a:pt x="9401" y="8285"/>
                </a:cubicBezTo>
                <a:cubicBezTo>
                  <a:pt x="9452" y="8282"/>
                  <a:pt x="9531" y="8305"/>
                  <a:pt x="9575" y="8334"/>
                </a:cubicBezTo>
                <a:cubicBezTo>
                  <a:pt x="9611" y="8358"/>
                  <a:pt x="9621" y="8419"/>
                  <a:pt x="9624" y="8458"/>
                </a:cubicBezTo>
                <a:cubicBezTo>
                  <a:pt x="9628" y="8506"/>
                  <a:pt x="9594" y="8588"/>
                  <a:pt x="9575" y="8632"/>
                </a:cubicBezTo>
                <a:cubicBezTo>
                  <a:pt x="9550" y="8689"/>
                  <a:pt x="9514" y="8758"/>
                  <a:pt x="9475" y="8806"/>
                </a:cubicBezTo>
                <a:cubicBezTo>
                  <a:pt x="9422" y="8871"/>
                  <a:pt x="9368" y="8930"/>
                  <a:pt x="9327" y="9004"/>
                </a:cubicBezTo>
                <a:cubicBezTo>
                  <a:pt x="9296" y="9061"/>
                  <a:pt x="9230" y="9098"/>
                  <a:pt x="9203" y="9153"/>
                </a:cubicBezTo>
                <a:cubicBezTo>
                  <a:pt x="9194" y="9172"/>
                  <a:pt x="9163" y="9225"/>
                  <a:pt x="9178" y="9252"/>
                </a:cubicBezTo>
                <a:cubicBezTo>
                  <a:pt x="9194" y="9280"/>
                  <a:pt x="9273" y="9300"/>
                  <a:pt x="9302" y="9302"/>
                </a:cubicBezTo>
                <a:cubicBezTo>
                  <a:pt x="9381" y="9308"/>
                  <a:pt x="9610" y="9329"/>
                  <a:pt x="9649" y="9277"/>
                </a:cubicBezTo>
                <a:cubicBezTo>
                  <a:pt x="9672" y="9254"/>
                  <a:pt x="9680" y="9250"/>
                  <a:pt x="9674" y="9227"/>
                </a:cubicBezTo>
              </a:path>
              <a:path w="2705" h="1191">
                <a:moveTo>
                  <a:pt x="9723" y="8855"/>
                </a:moveTo>
                <a:cubicBezTo>
                  <a:pt x="9817" y="8855"/>
                  <a:pt x="9944" y="8876"/>
                  <a:pt x="10021" y="8830"/>
                </a:cubicBezTo>
              </a:path>
              <a:path w="2705" h="1191">
                <a:moveTo>
                  <a:pt x="10220" y="8508"/>
                </a:moveTo>
                <a:cubicBezTo>
                  <a:pt x="10281" y="8453"/>
                  <a:pt x="10335" y="8399"/>
                  <a:pt x="10418" y="8384"/>
                </a:cubicBezTo>
                <a:cubicBezTo>
                  <a:pt x="10473" y="8374"/>
                  <a:pt x="10545" y="8377"/>
                  <a:pt x="10592" y="8409"/>
                </a:cubicBezTo>
                <a:cubicBezTo>
                  <a:pt x="10631" y="8435"/>
                  <a:pt x="10616" y="8493"/>
                  <a:pt x="10616" y="8533"/>
                </a:cubicBezTo>
                <a:cubicBezTo>
                  <a:pt x="10616" y="8632"/>
                  <a:pt x="10556" y="8701"/>
                  <a:pt x="10517" y="8781"/>
                </a:cubicBezTo>
                <a:cubicBezTo>
                  <a:pt x="10475" y="8867"/>
                  <a:pt x="10445" y="8926"/>
                  <a:pt x="10393" y="9004"/>
                </a:cubicBezTo>
                <a:cubicBezTo>
                  <a:pt x="10348" y="9071"/>
                  <a:pt x="10306" y="9130"/>
                  <a:pt x="10269" y="9203"/>
                </a:cubicBezTo>
                <a:cubicBezTo>
                  <a:pt x="10246" y="9248"/>
                  <a:pt x="10200" y="9305"/>
                  <a:pt x="10195" y="9351"/>
                </a:cubicBezTo>
                <a:cubicBezTo>
                  <a:pt x="10195" y="9359"/>
                  <a:pt x="10195" y="9368"/>
                  <a:pt x="10195" y="9376"/>
                </a:cubicBezTo>
                <a:cubicBezTo>
                  <a:pt x="10331" y="9376"/>
                  <a:pt x="10463" y="9373"/>
                  <a:pt x="10592" y="9351"/>
                </a:cubicBezTo>
                <a:cubicBezTo>
                  <a:pt x="10608" y="9351"/>
                  <a:pt x="10625" y="9351"/>
                  <a:pt x="10641" y="9351"/>
                </a:cubicBezTo>
              </a:path>
              <a:path w="2705" h="1191">
                <a:moveTo>
                  <a:pt x="10840" y="8880"/>
                </a:moveTo>
                <a:cubicBezTo>
                  <a:pt x="10956" y="8895"/>
                  <a:pt x="11049" y="8905"/>
                  <a:pt x="11162" y="8905"/>
                </a:cubicBezTo>
                <a:cubicBezTo>
                  <a:pt x="11170" y="8905"/>
                  <a:pt x="11179" y="8905"/>
                  <a:pt x="11187" y="8905"/>
                </a:cubicBezTo>
              </a:path>
              <a:path w="2705" h="1191">
                <a:moveTo>
                  <a:pt x="10914" y="9178"/>
                </a:moveTo>
                <a:cubicBezTo>
                  <a:pt x="10999" y="9178"/>
                  <a:pt x="11092" y="9195"/>
                  <a:pt x="11162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87880" y="3027240"/>
            <a:ext cx="519120" cy="3938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1658" y="8483"/>
                </a:moveTo>
                <a:cubicBezTo>
                  <a:pt x="11789" y="8414"/>
                  <a:pt x="11799" y="8409"/>
                  <a:pt x="11931" y="8409"/>
                </a:cubicBezTo>
                <a:cubicBezTo>
                  <a:pt x="11974" y="8409"/>
                  <a:pt x="12058" y="8451"/>
                  <a:pt x="12055" y="8508"/>
                </a:cubicBezTo>
                <a:cubicBezTo>
                  <a:pt x="12051" y="8580"/>
                  <a:pt x="11966" y="8653"/>
                  <a:pt x="11931" y="8706"/>
                </a:cubicBezTo>
                <a:cubicBezTo>
                  <a:pt x="11880" y="8782"/>
                  <a:pt x="11822" y="8821"/>
                  <a:pt x="11757" y="8880"/>
                </a:cubicBezTo>
                <a:cubicBezTo>
                  <a:pt x="11727" y="8908"/>
                  <a:pt x="11708" y="8971"/>
                  <a:pt x="11708" y="8930"/>
                </a:cubicBezTo>
                <a:cubicBezTo>
                  <a:pt x="11767" y="8930"/>
                  <a:pt x="11779" y="8891"/>
                  <a:pt x="11832" y="8880"/>
                </a:cubicBezTo>
                <a:cubicBezTo>
                  <a:pt x="11872" y="8872"/>
                  <a:pt x="11885" y="8855"/>
                  <a:pt x="11931" y="8855"/>
                </a:cubicBezTo>
                <a:cubicBezTo>
                  <a:pt x="11985" y="8855"/>
                  <a:pt x="12041" y="8860"/>
                  <a:pt x="12080" y="8905"/>
                </a:cubicBezTo>
                <a:cubicBezTo>
                  <a:pt x="12130" y="8963"/>
                  <a:pt x="12129" y="9032"/>
                  <a:pt x="12129" y="9103"/>
                </a:cubicBezTo>
                <a:cubicBezTo>
                  <a:pt x="12129" y="9193"/>
                  <a:pt x="12139" y="9276"/>
                  <a:pt x="12080" y="9351"/>
                </a:cubicBezTo>
                <a:cubicBezTo>
                  <a:pt x="12014" y="9436"/>
                  <a:pt x="11998" y="9444"/>
                  <a:pt x="11906" y="9475"/>
                </a:cubicBezTo>
                <a:cubicBezTo>
                  <a:pt x="11843" y="9496"/>
                  <a:pt x="11751" y="9528"/>
                  <a:pt x="11683" y="9500"/>
                </a:cubicBezTo>
                <a:cubicBezTo>
                  <a:pt x="11625" y="9476"/>
                  <a:pt x="11630" y="9439"/>
                  <a:pt x="11658" y="9401"/>
                </a:cubicBezTo>
              </a:path>
              <a:path w="1440" h="1092">
                <a:moveTo>
                  <a:pt x="12502" y="8483"/>
                </a:moveTo>
                <a:cubicBezTo>
                  <a:pt x="12531" y="8533"/>
                  <a:pt x="12540" y="8619"/>
                  <a:pt x="12526" y="8682"/>
                </a:cubicBezTo>
                <a:cubicBezTo>
                  <a:pt x="12507" y="8765"/>
                  <a:pt x="12468" y="8845"/>
                  <a:pt x="12452" y="8930"/>
                </a:cubicBezTo>
                <a:cubicBezTo>
                  <a:pt x="12435" y="9018"/>
                  <a:pt x="12444" y="9097"/>
                  <a:pt x="12452" y="9178"/>
                </a:cubicBezTo>
                <a:cubicBezTo>
                  <a:pt x="12459" y="9255"/>
                  <a:pt x="12485" y="9326"/>
                  <a:pt x="12551" y="9376"/>
                </a:cubicBezTo>
                <a:cubicBezTo>
                  <a:pt x="12605" y="9417"/>
                  <a:pt x="12710" y="9462"/>
                  <a:pt x="12774" y="9475"/>
                </a:cubicBezTo>
                <a:cubicBezTo>
                  <a:pt x="12868" y="9494"/>
                  <a:pt x="12954" y="9451"/>
                  <a:pt x="12998" y="9376"/>
                </a:cubicBezTo>
                <a:cubicBezTo>
                  <a:pt x="13043" y="9299"/>
                  <a:pt x="13069" y="9215"/>
                  <a:pt x="13072" y="9128"/>
                </a:cubicBezTo>
                <a:cubicBezTo>
                  <a:pt x="13076" y="9035"/>
                  <a:pt x="13053" y="8918"/>
                  <a:pt x="13022" y="8830"/>
                </a:cubicBezTo>
                <a:cubicBezTo>
                  <a:pt x="12996" y="8759"/>
                  <a:pt x="12938" y="8675"/>
                  <a:pt x="12874" y="8632"/>
                </a:cubicBezTo>
                <a:cubicBezTo>
                  <a:pt x="12814" y="8592"/>
                  <a:pt x="12745" y="8562"/>
                  <a:pt x="12675" y="8558"/>
                </a:cubicBezTo>
                <a:cubicBezTo>
                  <a:pt x="12624" y="8558"/>
                  <a:pt x="12606" y="8559"/>
                  <a:pt x="12576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57920" y="2776680"/>
            <a:ext cx="714240" cy="876240"/>
          </a:xfrm>
          <a:custGeom>
            <a:avLst/>
            <a:gdLst/>
            <a:ahLst/>
            <a:rect l="l" t="t" r="r" b="b"/>
            <a:pathLst>
              <a:path w="1985" h="2432">
                <a:moveTo>
                  <a:pt x="16346" y="9029"/>
                </a:moveTo>
                <a:cubicBezTo>
                  <a:pt x="16346" y="9190"/>
                  <a:pt x="16338" y="9344"/>
                  <a:pt x="16321" y="9500"/>
                </a:cubicBezTo>
                <a:cubicBezTo>
                  <a:pt x="16313" y="9574"/>
                  <a:pt x="16315" y="9629"/>
                  <a:pt x="16297" y="9699"/>
                </a:cubicBezTo>
                <a:cubicBezTo>
                  <a:pt x="16297" y="9723"/>
                  <a:pt x="16297" y="9731"/>
                  <a:pt x="16297" y="9699"/>
                </a:cubicBezTo>
                <a:cubicBezTo>
                  <a:pt x="16282" y="9638"/>
                  <a:pt x="16263" y="9576"/>
                  <a:pt x="16272" y="9500"/>
                </a:cubicBezTo>
                <a:cubicBezTo>
                  <a:pt x="16289" y="9352"/>
                  <a:pt x="16296" y="9199"/>
                  <a:pt x="16321" y="9054"/>
                </a:cubicBezTo>
                <a:cubicBezTo>
                  <a:pt x="16341" y="8937"/>
                  <a:pt x="16368" y="8820"/>
                  <a:pt x="16396" y="8706"/>
                </a:cubicBezTo>
                <a:cubicBezTo>
                  <a:pt x="16423" y="8594"/>
                  <a:pt x="16462" y="8526"/>
                  <a:pt x="16520" y="8434"/>
                </a:cubicBezTo>
                <a:cubicBezTo>
                  <a:pt x="16562" y="8368"/>
                  <a:pt x="16569" y="8356"/>
                  <a:pt x="16644" y="8334"/>
                </a:cubicBezTo>
                <a:cubicBezTo>
                  <a:pt x="16719" y="8312"/>
                  <a:pt x="16761" y="8408"/>
                  <a:pt x="16793" y="8458"/>
                </a:cubicBezTo>
                <a:cubicBezTo>
                  <a:pt x="16876" y="8587"/>
                  <a:pt x="16871" y="8709"/>
                  <a:pt x="16892" y="8855"/>
                </a:cubicBezTo>
                <a:cubicBezTo>
                  <a:pt x="16921" y="9053"/>
                  <a:pt x="16959" y="9256"/>
                  <a:pt x="16991" y="9451"/>
                </a:cubicBezTo>
                <a:cubicBezTo>
                  <a:pt x="17013" y="9580"/>
                  <a:pt x="17011" y="9722"/>
                  <a:pt x="17041" y="9847"/>
                </a:cubicBezTo>
                <a:cubicBezTo>
                  <a:pt x="17043" y="9855"/>
                  <a:pt x="17093" y="10019"/>
                  <a:pt x="17066" y="10021"/>
                </a:cubicBezTo>
                <a:cubicBezTo>
                  <a:pt x="17024" y="10025"/>
                  <a:pt x="17002" y="9969"/>
                  <a:pt x="16966" y="9947"/>
                </a:cubicBezTo>
              </a:path>
              <a:path w="1985" h="2432">
                <a:moveTo>
                  <a:pt x="16396" y="9550"/>
                </a:moveTo>
                <a:cubicBezTo>
                  <a:pt x="16509" y="9569"/>
                  <a:pt x="16631" y="9589"/>
                  <a:pt x="16743" y="9599"/>
                </a:cubicBezTo>
                <a:cubicBezTo>
                  <a:pt x="16823" y="9606"/>
                  <a:pt x="16910" y="9599"/>
                  <a:pt x="16991" y="9599"/>
                </a:cubicBezTo>
              </a:path>
              <a:path w="1985" h="2432">
                <a:moveTo>
                  <a:pt x="17388" y="9550"/>
                </a:moveTo>
                <a:cubicBezTo>
                  <a:pt x="17388" y="9656"/>
                  <a:pt x="17378" y="9745"/>
                  <a:pt x="17363" y="9847"/>
                </a:cubicBezTo>
                <a:cubicBezTo>
                  <a:pt x="17351" y="9928"/>
                  <a:pt x="17359" y="10000"/>
                  <a:pt x="17338" y="10071"/>
                </a:cubicBezTo>
                <a:cubicBezTo>
                  <a:pt x="17338" y="10096"/>
                  <a:pt x="17338" y="10104"/>
                  <a:pt x="17338" y="10120"/>
                </a:cubicBezTo>
              </a:path>
              <a:path w="1985" h="2432">
                <a:moveTo>
                  <a:pt x="17587" y="9550"/>
                </a:moveTo>
                <a:cubicBezTo>
                  <a:pt x="17581" y="9593"/>
                  <a:pt x="17574" y="9689"/>
                  <a:pt x="17537" y="9723"/>
                </a:cubicBezTo>
                <a:cubicBezTo>
                  <a:pt x="17472" y="9783"/>
                  <a:pt x="17473" y="9802"/>
                  <a:pt x="17438" y="9872"/>
                </a:cubicBezTo>
                <a:cubicBezTo>
                  <a:pt x="17415" y="9917"/>
                  <a:pt x="17407" y="9942"/>
                  <a:pt x="17438" y="9996"/>
                </a:cubicBezTo>
                <a:cubicBezTo>
                  <a:pt x="17466" y="10045"/>
                  <a:pt x="17562" y="10072"/>
                  <a:pt x="17611" y="10096"/>
                </a:cubicBezTo>
                <a:cubicBezTo>
                  <a:pt x="17640" y="10110"/>
                  <a:pt x="17755" y="10157"/>
                  <a:pt x="17785" y="10145"/>
                </a:cubicBezTo>
                <a:cubicBezTo>
                  <a:pt x="17793" y="10137"/>
                  <a:pt x="17802" y="10128"/>
                  <a:pt x="17810" y="10120"/>
                </a:cubicBezTo>
              </a:path>
              <a:path w="1985" h="2432">
                <a:moveTo>
                  <a:pt x="17983" y="9302"/>
                </a:moveTo>
                <a:cubicBezTo>
                  <a:pt x="18074" y="9302"/>
                  <a:pt x="18165" y="9302"/>
                  <a:pt x="18256" y="9302"/>
                </a:cubicBezTo>
              </a:path>
              <a:path w="1985" h="2432">
                <a:moveTo>
                  <a:pt x="17983" y="9500"/>
                </a:moveTo>
                <a:cubicBezTo>
                  <a:pt x="18085" y="9505"/>
                  <a:pt x="18161" y="9525"/>
                  <a:pt x="18256" y="9525"/>
                </a:cubicBezTo>
              </a:path>
              <a:path w="1985" h="2432">
                <a:moveTo>
                  <a:pt x="16644" y="7739"/>
                </a:moveTo>
                <a:cubicBezTo>
                  <a:pt x="16652" y="7731"/>
                  <a:pt x="16661" y="7722"/>
                  <a:pt x="16669" y="7714"/>
                </a:cubicBezTo>
                <a:cubicBezTo>
                  <a:pt x="16669" y="7768"/>
                  <a:pt x="16668" y="7787"/>
                  <a:pt x="16644" y="7838"/>
                </a:cubicBezTo>
                <a:cubicBezTo>
                  <a:pt x="16608" y="7915"/>
                  <a:pt x="16611" y="8002"/>
                  <a:pt x="16619" y="8062"/>
                </a:cubicBezTo>
                <a:cubicBezTo>
                  <a:pt x="16627" y="8122"/>
                  <a:pt x="16627" y="8136"/>
                  <a:pt x="16644" y="8186"/>
                </a:cubicBezTo>
                <a:cubicBezTo>
                  <a:pt x="16660" y="8234"/>
                  <a:pt x="16630" y="8235"/>
                  <a:pt x="16694" y="8235"/>
                </a:cubicBezTo>
                <a:cubicBezTo>
                  <a:pt x="16702" y="8235"/>
                  <a:pt x="16710" y="8235"/>
                  <a:pt x="16718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59720" y="3116160"/>
            <a:ext cx="1214280" cy="635040"/>
          </a:xfrm>
          <a:custGeom>
            <a:avLst/>
            <a:gdLst/>
            <a:ahLst/>
            <a:rect l="l" t="t" r="r" b="b"/>
            <a:pathLst>
              <a:path w="3375" h="1762">
                <a:moveTo>
                  <a:pt x="18951" y="9079"/>
                </a:moveTo>
                <a:cubicBezTo>
                  <a:pt x="18941" y="9155"/>
                  <a:pt x="18910" y="9207"/>
                  <a:pt x="18876" y="9277"/>
                </a:cubicBezTo>
                <a:cubicBezTo>
                  <a:pt x="18845" y="9341"/>
                  <a:pt x="18792" y="9431"/>
                  <a:pt x="18777" y="9500"/>
                </a:cubicBezTo>
                <a:cubicBezTo>
                  <a:pt x="18760" y="9577"/>
                  <a:pt x="18789" y="9629"/>
                  <a:pt x="18852" y="9674"/>
                </a:cubicBezTo>
                <a:cubicBezTo>
                  <a:pt x="18910" y="9716"/>
                  <a:pt x="18988" y="9705"/>
                  <a:pt x="19050" y="9674"/>
                </a:cubicBezTo>
                <a:cubicBezTo>
                  <a:pt x="19115" y="9641"/>
                  <a:pt x="19164" y="9588"/>
                  <a:pt x="19199" y="9525"/>
                </a:cubicBezTo>
                <a:cubicBezTo>
                  <a:pt x="19223" y="9483"/>
                  <a:pt x="19251" y="9350"/>
                  <a:pt x="19224" y="9302"/>
                </a:cubicBezTo>
                <a:cubicBezTo>
                  <a:pt x="19197" y="9254"/>
                  <a:pt x="19101" y="9167"/>
                  <a:pt x="19050" y="9153"/>
                </a:cubicBezTo>
                <a:cubicBezTo>
                  <a:pt x="19004" y="9140"/>
                  <a:pt x="18951" y="9128"/>
                  <a:pt x="18901" y="9128"/>
                </a:cubicBezTo>
                <a:cubicBezTo>
                  <a:pt x="18893" y="9128"/>
                  <a:pt x="18884" y="9128"/>
                  <a:pt x="18876" y="9128"/>
                </a:cubicBezTo>
              </a:path>
              <a:path w="3375" h="1762">
                <a:moveTo>
                  <a:pt x="19397" y="9550"/>
                </a:moveTo>
                <a:cubicBezTo>
                  <a:pt x="19397" y="9639"/>
                  <a:pt x="19397" y="9680"/>
                  <a:pt x="19397" y="9575"/>
                </a:cubicBezTo>
                <a:cubicBezTo>
                  <a:pt x="19397" y="9500"/>
                  <a:pt x="19390" y="9443"/>
                  <a:pt x="19422" y="9376"/>
                </a:cubicBezTo>
                <a:cubicBezTo>
                  <a:pt x="19470" y="9276"/>
                  <a:pt x="19536" y="9248"/>
                  <a:pt x="19645" y="9203"/>
                </a:cubicBezTo>
                <a:cubicBezTo>
                  <a:pt x="19696" y="9182"/>
                  <a:pt x="19748" y="9181"/>
                  <a:pt x="19794" y="9153"/>
                </a:cubicBezTo>
              </a:path>
              <a:path w="3375" h="1762">
                <a:moveTo>
                  <a:pt x="19844" y="9178"/>
                </a:moveTo>
                <a:cubicBezTo>
                  <a:pt x="19844" y="9312"/>
                  <a:pt x="19790" y="9594"/>
                  <a:pt x="19869" y="9699"/>
                </a:cubicBezTo>
              </a:path>
              <a:path w="3375" h="1762">
                <a:moveTo>
                  <a:pt x="19943" y="9004"/>
                </a:moveTo>
                <a:cubicBezTo>
                  <a:pt x="19968" y="8987"/>
                  <a:pt x="19992" y="8971"/>
                  <a:pt x="20017" y="8954"/>
                </a:cubicBezTo>
              </a:path>
              <a:path w="3375" h="1762">
                <a:moveTo>
                  <a:pt x="20340" y="9277"/>
                </a:moveTo>
                <a:cubicBezTo>
                  <a:pt x="20317" y="9306"/>
                  <a:pt x="20137" y="9494"/>
                  <a:pt x="20141" y="9575"/>
                </a:cubicBezTo>
                <a:cubicBezTo>
                  <a:pt x="20142" y="9604"/>
                  <a:pt x="20192" y="9696"/>
                  <a:pt x="20241" y="9674"/>
                </a:cubicBezTo>
                <a:cubicBezTo>
                  <a:pt x="20285" y="9654"/>
                  <a:pt x="20349" y="9634"/>
                  <a:pt x="20365" y="9575"/>
                </a:cubicBezTo>
                <a:cubicBezTo>
                  <a:pt x="20385" y="9502"/>
                  <a:pt x="20410" y="9377"/>
                  <a:pt x="20389" y="9302"/>
                </a:cubicBezTo>
                <a:cubicBezTo>
                  <a:pt x="20381" y="9302"/>
                  <a:pt x="20373" y="9302"/>
                  <a:pt x="20365" y="9302"/>
                </a:cubicBezTo>
                <a:cubicBezTo>
                  <a:pt x="20345" y="9354"/>
                  <a:pt x="20311" y="9471"/>
                  <a:pt x="20315" y="9525"/>
                </a:cubicBezTo>
                <a:cubicBezTo>
                  <a:pt x="20325" y="9648"/>
                  <a:pt x="20340" y="9769"/>
                  <a:pt x="20340" y="9897"/>
                </a:cubicBezTo>
                <a:cubicBezTo>
                  <a:pt x="20340" y="10027"/>
                  <a:pt x="20368" y="10139"/>
                  <a:pt x="20340" y="10269"/>
                </a:cubicBezTo>
                <a:cubicBezTo>
                  <a:pt x="20328" y="10323"/>
                  <a:pt x="20305" y="10413"/>
                  <a:pt x="20241" y="10418"/>
                </a:cubicBezTo>
                <a:cubicBezTo>
                  <a:pt x="20179" y="10422"/>
                  <a:pt x="20105" y="10369"/>
                  <a:pt x="20067" y="10319"/>
                </a:cubicBezTo>
                <a:cubicBezTo>
                  <a:pt x="20013" y="10248"/>
                  <a:pt x="20023" y="10153"/>
                  <a:pt x="20017" y="10071"/>
                </a:cubicBezTo>
              </a:path>
              <a:path w="3375" h="1762">
                <a:moveTo>
                  <a:pt x="20588" y="9376"/>
                </a:moveTo>
                <a:cubicBezTo>
                  <a:pt x="20588" y="9404"/>
                  <a:pt x="20641" y="9756"/>
                  <a:pt x="20588" y="9624"/>
                </a:cubicBezTo>
              </a:path>
              <a:path w="3375" h="1762">
                <a:moveTo>
                  <a:pt x="20613" y="9128"/>
                </a:moveTo>
                <a:cubicBezTo>
                  <a:pt x="20683" y="9068"/>
                  <a:pt x="20678" y="9069"/>
                  <a:pt x="20762" y="9103"/>
                </a:cubicBezTo>
              </a:path>
              <a:path w="3375" h="1762">
                <a:moveTo>
                  <a:pt x="20811" y="9649"/>
                </a:moveTo>
                <a:cubicBezTo>
                  <a:pt x="20811" y="9715"/>
                  <a:pt x="20831" y="9564"/>
                  <a:pt x="20836" y="9550"/>
                </a:cubicBezTo>
                <a:cubicBezTo>
                  <a:pt x="20863" y="9475"/>
                  <a:pt x="20921" y="9418"/>
                  <a:pt x="20985" y="9376"/>
                </a:cubicBezTo>
                <a:cubicBezTo>
                  <a:pt x="21048" y="9334"/>
                  <a:pt x="21082" y="9353"/>
                  <a:pt x="21134" y="9401"/>
                </a:cubicBezTo>
                <a:cubicBezTo>
                  <a:pt x="21169" y="9433"/>
                  <a:pt x="21200" y="9504"/>
                  <a:pt x="21208" y="9550"/>
                </a:cubicBezTo>
                <a:cubicBezTo>
                  <a:pt x="21218" y="9605"/>
                  <a:pt x="21183" y="9644"/>
                  <a:pt x="21183" y="9699"/>
                </a:cubicBezTo>
                <a:cubicBezTo>
                  <a:pt x="21183" y="9723"/>
                  <a:pt x="21183" y="9731"/>
                  <a:pt x="21208" y="9723"/>
                </a:cubicBezTo>
              </a:path>
              <a:path w="3375" h="1762">
                <a:moveTo>
                  <a:pt x="21382" y="9401"/>
                </a:moveTo>
                <a:cubicBezTo>
                  <a:pt x="21333" y="9477"/>
                  <a:pt x="21289" y="9534"/>
                  <a:pt x="21282" y="9624"/>
                </a:cubicBezTo>
                <a:cubicBezTo>
                  <a:pt x="21279" y="9669"/>
                  <a:pt x="21342" y="9714"/>
                  <a:pt x="21382" y="9723"/>
                </a:cubicBezTo>
                <a:cubicBezTo>
                  <a:pt x="21449" y="9738"/>
                  <a:pt x="21496" y="9687"/>
                  <a:pt x="21530" y="9649"/>
                </a:cubicBezTo>
                <a:cubicBezTo>
                  <a:pt x="21581" y="9592"/>
                  <a:pt x="21599" y="9545"/>
                  <a:pt x="21555" y="9475"/>
                </a:cubicBezTo>
                <a:cubicBezTo>
                  <a:pt x="21524" y="9425"/>
                  <a:pt x="21485" y="9405"/>
                  <a:pt x="21431" y="9401"/>
                </a:cubicBezTo>
                <a:cubicBezTo>
                  <a:pt x="21406" y="9401"/>
                  <a:pt x="21398" y="9401"/>
                  <a:pt x="21382" y="9401"/>
                </a:cubicBezTo>
              </a:path>
              <a:path w="3375" h="1762">
                <a:moveTo>
                  <a:pt x="21555" y="9451"/>
                </a:moveTo>
                <a:cubicBezTo>
                  <a:pt x="21579" y="9507"/>
                  <a:pt x="21592" y="9574"/>
                  <a:pt x="21630" y="9624"/>
                </a:cubicBezTo>
                <a:cubicBezTo>
                  <a:pt x="21685" y="9695"/>
                  <a:pt x="21750" y="9734"/>
                  <a:pt x="21828" y="9773"/>
                </a:cubicBezTo>
              </a:path>
              <a:path w="3375" h="1762">
                <a:moveTo>
                  <a:pt x="22051" y="8657"/>
                </a:moveTo>
                <a:cubicBezTo>
                  <a:pt x="22051" y="8784"/>
                  <a:pt x="22030" y="8903"/>
                  <a:pt x="22027" y="9029"/>
                </a:cubicBezTo>
                <a:cubicBezTo>
                  <a:pt x="22023" y="9167"/>
                  <a:pt x="22017" y="9322"/>
                  <a:pt x="22076" y="9451"/>
                </a:cubicBezTo>
                <a:cubicBezTo>
                  <a:pt x="22119" y="9546"/>
                  <a:pt x="22143" y="9592"/>
                  <a:pt x="22151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98800" y="3571920"/>
            <a:ext cx="679320" cy="608040"/>
          </a:xfrm>
          <a:custGeom>
            <a:avLst/>
            <a:gdLst/>
            <a:ahLst/>
            <a:rect l="l" t="t" r="r" b="b"/>
            <a:pathLst>
              <a:path w="1886" h="1688">
                <a:moveTo>
                  <a:pt x="5978" y="10170"/>
                </a:moveTo>
                <a:cubicBezTo>
                  <a:pt x="5994" y="10244"/>
                  <a:pt x="5985" y="10214"/>
                  <a:pt x="5978" y="10294"/>
                </a:cubicBezTo>
                <a:cubicBezTo>
                  <a:pt x="5968" y="10409"/>
                  <a:pt x="5975" y="10528"/>
                  <a:pt x="5953" y="10641"/>
                </a:cubicBezTo>
                <a:cubicBezTo>
                  <a:pt x="5930" y="10758"/>
                  <a:pt x="5918" y="10869"/>
                  <a:pt x="5904" y="10988"/>
                </a:cubicBezTo>
                <a:cubicBezTo>
                  <a:pt x="5889" y="11113"/>
                  <a:pt x="5859" y="11186"/>
                  <a:pt x="5829" y="11286"/>
                </a:cubicBezTo>
                <a:cubicBezTo>
                  <a:pt x="5829" y="11294"/>
                  <a:pt x="5829" y="11303"/>
                  <a:pt x="5829" y="11311"/>
                </a:cubicBezTo>
                <a:cubicBezTo>
                  <a:pt x="5829" y="11215"/>
                  <a:pt x="5844" y="11130"/>
                  <a:pt x="5854" y="11038"/>
                </a:cubicBezTo>
                <a:cubicBezTo>
                  <a:pt x="5873" y="10868"/>
                  <a:pt x="5874" y="10687"/>
                  <a:pt x="5879" y="10517"/>
                </a:cubicBezTo>
                <a:cubicBezTo>
                  <a:pt x="5882" y="10405"/>
                  <a:pt x="5899" y="10305"/>
                  <a:pt x="5904" y="10195"/>
                </a:cubicBezTo>
                <a:cubicBezTo>
                  <a:pt x="5908" y="10118"/>
                  <a:pt x="5924" y="10053"/>
                  <a:pt x="5978" y="9996"/>
                </a:cubicBezTo>
                <a:cubicBezTo>
                  <a:pt x="6039" y="9932"/>
                  <a:pt x="6047" y="9905"/>
                  <a:pt x="6127" y="9947"/>
                </a:cubicBezTo>
                <a:cubicBezTo>
                  <a:pt x="6198" y="9984"/>
                  <a:pt x="6208" y="10064"/>
                  <a:pt x="6251" y="10120"/>
                </a:cubicBezTo>
                <a:cubicBezTo>
                  <a:pt x="6316" y="10205"/>
                  <a:pt x="6384" y="10307"/>
                  <a:pt x="6400" y="10418"/>
                </a:cubicBezTo>
                <a:cubicBezTo>
                  <a:pt x="6418" y="10542"/>
                  <a:pt x="6458" y="10665"/>
                  <a:pt x="6474" y="10790"/>
                </a:cubicBezTo>
                <a:cubicBezTo>
                  <a:pt x="6488" y="10898"/>
                  <a:pt x="6511" y="11003"/>
                  <a:pt x="6524" y="11112"/>
                </a:cubicBezTo>
                <a:cubicBezTo>
                  <a:pt x="6532" y="11182"/>
                  <a:pt x="6527" y="11220"/>
                  <a:pt x="6548" y="11286"/>
                </a:cubicBezTo>
                <a:cubicBezTo>
                  <a:pt x="6567" y="11346"/>
                  <a:pt x="6529" y="11247"/>
                  <a:pt x="6524" y="11237"/>
                </a:cubicBezTo>
              </a:path>
              <a:path w="1886" h="1688">
                <a:moveTo>
                  <a:pt x="5904" y="10964"/>
                </a:moveTo>
                <a:cubicBezTo>
                  <a:pt x="5981" y="10989"/>
                  <a:pt x="6051" y="10969"/>
                  <a:pt x="6127" y="10988"/>
                </a:cubicBezTo>
                <a:cubicBezTo>
                  <a:pt x="6204" y="11008"/>
                  <a:pt x="6266" y="11013"/>
                  <a:pt x="6350" y="11013"/>
                </a:cubicBezTo>
                <a:cubicBezTo>
                  <a:pt x="6367" y="11013"/>
                  <a:pt x="6383" y="11013"/>
                  <a:pt x="6400" y="11013"/>
                </a:cubicBezTo>
              </a:path>
              <a:path w="1886" h="1688">
                <a:moveTo>
                  <a:pt x="6772" y="10988"/>
                </a:moveTo>
                <a:cubicBezTo>
                  <a:pt x="6917" y="10971"/>
                  <a:pt x="6893" y="10979"/>
                  <a:pt x="6995" y="11013"/>
                </a:cubicBezTo>
                <a:cubicBezTo>
                  <a:pt x="7036" y="11027"/>
                  <a:pt x="7026" y="11054"/>
                  <a:pt x="6995" y="11088"/>
                </a:cubicBezTo>
                <a:cubicBezTo>
                  <a:pt x="6955" y="11132"/>
                  <a:pt x="6921" y="11142"/>
                  <a:pt x="6871" y="11162"/>
                </a:cubicBezTo>
                <a:cubicBezTo>
                  <a:pt x="6828" y="11179"/>
                  <a:pt x="6713" y="11180"/>
                  <a:pt x="6747" y="11212"/>
                </a:cubicBezTo>
                <a:cubicBezTo>
                  <a:pt x="6794" y="11257"/>
                  <a:pt x="6958" y="11189"/>
                  <a:pt x="7020" y="11237"/>
                </a:cubicBezTo>
                <a:cubicBezTo>
                  <a:pt x="7045" y="11257"/>
                  <a:pt x="7067" y="11305"/>
                  <a:pt x="7069" y="11336"/>
                </a:cubicBezTo>
                <a:cubicBezTo>
                  <a:pt x="7074" y="11439"/>
                  <a:pt x="7038" y="11467"/>
                  <a:pt x="6970" y="11534"/>
                </a:cubicBezTo>
                <a:cubicBezTo>
                  <a:pt x="6906" y="11597"/>
                  <a:pt x="6865" y="11557"/>
                  <a:pt x="6796" y="11584"/>
                </a:cubicBezTo>
                <a:cubicBezTo>
                  <a:pt x="6767" y="11595"/>
                  <a:pt x="6696" y="11608"/>
                  <a:pt x="6672" y="11559"/>
                </a:cubicBezTo>
                <a:cubicBezTo>
                  <a:pt x="6661" y="11537"/>
                  <a:pt x="6672" y="11457"/>
                  <a:pt x="6672" y="11435"/>
                </a:cubicBezTo>
              </a:path>
              <a:path w="1886" h="1688">
                <a:moveTo>
                  <a:pt x="7392" y="10914"/>
                </a:moveTo>
                <a:cubicBezTo>
                  <a:pt x="7497" y="10929"/>
                  <a:pt x="7594" y="10956"/>
                  <a:pt x="7689" y="10964"/>
                </a:cubicBezTo>
                <a:cubicBezTo>
                  <a:pt x="7714" y="10964"/>
                  <a:pt x="7722" y="10964"/>
                  <a:pt x="7714" y="10988"/>
                </a:cubicBezTo>
              </a:path>
              <a:path w="1886" h="1688">
                <a:moveTo>
                  <a:pt x="7466" y="11137"/>
                </a:moveTo>
                <a:cubicBezTo>
                  <a:pt x="7478" y="11218"/>
                  <a:pt x="7508" y="11218"/>
                  <a:pt x="7590" y="11237"/>
                </a:cubicBezTo>
                <a:cubicBezTo>
                  <a:pt x="7598" y="11237"/>
                  <a:pt x="7607" y="11237"/>
                  <a:pt x="7615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28960" y="3732120"/>
            <a:ext cx="1509840" cy="447840"/>
          </a:xfrm>
          <a:custGeom>
            <a:avLst/>
            <a:gdLst/>
            <a:ahLst/>
            <a:rect l="l" t="t" r="r" b="b"/>
            <a:pathLst>
              <a:path w="4193" h="1242">
                <a:moveTo>
                  <a:pt x="8210" y="10443"/>
                </a:moveTo>
                <a:cubicBezTo>
                  <a:pt x="8244" y="10432"/>
                  <a:pt x="8241" y="10408"/>
                  <a:pt x="8285" y="10393"/>
                </a:cubicBezTo>
                <a:cubicBezTo>
                  <a:pt x="8314" y="10383"/>
                  <a:pt x="8356" y="10370"/>
                  <a:pt x="8384" y="10368"/>
                </a:cubicBezTo>
                <a:cubicBezTo>
                  <a:pt x="8430" y="10365"/>
                  <a:pt x="8495" y="10370"/>
                  <a:pt x="8533" y="10393"/>
                </a:cubicBezTo>
                <a:cubicBezTo>
                  <a:pt x="8604" y="10435"/>
                  <a:pt x="8588" y="10490"/>
                  <a:pt x="8582" y="10542"/>
                </a:cubicBezTo>
                <a:cubicBezTo>
                  <a:pt x="8570" y="10644"/>
                  <a:pt x="8524" y="10708"/>
                  <a:pt x="8434" y="10765"/>
                </a:cubicBezTo>
                <a:cubicBezTo>
                  <a:pt x="8379" y="10800"/>
                  <a:pt x="8332" y="10817"/>
                  <a:pt x="8285" y="10864"/>
                </a:cubicBezTo>
                <a:cubicBezTo>
                  <a:pt x="8255" y="10893"/>
                  <a:pt x="8244" y="10912"/>
                  <a:pt x="8235" y="10939"/>
                </a:cubicBezTo>
                <a:cubicBezTo>
                  <a:pt x="8271" y="10939"/>
                  <a:pt x="8363" y="10910"/>
                  <a:pt x="8384" y="10914"/>
                </a:cubicBezTo>
                <a:cubicBezTo>
                  <a:pt x="8426" y="10921"/>
                  <a:pt x="8473" y="10954"/>
                  <a:pt x="8508" y="10988"/>
                </a:cubicBezTo>
                <a:cubicBezTo>
                  <a:pt x="8545" y="11025"/>
                  <a:pt x="8598" y="11110"/>
                  <a:pt x="8607" y="11162"/>
                </a:cubicBezTo>
                <a:cubicBezTo>
                  <a:pt x="8621" y="11241"/>
                  <a:pt x="8603" y="11320"/>
                  <a:pt x="8558" y="11385"/>
                </a:cubicBezTo>
                <a:cubicBezTo>
                  <a:pt x="8523" y="11435"/>
                  <a:pt x="8502" y="11482"/>
                  <a:pt x="8434" y="11485"/>
                </a:cubicBezTo>
                <a:cubicBezTo>
                  <a:pt x="8386" y="11487"/>
                  <a:pt x="8279" y="11492"/>
                  <a:pt x="8235" y="11460"/>
                </a:cubicBezTo>
                <a:cubicBezTo>
                  <a:pt x="8202" y="11435"/>
                  <a:pt x="8139" y="11378"/>
                  <a:pt x="8136" y="11336"/>
                </a:cubicBezTo>
                <a:cubicBezTo>
                  <a:pt x="8136" y="11319"/>
                  <a:pt x="8136" y="11303"/>
                  <a:pt x="8136" y="11286"/>
                </a:cubicBezTo>
              </a:path>
              <a:path w="4193" h="1242">
                <a:moveTo>
                  <a:pt x="8954" y="10567"/>
                </a:moveTo>
                <a:cubicBezTo>
                  <a:pt x="8944" y="10648"/>
                  <a:pt x="8909" y="10713"/>
                  <a:pt x="8880" y="10790"/>
                </a:cubicBezTo>
                <a:cubicBezTo>
                  <a:pt x="8842" y="10891"/>
                  <a:pt x="8830" y="10954"/>
                  <a:pt x="8830" y="11063"/>
                </a:cubicBezTo>
                <a:cubicBezTo>
                  <a:pt x="8830" y="11162"/>
                  <a:pt x="8830" y="11247"/>
                  <a:pt x="8880" y="11336"/>
                </a:cubicBezTo>
                <a:cubicBezTo>
                  <a:pt x="8914" y="11396"/>
                  <a:pt x="8961" y="11439"/>
                  <a:pt x="9029" y="11460"/>
                </a:cubicBezTo>
                <a:cubicBezTo>
                  <a:pt x="9094" y="11480"/>
                  <a:pt x="9181" y="11427"/>
                  <a:pt x="9227" y="11385"/>
                </a:cubicBezTo>
                <a:cubicBezTo>
                  <a:pt x="9309" y="11309"/>
                  <a:pt x="9344" y="11203"/>
                  <a:pt x="9327" y="11088"/>
                </a:cubicBezTo>
                <a:cubicBezTo>
                  <a:pt x="9313" y="10994"/>
                  <a:pt x="9293" y="10902"/>
                  <a:pt x="9252" y="10815"/>
                </a:cubicBezTo>
                <a:cubicBezTo>
                  <a:pt x="9218" y="10743"/>
                  <a:pt x="9184" y="10697"/>
                  <a:pt x="9128" y="10641"/>
                </a:cubicBezTo>
                <a:cubicBezTo>
                  <a:pt x="9095" y="10608"/>
                  <a:pt x="9067" y="10601"/>
                  <a:pt x="9054" y="10641"/>
                </a:cubicBezTo>
              </a:path>
              <a:path w="4193" h="1242">
                <a:moveTo>
                  <a:pt x="9575" y="11038"/>
                </a:moveTo>
                <a:cubicBezTo>
                  <a:pt x="9664" y="11038"/>
                  <a:pt x="9741" y="11044"/>
                  <a:pt x="9823" y="11013"/>
                </a:cubicBezTo>
              </a:path>
              <a:path w="4193" h="1242">
                <a:moveTo>
                  <a:pt x="10071" y="10616"/>
                </a:moveTo>
                <a:cubicBezTo>
                  <a:pt x="10142" y="10552"/>
                  <a:pt x="10158" y="10524"/>
                  <a:pt x="10244" y="10517"/>
                </a:cubicBezTo>
                <a:cubicBezTo>
                  <a:pt x="10291" y="10513"/>
                  <a:pt x="10355" y="10519"/>
                  <a:pt x="10393" y="10542"/>
                </a:cubicBezTo>
                <a:cubicBezTo>
                  <a:pt x="10435" y="10567"/>
                  <a:pt x="10466" y="10619"/>
                  <a:pt x="10468" y="10666"/>
                </a:cubicBezTo>
                <a:cubicBezTo>
                  <a:pt x="10472" y="10791"/>
                  <a:pt x="10447" y="10858"/>
                  <a:pt x="10393" y="10964"/>
                </a:cubicBezTo>
                <a:cubicBezTo>
                  <a:pt x="10337" y="11076"/>
                  <a:pt x="10282" y="11168"/>
                  <a:pt x="10195" y="11261"/>
                </a:cubicBezTo>
                <a:cubicBezTo>
                  <a:pt x="10148" y="11311"/>
                  <a:pt x="10114" y="11359"/>
                  <a:pt x="10071" y="11410"/>
                </a:cubicBezTo>
                <a:cubicBezTo>
                  <a:pt x="10042" y="11445"/>
                  <a:pt x="10001" y="11463"/>
                  <a:pt x="9996" y="11509"/>
                </a:cubicBezTo>
                <a:cubicBezTo>
                  <a:pt x="9996" y="11517"/>
                  <a:pt x="9996" y="11526"/>
                  <a:pt x="9996" y="11534"/>
                </a:cubicBezTo>
                <a:cubicBezTo>
                  <a:pt x="10026" y="11557"/>
                  <a:pt x="10058" y="11581"/>
                  <a:pt x="10096" y="11584"/>
                </a:cubicBezTo>
                <a:cubicBezTo>
                  <a:pt x="10186" y="11591"/>
                  <a:pt x="10286" y="11594"/>
                  <a:pt x="10368" y="11559"/>
                </a:cubicBezTo>
                <a:cubicBezTo>
                  <a:pt x="10418" y="11534"/>
                  <a:pt x="10435" y="11526"/>
                  <a:pt x="10468" y="11509"/>
                </a:cubicBezTo>
              </a:path>
              <a:path w="4193" h="1242">
                <a:moveTo>
                  <a:pt x="10716" y="11013"/>
                </a:moveTo>
                <a:cubicBezTo>
                  <a:pt x="10793" y="10984"/>
                  <a:pt x="10854" y="10988"/>
                  <a:pt x="10939" y="10988"/>
                </a:cubicBezTo>
                <a:cubicBezTo>
                  <a:pt x="10964" y="10988"/>
                  <a:pt x="10972" y="10988"/>
                  <a:pt x="10988" y="10988"/>
                </a:cubicBezTo>
              </a:path>
              <a:path w="4193" h="1242">
                <a:moveTo>
                  <a:pt x="10691" y="11237"/>
                </a:moveTo>
                <a:cubicBezTo>
                  <a:pt x="10756" y="11286"/>
                  <a:pt x="10823" y="11308"/>
                  <a:pt x="10914" y="11286"/>
                </a:cubicBezTo>
                <a:cubicBezTo>
                  <a:pt x="10931" y="11278"/>
                  <a:pt x="10947" y="11269"/>
                  <a:pt x="10964" y="11261"/>
                </a:cubicBezTo>
              </a:path>
              <a:path w="4193" h="1242">
                <a:moveTo>
                  <a:pt x="11261" y="10691"/>
                </a:moveTo>
                <a:cubicBezTo>
                  <a:pt x="11314" y="10593"/>
                  <a:pt x="11321" y="10547"/>
                  <a:pt x="11435" y="10542"/>
                </a:cubicBezTo>
                <a:cubicBezTo>
                  <a:pt x="11480" y="10540"/>
                  <a:pt x="11597" y="10552"/>
                  <a:pt x="11633" y="10592"/>
                </a:cubicBezTo>
                <a:cubicBezTo>
                  <a:pt x="11668" y="10631"/>
                  <a:pt x="11661" y="10698"/>
                  <a:pt x="11633" y="10740"/>
                </a:cubicBezTo>
                <a:cubicBezTo>
                  <a:pt x="11596" y="10796"/>
                  <a:pt x="11565" y="10853"/>
                  <a:pt x="11534" y="10914"/>
                </a:cubicBezTo>
                <a:cubicBezTo>
                  <a:pt x="11493" y="10996"/>
                  <a:pt x="11446" y="11070"/>
                  <a:pt x="11385" y="11137"/>
                </a:cubicBezTo>
                <a:cubicBezTo>
                  <a:pt x="11348" y="11177"/>
                  <a:pt x="11275" y="11233"/>
                  <a:pt x="11261" y="11286"/>
                </a:cubicBezTo>
                <a:cubicBezTo>
                  <a:pt x="11249" y="11332"/>
                  <a:pt x="11202" y="11363"/>
                  <a:pt x="11212" y="11410"/>
                </a:cubicBezTo>
                <a:cubicBezTo>
                  <a:pt x="11218" y="11436"/>
                  <a:pt x="11291" y="11478"/>
                  <a:pt x="11311" y="11485"/>
                </a:cubicBezTo>
                <a:cubicBezTo>
                  <a:pt x="11394" y="11513"/>
                  <a:pt x="11506" y="11487"/>
                  <a:pt x="11584" y="11460"/>
                </a:cubicBezTo>
                <a:cubicBezTo>
                  <a:pt x="11665" y="11431"/>
                  <a:pt x="11693" y="11416"/>
                  <a:pt x="11757" y="11361"/>
                </a:cubicBezTo>
              </a:path>
              <a:path w="4193" h="1242">
                <a:moveTo>
                  <a:pt x="12303" y="10716"/>
                </a:moveTo>
                <a:cubicBezTo>
                  <a:pt x="12262" y="10611"/>
                  <a:pt x="12216" y="10586"/>
                  <a:pt x="12105" y="10567"/>
                </a:cubicBezTo>
                <a:cubicBezTo>
                  <a:pt x="12080" y="10563"/>
                  <a:pt x="11979" y="10581"/>
                  <a:pt x="11956" y="10592"/>
                </a:cubicBezTo>
                <a:cubicBezTo>
                  <a:pt x="11876" y="10631"/>
                  <a:pt x="11922" y="10688"/>
                  <a:pt x="11931" y="10740"/>
                </a:cubicBezTo>
                <a:cubicBezTo>
                  <a:pt x="11952" y="10858"/>
                  <a:pt x="12042" y="10981"/>
                  <a:pt x="12105" y="11088"/>
                </a:cubicBezTo>
                <a:cubicBezTo>
                  <a:pt x="12166" y="11191"/>
                  <a:pt x="12216" y="11270"/>
                  <a:pt x="12254" y="11385"/>
                </a:cubicBezTo>
                <a:cubicBezTo>
                  <a:pt x="12267" y="11423"/>
                  <a:pt x="12304" y="11542"/>
                  <a:pt x="12278" y="11584"/>
                </a:cubicBezTo>
                <a:cubicBezTo>
                  <a:pt x="12250" y="11584"/>
                  <a:pt x="12240" y="11587"/>
                  <a:pt x="12229" y="11609"/>
                </a:cubicBezTo>
                <a:cubicBezTo>
                  <a:pt x="12184" y="11583"/>
                  <a:pt x="12134" y="11555"/>
                  <a:pt x="12105" y="11509"/>
                </a:cubicBezTo>
                <a:cubicBezTo>
                  <a:pt x="12055" y="11431"/>
                  <a:pt x="12077" y="11364"/>
                  <a:pt x="12055" y="11286"/>
                </a:cubicBezTo>
                <a:cubicBezTo>
                  <a:pt x="12032" y="11205"/>
                  <a:pt x="12061" y="11171"/>
                  <a:pt x="12080" y="11088"/>
                </a:cubicBezTo>
                <a:cubicBezTo>
                  <a:pt x="12095" y="11022"/>
                  <a:pt x="12137" y="10968"/>
                  <a:pt x="12179" y="10914"/>
                </a:cubicBezTo>
                <a:cubicBezTo>
                  <a:pt x="12214" y="10868"/>
                  <a:pt x="12263" y="10834"/>
                  <a:pt x="12303" y="10790"/>
                </a:cubicBezTo>
                <a:cubicBezTo>
                  <a:pt x="12345" y="10743"/>
                  <a:pt x="12327" y="10722"/>
                  <a:pt x="12303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6280" y="3813120"/>
            <a:ext cx="920880" cy="704880"/>
          </a:xfrm>
          <a:custGeom>
            <a:avLst/>
            <a:gdLst/>
            <a:ahLst/>
            <a:rect l="l" t="t" r="r" b="b"/>
            <a:pathLst>
              <a:path w="2556" h="1960">
                <a:moveTo>
                  <a:pt x="16197" y="11212"/>
                </a:moveTo>
                <a:cubicBezTo>
                  <a:pt x="16189" y="11315"/>
                  <a:pt x="16191" y="11432"/>
                  <a:pt x="16173" y="11534"/>
                </a:cubicBezTo>
                <a:cubicBezTo>
                  <a:pt x="16161" y="11600"/>
                  <a:pt x="16172" y="11721"/>
                  <a:pt x="16148" y="11782"/>
                </a:cubicBezTo>
                <a:cubicBezTo>
                  <a:pt x="16140" y="11790"/>
                  <a:pt x="16131" y="11799"/>
                  <a:pt x="16123" y="11807"/>
                </a:cubicBezTo>
                <a:cubicBezTo>
                  <a:pt x="16123" y="11600"/>
                  <a:pt x="16111" y="11392"/>
                  <a:pt x="16148" y="11187"/>
                </a:cubicBezTo>
                <a:cubicBezTo>
                  <a:pt x="16170" y="11064"/>
                  <a:pt x="16188" y="10933"/>
                  <a:pt x="16222" y="10815"/>
                </a:cubicBezTo>
                <a:cubicBezTo>
                  <a:pt x="16242" y="10745"/>
                  <a:pt x="16272" y="10671"/>
                  <a:pt x="16321" y="10616"/>
                </a:cubicBezTo>
                <a:cubicBezTo>
                  <a:pt x="16329" y="10608"/>
                  <a:pt x="16338" y="10600"/>
                  <a:pt x="16346" y="10592"/>
                </a:cubicBezTo>
                <a:cubicBezTo>
                  <a:pt x="16402" y="10600"/>
                  <a:pt x="16436" y="10603"/>
                  <a:pt x="16470" y="10666"/>
                </a:cubicBezTo>
                <a:cubicBezTo>
                  <a:pt x="16527" y="10771"/>
                  <a:pt x="16541" y="10922"/>
                  <a:pt x="16570" y="11038"/>
                </a:cubicBezTo>
                <a:cubicBezTo>
                  <a:pt x="16610" y="11201"/>
                  <a:pt x="16650" y="11368"/>
                  <a:pt x="16669" y="11534"/>
                </a:cubicBezTo>
                <a:cubicBezTo>
                  <a:pt x="16680" y="11627"/>
                  <a:pt x="16704" y="11717"/>
                  <a:pt x="16718" y="11807"/>
                </a:cubicBezTo>
                <a:cubicBezTo>
                  <a:pt x="16726" y="11858"/>
                  <a:pt x="16706" y="11861"/>
                  <a:pt x="16694" y="11881"/>
                </a:cubicBezTo>
              </a:path>
              <a:path w="2556" h="1960">
                <a:moveTo>
                  <a:pt x="16073" y="11534"/>
                </a:moveTo>
                <a:cubicBezTo>
                  <a:pt x="16183" y="11578"/>
                  <a:pt x="16276" y="11605"/>
                  <a:pt x="16396" y="11609"/>
                </a:cubicBezTo>
                <a:cubicBezTo>
                  <a:pt x="16487" y="11609"/>
                  <a:pt x="16512" y="11609"/>
                  <a:pt x="16570" y="11609"/>
                </a:cubicBezTo>
              </a:path>
              <a:path w="2556" h="1960">
                <a:moveTo>
                  <a:pt x="16991" y="11609"/>
                </a:moveTo>
                <a:cubicBezTo>
                  <a:pt x="17008" y="11747"/>
                  <a:pt x="17016" y="11868"/>
                  <a:pt x="17016" y="12005"/>
                </a:cubicBezTo>
                <a:cubicBezTo>
                  <a:pt x="17016" y="12063"/>
                  <a:pt x="17037" y="12381"/>
                  <a:pt x="17016" y="12278"/>
                </a:cubicBezTo>
                <a:cubicBezTo>
                  <a:pt x="17008" y="12245"/>
                  <a:pt x="16999" y="12212"/>
                  <a:pt x="16991" y="12179"/>
                </a:cubicBezTo>
              </a:path>
              <a:path w="2556" h="1960">
                <a:moveTo>
                  <a:pt x="17214" y="11708"/>
                </a:moveTo>
                <a:cubicBezTo>
                  <a:pt x="17179" y="11770"/>
                  <a:pt x="17135" y="11806"/>
                  <a:pt x="17090" y="11857"/>
                </a:cubicBezTo>
                <a:cubicBezTo>
                  <a:pt x="17046" y="11907"/>
                  <a:pt x="17049" y="11912"/>
                  <a:pt x="17016" y="11956"/>
                </a:cubicBezTo>
                <a:cubicBezTo>
                  <a:pt x="17054" y="12006"/>
                  <a:pt x="17065" y="12036"/>
                  <a:pt x="17115" y="12080"/>
                </a:cubicBezTo>
                <a:cubicBezTo>
                  <a:pt x="17178" y="12135"/>
                  <a:pt x="17241" y="12188"/>
                  <a:pt x="17314" y="12229"/>
                </a:cubicBezTo>
                <a:cubicBezTo>
                  <a:pt x="17357" y="12251"/>
                  <a:pt x="17368" y="12255"/>
                  <a:pt x="17388" y="12278"/>
                </a:cubicBezTo>
              </a:path>
              <a:path w="2556" h="1960">
                <a:moveTo>
                  <a:pt x="17562" y="11782"/>
                </a:moveTo>
                <a:cubicBezTo>
                  <a:pt x="17543" y="11917"/>
                  <a:pt x="17533" y="12023"/>
                  <a:pt x="17562" y="12154"/>
                </a:cubicBezTo>
                <a:cubicBezTo>
                  <a:pt x="17574" y="12206"/>
                  <a:pt x="17584" y="12308"/>
                  <a:pt x="17611" y="12353"/>
                </a:cubicBezTo>
                <a:cubicBezTo>
                  <a:pt x="17633" y="12375"/>
                  <a:pt x="17642" y="12380"/>
                  <a:pt x="17636" y="12402"/>
                </a:cubicBezTo>
              </a:path>
              <a:path w="2556" h="1960">
                <a:moveTo>
                  <a:pt x="17388" y="12055"/>
                </a:moveTo>
                <a:cubicBezTo>
                  <a:pt x="17468" y="12062"/>
                  <a:pt x="17553" y="12097"/>
                  <a:pt x="17636" y="12080"/>
                </a:cubicBezTo>
                <a:cubicBezTo>
                  <a:pt x="17701" y="12058"/>
                  <a:pt x="17716" y="12050"/>
                  <a:pt x="17760" y="12055"/>
                </a:cubicBezTo>
              </a:path>
              <a:path w="2556" h="1960">
                <a:moveTo>
                  <a:pt x="17983" y="11757"/>
                </a:moveTo>
                <a:cubicBezTo>
                  <a:pt x="17965" y="11929"/>
                  <a:pt x="17966" y="12042"/>
                  <a:pt x="17983" y="12204"/>
                </a:cubicBezTo>
                <a:cubicBezTo>
                  <a:pt x="17993" y="12298"/>
                  <a:pt x="18019" y="12387"/>
                  <a:pt x="18033" y="12477"/>
                </a:cubicBezTo>
                <a:cubicBezTo>
                  <a:pt x="18033" y="12521"/>
                  <a:pt x="18030" y="12535"/>
                  <a:pt x="18058" y="12551"/>
                </a:cubicBezTo>
                <a:cubicBezTo>
                  <a:pt x="18067" y="12514"/>
                  <a:pt x="18086" y="12490"/>
                  <a:pt x="18107" y="12452"/>
                </a:cubicBezTo>
              </a:path>
              <a:path w="2556" h="1960">
                <a:moveTo>
                  <a:pt x="18331" y="11559"/>
                </a:moveTo>
                <a:cubicBezTo>
                  <a:pt x="18435" y="11559"/>
                  <a:pt x="18517" y="11555"/>
                  <a:pt x="18604" y="11584"/>
                </a:cubicBezTo>
                <a:cubicBezTo>
                  <a:pt x="18612" y="11584"/>
                  <a:pt x="18620" y="11584"/>
                  <a:pt x="18628" y="11584"/>
                </a:cubicBezTo>
              </a:path>
              <a:path w="2556" h="1960">
                <a:moveTo>
                  <a:pt x="18380" y="11782"/>
                </a:moveTo>
                <a:cubicBezTo>
                  <a:pt x="18480" y="11829"/>
                  <a:pt x="18482" y="11832"/>
                  <a:pt x="18579" y="11832"/>
                </a:cubicBezTo>
                <a:cubicBezTo>
                  <a:pt x="18595" y="11832"/>
                  <a:pt x="18612" y="11832"/>
                  <a:pt x="18628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67360" y="4071960"/>
            <a:ext cx="1436760" cy="519120"/>
          </a:xfrm>
          <a:custGeom>
            <a:avLst/>
            <a:gdLst/>
            <a:ahLst/>
            <a:rect l="l" t="t" r="r" b="b"/>
            <a:pathLst>
              <a:path w="3994" h="1440">
                <a:moveTo>
                  <a:pt x="19124" y="11658"/>
                </a:moveTo>
                <a:cubicBezTo>
                  <a:pt x="19096" y="11722"/>
                  <a:pt x="19035" y="11836"/>
                  <a:pt x="19075" y="11906"/>
                </a:cubicBezTo>
                <a:cubicBezTo>
                  <a:pt x="19112" y="11970"/>
                  <a:pt x="19205" y="12016"/>
                  <a:pt x="19273" y="12030"/>
                </a:cubicBezTo>
                <a:cubicBezTo>
                  <a:pt x="19349" y="12046"/>
                  <a:pt x="19414" y="11988"/>
                  <a:pt x="19447" y="11931"/>
                </a:cubicBezTo>
                <a:cubicBezTo>
                  <a:pt x="19483" y="11869"/>
                  <a:pt x="19496" y="11795"/>
                  <a:pt x="19472" y="11733"/>
                </a:cubicBezTo>
                <a:cubicBezTo>
                  <a:pt x="19436" y="11640"/>
                  <a:pt x="19395" y="11589"/>
                  <a:pt x="19298" y="11559"/>
                </a:cubicBezTo>
                <a:cubicBezTo>
                  <a:pt x="19225" y="11536"/>
                  <a:pt x="19184" y="11544"/>
                  <a:pt x="19124" y="11559"/>
                </a:cubicBezTo>
              </a:path>
              <a:path w="3994" h="1440">
                <a:moveTo>
                  <a:pt x="19571" y="11733"/>
                </a:moveTo>
                <a:cubicBezTo>
                  <a:pt x="19588" y="11828"/>
                  <a:pt x="19600" y="11916"/>
                  <a:pt x="19621" y="12005"/>
                </a:cubicBezTo>
                <a:cubicBezTo>
                  <a:pt x="19621" y="12013"/>
                  <a:pt x="19621" y="12022"/>
                  <a:pt x="19621" y="12030"/>
                </a:cubicBezTo>
                <a:cubicBezTo>
                  <a:pt x="19588" y="11975"/>
                  <a:pt x="19596" y="11925"/>
                  <a:pt x="19596" y="11857"/>
                </a:cubicBezTo>
                <a:cubicBezTo>
                  <a:pt x="19596" y="11781"/>
                  <a:pt x="19598" y="11703"/>
                  <a:pt x="19621" y="11633"/>
                </a:cubicBezTo>
                <a:cubicBezTo>
                  <a:pt x="19649" y="11546"/>
                  <a:pt x="19681" y="11516"/>
                  <a:pt x="19769" y="11509"/>
                </a:cubicBezTo>
                <a:cubicBezTo>
                  <a:pt x="19802" y="11509"/>
                  <a:pt x="19819" y="11509"/>
                  <a:pt x="19844" y="11509"/>
                </a:cubicBezTo>
              </a:path>
              <a:path w="3994" h="1440">
                <a:moveTo>
                  <a:pt x="19918" y="11609"/>
                </a:moveTo>
                <a:cubicBezTo>
                  <a:pt x="19928" y="11695"/>
                  <a:pt x="19933" y="11890"/>
                  <a:pt x="19968" y="11981"/>
                </a:cubicBezTo>
                <a:cubicBezTo>
                  <a:pt x="19977" y="12005"/>
                  <a:pt x="20032" y="12048"/>
                  <a:pt x="19968" y="12005"/>
                </a:cubicBezTo>
              </a:path>
              <a:path w="3994" h="1440">
                <a:moveTo>
                  <a:pt x="19968" y="11361"/>
                </a:moveTo>
                <a:cubicBezTo>
                  <a:pt x="19988" y="11321"/>
                  <a:pt x="19986" y="11304"/>
                  <a:pt x="20017" y="11311"/>
                </a:cubicBezTo>
              </a:path>
              <a:path w="3994" h="1440">
                <a:moveTo>
                  <a:pt x="20241" y="11584"/>
                </a:moveTo>
                <a:cubicBezTo>
                  <a:pt x="20209" y="11657"/>
                  <a:pt x="20101" y="11824"/>
                  <a:pt x="20092" y="11906"/>
                </a:cubicBezTo>
                <a:cubicBezTo>
                  <a:pt x="20085" y="11965"/>
                  <a:pt x="20098" y="12050"/>
                  <a:pt x="20166" y="12055"/>
                </a:cubicBezTo>
                <a:cubicBezTo>
                  <a:pt x="20238" y="12060"/>
                  <a:pt x="20259" y="12015"/>
                  <a:pt x="20290" y="11956"/>
                </a:cubicBezTo>
                <a:cubicBezTo>
                  <a:pt x="20324" y="11891"/>
                  <a:pt x="20335" y="11806"/>
                  <a:pt x="20340" y="11733"/>
                </a:cubicBezTo>
                <a:cubicBezTo>
                  <a:pt x="20342" y="11708"/>
                  <a:pt x="20340" y="11683"/>
                  <a:pt x="20340" y="11658"/>
                </a:cubicBezTo>
                <a:cubicBezTo>
                  <a:pt x="20298" y="11672"/>
                  <a:pt x="20292" y="11728"/>
                  <a:pt x="20290" y="11782"/>
                </a:cubicBezTo>
                <a:cubicBezTo>
                  <a:pt x="20285" y="11902"/>
                  <a:pt x="20305" y="12012"/>
                  <a:pt x="20315" y="12129"/>
                </a:cubicBezTo>
                <a:cubicBezTo>
                  <a:pt x="20326" y="12259"/>
                  <a:pt x="20323" y="12400"/>
                  <a:pt x="20290" y="12526"/>
                </a:cubicBezTo>
                <a:cubicBezTo>
                  <a:pt x="20267" y="12615"/>
                  <a:pt x="20237" y="12750"/>
                  <a:pt x="20117" y="12750"/>
                </a:cubicBezTo>
                <a:cubicBezTo>
                  <a:pt x="20045" y="12750"/>
                  <a:pt x="20010" y="12625"/>
                  <a:pt x="19993" y="12576"/>
                </a:cubicBezTo>
                <a:cubicBezTo>
                  <a:pt x="19968" y="12502"/>
                  <a:pt x="19960" y="12477"/>
                  <a:pt x="19993" y="12427"/>
                </a:cubicBezTo>
              </a:path>
              <a:path w="3994" h="1440">
                <a:moveTo>
                  <a:pt x="20538" y="11733"/>
                </a:moveTo>
                <a:cubicBezTo>
                  <a:pt x="20550" y="11850"/>
                  <a:pt x="20470" y="12080"/>
                  <a:pt x="20588" y="12080"/>
                </a:cubicBezTo>
                <a:cubicBezTo>
                  <a:pt x="20588" y="12072"/>
                  <a:pt x="20588" y="12063"/>
                  <a:pt x="20588" y="12055"/>
                </a:cubicBezTo>
              </a:path>
              <a:path w="3994" h="1440">
                <a:moveTo>
                  <a:pt x="20638" y="11361"/>
                </a:moveTo>
                <a:cubicBezTo>
                  <a:pt x="20681" y="11339"/>
                  <a:pt x="20693" y="11326"/>
                  <a:pt x="20712" y="11361"/>
                </a:cubicBezTo>
              </a:path>
              <a:path w="3994" h="1440">
                <a:moveTo>
                  <a:pt x="20811" y="11881"/>
                </a:moveTo>
                <a:cubicBezTo>
                  <a:pt x="20832" y="11964"/>
                  <a:pt x="20840" y="11979"/>
                  <a:pt x="20836" y="12030"/>
                </a:cubicBezTo>
                <a:cubicBezTo>
                  <a:pt x="20885" y="11998"/>
                  <a:pt x="20843" y="11945"/>
                  <a:pt x="20861" y="11881"/>
                </a:cubicBezTo>
                <a:cubicBezTo>
                  <a:pt x="20882" y="11807"/>
                  <a:pt x="20910" y="11714"/>
                  <a:pt x="20985" y="11683"/>
                </a:cubicBezTo>
                <a:cubicBezTo>
                  <a:pt x="21039" y="11661"/>
                  <a:pt x="21079" y="11783"/>
                  <a:pt x="21084" y="11807"/>
                </a:cubicBezTo>
                <a:cubicBezTo>
                  <a:pt x="21102" y="11897"/>
                  <a:pt x="21109" y="12026"/>
                  <a:pt x="21158" y="12105"/>
                </a:cubicBezTo>
                <a:cubicBezTo>
                  <a:pt x="21177" y="12137"/>
                  <a:pt x="21203" y="12146"/>
                  <a:pt x="21233" y="12154"/>
                </a:cubicBezTo>
              </a:path>
              <a:path w="3994" h="1440">
                <a:moveTo>
                  <a:pt x="21357" y="11782"/>
                </a:moveTo>
                <a:cubicBezTo>
                  <a:pt x="21319" y="11791"/>
                  <a:pt x="21282" y="11820"/>
                  <a:pt x="21258" y="11857"/>
                </a:cubicBezTo>
                <a:cubicBezTo>
                  <a:pt x="21226" y="11906"/>
                  <a:pt x="21205" y="12015"/>
                  <a:pt x="21258" y="12055"/>
                </a:cubicBezTo>
                <a:cubicBezTo>
                  <a:pt x="21276" y="12069"/>
                  <a:pt x="21352" y="12037"/>
                  <a:pt x="21357" y="12030"/>
                </a:cubicBezTo>
                <a:cubicBezTo>
                  <a:pt x="21357" y="11990"/>
                  <a:pt x="21367" y="11971"/>
                  <a:pt x="21406" y="11956"/>
                </a:cubicBezTo>
                <a:cubicBezTo>
                  <a:pt x="21411" y="11990"/>
                  <a:pt x="21431" y="12059"/>
                  <a:pt x="21456" y="12080"/>
                </a:cubicBezTo>
                <a:cubicBezTo>
                  <a:pt x="21522" y="12134"/>
                  <a:pt x="21525" y="12120"/>
                  <a:pt x="21605" y="12105"/>
                </a:cubicBezTo>
              </a:path>
              <a:path w="3994" h="1440">
                <a:moveTo>
                  <a:pt x="21729" y="11311"/>
                </a:moveTo>
                <a:cubicBezTo>
                  <a:pt x="21696" y="11398"/>
                  <a:pt x="21682" y="11488"/>
                  <a:pt x="21679" y="11584"/>
                </a:cubicBezTo>
                <a:cubicBezTo>
                  <a:pt x="21675" y="11715"/>
                  <a:pt x="21682" y="11853"/>
                  <a:pt x="21704" y="11981"/>
                </a:cubicBezTo>
                <a:cubicBezTo>
                  <a:pt x="21712" y="12026"/>
                  <a:pt x="21743" y="12193"/>
                  <a:pt x="21779" y="12229"/>
                </a:cubicBezTo>
                <a:cubicBezTo>
                  <a:pt x="21787" y="12229"/>
                  <a:pt x="21795" y="12229"/>
                  <a:pt x="21803" y="12229"/>
                </a:cubicBezTo>
              </a:path>
              <a:path w="3994" h="1440">
                <a:moveTo>
                  <a:pt x="22349" y="11361"/>
                </a:moveTo>
                <a:cubicBezTo>
                  <a:pt x="22372" y="11504"/>
                  <a:pt x="22374" y="11636"/>
                  <a:pt x="22374" y="11782"/>
                </a:cubicBezTo>
                <a:cubicBezTo>
                  <a:pt x="22374" y="11895"/>
                  <a:pt x="22393" y="11996"/>
                  <a:pt x="22399" y="12105"/>
                </a:cubicBezTo>
                <a:cubicBezTo>
                  <a:pt x="22399" y="12146"/>
                  <a:pt x="22399" y="12154"/>
                  <a:pt x="22399" y="12179"/>
                </a:cubicBezTo>
              </a:path>
              <a:path w="3994" h="1440">
                <a:moveTo>
                  <a:pt x="22200" y="11782"/>
                </a:moveTo>
                <a:cubicBezTo>
                  <a:pt x="22370" y="11807"/>
                  <a:pt x="22477" y="11806"/>
                  <a:pt x="22647" y="11782"/>
                </a:cubicBezTo>
              </a:path>
              <a:path w="3994" h="1440">
                <a:moveTo>
                  <a:pt x="23019" y="11361"/>
                </a:moveTo>
                <a:cubicBezTo>
                  <a:pt x="23027" y="11504"/>
                  <a:pt x="23044" y="11638"/>
                  <a:pt x="23044" y="11782"/>
                </a:cubicBezTo>
                <a:cubicBezTo>
                  <a:pt x="23044" y="11927"/>
                  <a:pt x="23064" y="12061"/>
                  <a:pt x="23068" y="12204"/>
                </a:cubicBezTo>
                <a:cubicBezTo>
                  <a:pt x="23068" y="12272"/>
                  <a:pt x="23071" y="12291"/>
                  <a:pt x="23044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0080" y="4303800"/>
            <a:ext cx="642960" cy="590400"/>
          </a:xfrm>
          <a:custGeom>
            <a:avLst/>
            <a:gdLst/>
            <a:ahLst/>
            <a:rect l="l" t="t" r="r" b="b"/>
            <a:pathLst>
              <a:path w="1786" h="1638">
                <a:moveTo>
                  <a:pt x="6201" y="12477"/>
                </a:moveTo>
                <a:cubicBezTo>
                  <a:pt x="6176" y="12385"/>
                  <a:pt x="6197" y="12342"/>
                  <a:pt x="6176" y="12402"/>
                </a:cubicBezTo>
                <a:cubicBezTo>
                  <a:pt x="6152" y="12473"/>
                  <a:pt x="6168" y="12530"/>
                  <a:pt x="6152" y="12601"/>
                </a:cubicBezTo>
                <a:cubicBezTo>
                  <a:pt x="6133" y="12688"/>
                  <a:pt x="6129" y="12790"/>
                  <a:pt x="6102" y="12874"/>
                </a:cubicBezTo>
                <a:cubicBezTo>
                  <a:pt x="6085" y="12928"/>
                  <a:pt x="6064" y="12972"/>
                  <a:pt x="6052" y="13022"/>
                </a:cubicBezTo>
                <a:cubicBezTo>
                  <a:pt x="6052" y="13030"/>
                  <a:pt x="6052" y="13039"/>
                  <a:pt x="6052" y="13047"/>
                </a:cubicBezTo>
                <a:cubicBezTo>
                  <a:pt x="6027" y="12984"/>
                  <a:pt x="6048" y="12999"/>
                  <a:pt x="6052" y="12923"/>
                </a:cubicBezTo>
                <a:cubicBezTo>
                  <a:pt x="6057" y="12838"/>
                  <a:pt x="6056" y="12756"/>
                  <a:pt x="6077" y="12675"/>
                </a:cubicBezTo>
                <a:cubicBezTo>
                  <a:pt x="6102" y="12576"/>
                  <a:pt x="6105" y="12476"/>
                  <a:pt x="6127" y="12378"/>
                </a:cubicBezTo>
                <a:cubicBezTo>
                  <a:pt x="6145" y="12297"/>
                  <a:pt x="6170" y="12202"/>
                  <a:pt x="6201" y="12129"/>
                </a:cubicBezTo>
                <a:cubicBezTo>
                  <a:pt x="6226" y="12070"/>
                  <a:pt x="6255" y="12026"/>
                  <a:pt x="6300" y="11981"/>
                </a:cubicBezTo>
                <a:cubicBezTo>
                  <a:pt x="6339" y="11942"/>
                  <a:pt x="6361" y="11950"/>
                  <a:pt x="6400" y="11981"/>
                </a:cubicBezTo>
                <a:cubicBezTo>
                  <a:pt x="6445" y="12017"/>
                  <a:pt x="6478" y="12101"/>
                  <a:pt x="6499" y="12154"/>
                </a:cubicBezTo>
                <a:cubicBezTo>
                  <a:pt x="6550" y="12283"/>
                  <a:pt x="6569" y="12413"/>
                  <a:pt x="6573" y="12551"/>
                </a:cubicBezTo>
                <a:cubicBezTo>
                  <a:pt x="6576" y="12664"/>
                  <a:pt x="6569" y="12789"/>
                  <a:pt x="6598" y="12898"/>
                </a:cubicBezTo>
                <a:cubicBezTo>
                  <a:pt x="6615" y="12962"/>
                  <a:pt x="6660" y="13065"/>
                  <a:pt x="6672" y="13097"/>
                </a:cubicBezTo>
                <a:cubicBezTo>
                  <a:pt x="6672" y="13122"/>
                  <a:pt x="6672" y="13130"/>
                  <a:pt x="6672" y="13097"/>
                </a:cubicBezTo>
              </a:path>
              <a:path w="1786" h="1638">
                <a:moveTo>
                  <a:pt x="6077" y="12750"/>
                </a:moveTo>
                <a:cubicBezTo>
                  <a:pt x="6193" y="12750"/>
                  <a:pt x="6308" y="12750"/>
                  <a:pt x="6424" y="12750"/>
                </a:cubicBezTo>
              </a:path>
              <a:path w="1786" h="1638">
                <a:moveTo>
                  <a:pt x="6945" y="12898"/>
                </a:moveTo>
                <a:cubicBezTo>
                  <a:pt x="6888" y="13052"/>
                  <a:pt x="6921" y="13005"/>
                  <a:pt x="6846" y="13072"/>
                </a:cubicBezTo>
                <a:cubicBezTo>
                  <a:pt x="6838" y="13080"/>
                  <a:pt x="6829" y="13089"/>
                  <a:pt x="6821" y="13097"/>
                </a:cubicBezTo>
                <a:cubicBezTo>
                  <a:pt x="6895" y="13097"/>
                  <a:pt x="6952" y="13110"/>
                  <a:pt x="7020" y="13122"/>
                </a:cubicBezTo>
                <a:cubicBezTo>
                  <a:pt x="7066" y="13130"/>
                  <a:pt x="7123" y="13122"/>
                  <a:pt x="7169" y="13122"/>
                </a:cubicBezTo>
              </a:path>
              <a:path w="1786" h="1638">
                <a:moveTo>
                  <a:pt x="7218" y="12750"/>
                </a:moveTo>
                <a:cubicBezTo>
                  <a:pt x="7195" y="12903"/>
                  <a:pt x="7197" y="13071"/>
                  <a:pt x="7169" y="13221"/>
                </a:cubicBezTo>
                <a:cubicBezTo>
                  <a:pt x="7153" y="13309"/>
                  <a:pt x="7144" y="13377"/>
                  <a:pt x="7144" y="13469"/>
                </a:cubicBezTo>
                <a:cubicBezTo>
                  <a:pt x="7144" y="13489"/>
                  <a:pt x="7124" y="13616"/>
                  <a:pt x="7169" y="13593"/>
                </a:cubicBezTo>
                <a:cubicBezTo>
                  <a:pt x="7191" y="13570"/>
                  <a:pt x="7199" y="13565"/>
                  <a:pt x="7193" y="13543"/>
                </a:cubicBezTo>
              </a:path>
              <a:path w="1786" h="1638">
                <a:moveTo>
                  <a:pt x="7491" y="12824"/>
                </a:moveTo>
                <a:cubicBezTo>
                  <a:pt x="7567" y="12838"/>
                  <a:pt x="7664" y="12869"/>
                  <a:pt x="7739" y="12874"/>
                </a:cubicBezTo>
                <a:cubicBezTo>
                  <a:pt x="7780" y="12874"/>
                  <a:pt x="7788" y="12874"/>
                  <a:pt x="7813" y="12874"/>
                </a:cubicBezTo>
              </a:path>
              <a:path w="1786" h="1638">
                <a:moveTo>
                  <a:pt x="7491" y="12948"/>
                </a:moveTo>
                <a:cubicBezTo>
                  <a:pt x="7534" y="12964"/>
                  <a:pt x="7615" y="12994"/>
                  <a:pt x="7665" y="12973"/>
                </a:cubicBezTo>
                <a:cubicBezTo>
                  <a:pt x="7673" y="12965"/>
                  <a:pt x="7681" y="12956"/>
                  <a:pt x="7689" y="129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90880" y="4483080"/>
            <a:ext cx="1420920" cy="500040"/>
          </a:xfrm>
          <a:custGeom>
            <a:avLst/>
            <a:gdLst/>
            <a:ahLst/>
            <a:rect l="l" t="t" r="r" b="b"/>
            <a:pathLst>
              <a:path w="3945" h="1390">
                <a:moveTo>
                  <a:pt x="8310" y="12551"/>
                </a:moveTo>
                <a:cubicBezTo>
                  <a:pt x="8343" y="12492"/>
                  <a:pt x="8343" y="12477"/>
                  <a:pt x="8409" y="12477"/>
                </a:cubicBezTo>
                <a:cubicBezTo>
                  <a:pt x="8457" y="12477"/>
                  <a:pt x="8497" y="12428"/>
                  <a:pt x="8558" y="12452"/>
                </a:cubicBezTo>
                <a:cubicBezTo>
                  <a:pt x="8603" y="12470"/>
                  <a:pt x="8637" y="12506"/>
                  <a:pt x="8682" y="12526"/>
                </a:cubicBezTo>
                <a:cubicBezTo>
                  <a:pt x="8708" y="12538"/>
                  <a:pt x="8727" y="12584"/>
                  <a:pt x="8706" y="12626"/>
                </a:cubicBezTo>
                <a:cubicBezTo>
                  <a:pt x="8665" y="12709"/>
                  <a:pt x="8608" y="12761"/>
                  <a:pt x="8558" y="12824"/>
                </a:cubicBezTo>
                <a:cubicBezTo>
                  <a:pt x="8511" y="12883"/>
                  <a:pt x="8480" y="12961"/>
                  <a:pt x="8434" y="13022"/>
                </a:cubicBezTo>
                <a:cubicBezTo>
                  <a:pt x="8402" y="13064"/>
                  <a:pt x="8383" y="13106"/>
                  <a:pt x="8359" y="13146"/>
                </a:cubicBezTo>
                <a:cubicBezTo>
                  <a:pt x="8322" y="13207"/>
                  <a:pt x="8342" y="13186"/>
                  <a:pt x="8359" y="13221"/>
                </a:cubicBezTo>
                <a:cubicBezTo>
                  <a:pt x="8372" y="13248"/>
                  <a:pt x="8390" y="13266"/>
                  <a:pt x="8434" y="13271"/>
                </a:cubicBezTo>
                <a:cubicBezTo>
                  <a:pt x="8483" y="13277"/>
                  <a:pt x="8529" y="13311"/>
                  <a:pt x="8582" y="13320"/>
                </a:cubicBezTo>
                <a:cubicBezTo>
                  <a:pt x="8687" y="13338"/>
                  <a:pt x="8767" y="13293"/>
                  <a:pt x="8855" y="13246"/>
                </a:cubicBezTo>
              </a:path>
              <a:path w="3945" h="1390">
                <a:moveTo>
                  <a:pt x="9103" y="12576"/>
                </a:moveTo>
                <a:cubicBezTo>
                  <a:pt x="9103" y="12601"/>
                  <a:pt x="9103" y="12609"/>
                  <a:pt x="9103" y="12626"/>
                </a:cubicBezTo>
                <a:cubicBezTo>
                  <a:pt x="9087" y="12559"/>
                  <a:pt x="9094" y="12596"/>
                  <a:pt x="9054" y="12601"/>
                </a:cubicBezTo>
                <a:cubicBezTo>
                  <a:pt x="9025" y="12605"/>
                  <a:pt x="8994" y="12635"/>
                  <a:pt x="8979" y="12675"/>
                </a:cubicBezTo>
                <a:cubicBezTo>
                  <a:pt x="8970" y="12700"/>
                  <a:pt x="9017" y="12797"/>
                  <a:pt x="9029" y="12824"/>
                </a:cubicBezTo>
                <a:cubicBezTo>
                  <a:pt x="9061" y="12897"/>
                  <a:pt x="9137" y="12971"/>
                  <a:pt x="9153" y="13047"/>
                </a:cubicBezTo>
                <a:cubicBezTo>
                  <a:pt x="9168" y="13119"/>
                  <a:pt x="9195" y="13204"/>
                  <a:pt x="9153" y="13271"/>
                </a:cubicBezTo>
                <a:cubicBezTo>
                  <a:pt x="9135" y="13299"/>
                  <a:pt x="9082" y="13336"/>
                  <a:pt x="9054" y="13345"/>
                </a:cubicBezTo>
                <a:cubicBezTo>
                  <a:pt x="9021" y="13356"/>
                  <a:pt x="8961" y="13303"/>
                  <a:pt x="8954" y="13295"/>
                </a:cubicBezTo>
                <a:cubicBezTo>
                  <a:pt x="8932" y="13270"/>
                  <a:pt x="8882" y="13238"/>
                  <a:pt x="8905" y="13196"/>
                </a:cubicBezTo>
                <a:cubicBezTo>
                  <a:pt x="8936" y="13139"/>
                  <a:pt x="8974" y="13082"/>
                  <a:pt x="9004" y="13022"/>
                </a:cubicBezTo>
                <a:cubicBezTo>
                  <a:pt x="9041" y="12949"/>
                  <a:pt x="9089" y="12894"/>
                  <a:pt x="9128" y="12824"/>
                </a:cubicBezTo>
                <a:cubicBezTo>
                  <a:pt x="9161" y="12764"/>
                  <a:pt x="9196" y="12709"/>
                  <a:pt x="9227" y="12650"/>
                </a:cubicBezTo>
                <a:cubicBezTo>
                  <a:pt x="9251" y="12605"/>
                  <a:pt x="9270" y="12566"/>
                  <a:pt x="9302" y="12526"/>
                </a:cubicBezTo>
              </a:path>
              <a:path w="3945" h="1390">
                <a:moveTo>
                  <a:pt x="9475" y="12923"/>
                </a:moveTo>
                <a:cubicBezTo>
                  <a:pt x="9558" y="12902"/>
                  <a:pt x="9573" y="12894"/>
                  <a:pt x="9624" y="12898"/>
                </a:cubicBezTo>
              </a:path>
              <a:path w="3945" h="1390">
                <a:moveTo>
                  <a:pt x="9872" y="12601"/>
                </a:moveTo>
                <a:cubicBezTo>
                  <a:pt x="9937" y="12583"/>
                  <a:pt x="10026" y="12556"/>
                  <a:pt x="10096" y="12576"/>
                </a:cubicBezTo>
                <a:cubicBezTo>
                  <a:pt x="10132" y="12586"/>
                  <a:pt x="10232" y="12632"/>
                  <a:pt x="10244" y="12675"/>
                </a:cubicBezTo>
                <a:cubicBezTo>
                  <a:pt x="10260" y="12731"/>
                  <a:pt x="10243" y="12799"/>
                  <a:pt x="10220" y="12849"/>
                </a:cubicBezTo>
                <a:cubicBezTo>
                  <a:pt x="10174" y="12946"/>
                  <a:pt x="10106" y="13007"/>
                  <a:pt x="10046" y="13097"/>
                </a:cubicBezTo>
                <a:cubicBezTo>
                  <a:pt x="10010" y="13151"/>
                  <a:pt x="9958" y="13193"/>
                  <a:pt x="9922" y="13246"/>
                </a:cubicBezTo>
                <a:cubicBezTo>
                  <a:pt x="9842" y="13365"/>
                  <a:pt x="9819" y="13357"/>
                  <a:pt x="9847" y="13444"/>
                </a:cubicBezTo>
                <a:cubicBezTo>
                  <a:pt x="9858" y="13478"/>
                  <a:pt x="9925" y="13491"/>
                  <a:pt x="9971" y="13494"/>
                </a:cubicBezTo>
                <a:cubicBezTo>
                  <a:pt x="10026" y="13497"/>
                  <a:pt x="10127" y="13512"/>
                  <a:pt x="10170" y="13469"/>
                </a:cubicBezTo>
                <a:cubicBezTo>
                  <a:pt x="10195" y="13419"/>
                  <a:pt x="10203" y="13403"/>
                  <a:pt x="10244" y="13395"/>
                </a:cubicBezTo>
              </a:path>
              <a:path w="3945" h="1390">
                <a:moveTo>
                  <a:pt x="10492" y="12973"/>
                </a:moveTo>
                <a:cubicBezTo>
                  <a:pt x="10558" y="12973"/>
                  <a:pt x="10625" y="12973"/>
                  <a:pt x="10691" y="12973"/>
                </a:cubicBezTo>
              </a:path>
              <a:path w="3945" h="1390">
                <a:moveTo>
                  <a:pt x="10443" y="13196"/>
                </a:moveTo>
                <a:cubicBezTo>
                  <a:pt x="10495" y="13216"/>
                  <a:pt x="10583" y="13259"/>
                  <a:pt x="10641" y="13246"/>
                </a:cubicBezTo>
                <a:cubicBezTo>
                  <a:pt x="10691" y="13221"/>
                  <a:pt x="10707" y="13213"/>
                  <a:pt x="10740" y="13196"/>
                </a:cubicBezTo>
              </a:path>
              <a:path w="3945" h="1390">
                <a:moveTo>
                  <a:pt x="11112" y="12700"/>
                </a:moveTo>
                <a:cubicBezTo>
                  <a:pt x="11176" y="12637"/>
                  <a:pt x="11211" y="12599"/>
                  <a:pt x="11286" y="12576"/>
                </a:cubicBezTo>
                <a:cubicBezTo>
                  <a:pt x="11315" y="12567"/>
                  <a:pt x="11356" y="12590"/>
                  <a:pt x="11361" y="12601"/>
                </a:cubicBezTo>
                <a:cubicBezTo>
                  <a:pt x="11383" y="12646"/>
                  <a:pt x="11413" y="12644"/>
                  <a:pt x="11435" y="12725"/>
                </a:cubicBezTo>
                <a:cubicBezTo>
                  <a:pt x="11452" y="12788"/>
                  <a:pt x="11436" y="12867"/>
                  <a:pt x="11410" y="12923"/>
                </a:cubicBezTo>
                <a:cubicBezTo>
                  <a:pt x="11371" y="13006"/>
                  <a:pt x="11300" y="13067"/>
                  <a:pt x="11237" y="13122"/>
                </a:cubicBezTo>
                <a:cubicBezTo>
                  <a:pt x="11177" y="13175"/>
                  <a:pt x="11126" y="13225"/>
                  <a:pt x="11063" y="13271"/>
                </a:cubicBezTo>
                <a:cubicBezTo>
                  <a:pt x="11020" y="13303"/>
                  <a:pt x="10977" y="13344"/>
                  <a:pt x="10939" y="13370"/>
                </a:cubicBezTo>
                <a:cubicBezTo>
                  <a:pt x="10931" y="13378"/>
                  <a:pt x="10922" y="13387"/>
                  <a:pt x="10914" y="13395"/>
                </a:cubicBezTo>
                <a:cubicBezTo>
                  <a:pt x="10923" y="13421"/>
                  <a:pt x="10949" y="13441"/>
                  <a:pt x="10988" y="13444"/>
                </a:cubicBezTo>
                <a:cubicBezTo>
                  <a:pt x="11081" y="13451"/>
                  <a:pt x="11098" y="13468"/>
                  <a:pt x="11187" y="13494"/>
                </a:cubicBezTo>
                <a:cubicBezTo>
                  <a:pt x="11228" y="13506"/>
                  <a:pt x="11346" y="13547"/>
                  <a:pt x="11385" y="13543"/>
                </a:cubicBezTo>
                <a:cubicBezTo>
                  <a:pt x="11443" y="13537"/>
                  <a:pt x="11495" y="13479"/>
                  <a:pt x="11534" y="13444"/>
                </a:cubicBezTo>
              </a:path>
              <a:path w="3945" h="1390">
                <a:moveTo>
                  <a:pt x="11906" y="12750"/>
                </a:moveTo>
                <a:cubicBezTo>
                  <a:pt x="11872" y="12767"/>
                  <a:pt x="11858" y="12800"/>
                  <a:pt x="11832" y="12849"/>
                </a:cubicBezTo>
                <a:cubicBezTo>
                  <a:pt x="11795" y="12918"/>
                  <a:pt x="11747" y="12995"/>
                  <a:pt x="11733" y="13072"/>
                </a:cubicBezTo>
                <a:cubicBezTo>
                  <a:pt x="11721" y="13138"/>
                  <a:pt x="11738" y="13235"/>
                  <a:pt x="11757" y="13295"/>
                </a:cubicBezTo>
                <a:cubicBezTo>
                  <a:pt x="11774" y="13348"/>
                  <a:pt x="11839" y="13480"/>
                  <a:pt x="11881" y="13519"/>
                </a:cubicBezTo>
                <a:cubicBezTo>
                  <a:pt x="11925" y="13560"/>
                  <a:pt x="12015" y="13615"/>
                  <a:pt x="12080" y="13593"/>
                </a:cubicBezTo>
                <a:cubicBezTo>
                  <a:pt x="12141" y="13572"/>
                  <a:pt x="12199" y="13532"/>
                  <a:pt x="12229" y="13494"/>
                </a:cubicBezTo>
                <a:cubicBezTo>
                  <a:pt x="12258" y="13457"/>
                  <a:pt x="12254" y="13443"/>
                  <a:pt x="12254" y="13395"/>
                </a:cubicBezTo>
                <a:cubicBezTo>
                  <a:pt x="12197" y="13395"/>
                  <a:pt x="12123" y="13398"/>
                  <a:pt x="12080" y="13444"/>
                </a:cubicBezTo>
                <a:cubicBezTo>
                  <a:pt x="12003" y="13527"/>
                  <a:pt x="11970" y="13629"/>
                  <a:pt x="11906" y="13717"/>
                </a:cubicBezTo>
                <a:cubicBezTo>
                  <a:pt x="11868" y="13769"/>
                  <a:pt x="11839" y="13785"/>
                  <a:pt x="11807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70720" y="4581360"/>
            <a:ext cx="2697120" cy="892440"/>
          </a:xfrm>
          <a:custGeom>
            <a:avLst/>
            <a:gdLst/>
            <a:ahLst/>
            <a:rect l="l" t="t" r="r" b="b"/>
            <a:pathLst>
              <a:path w="7492" h="2481">
                <a:moveTo>
                  <a:pt x="15751" y="13097"/>
                </a:moveTo>
                <a:cubicBezTo>
                  <a:pt x="15812" y="13188"/>
                  <a:pt x="15804" y="13242"/>
                  <a:pt x="15825" y="13345"/>
                </a:cubicBezTo>
                <a:cubicBezTo>
                  <a:pt x="15855" y="13491"/>
                  <a:pt x="15838" y="13594"/>
                  <a:pt x="15825" y="13742"/>
                </a:cubicBezTo>
                <a:cubicBezTo>
                  <a:pt x="15815" y="13855"/>
                  <a:pt x="15825" y="13975"/>
                  <a:pt x="15825" y="14089"/>
                </a:cubicBezTo>
                <a:cubicBezTo>
                  <a:pt x="15825" y="14031"/>
                  <a:pt x="15825" y="14023"/>
                  <a:pt x="15825" y="13965"/>
                </a:cubicBezTo>
                <a:cubicBezTo>
                  <a:pt x="15825" y="13724"/>
                  <a:pt x="15839" y="13516"/>
                  <a:pt x="15875" y="13271"/>
                </a:cubicBezTo>
                <a:cubicBezTo>
                  <a:pt x="15896" y="13131"/>
                  <a:pt x="15926" y="12993"/>
                  <a:pt x="15999" y="12874"/>
                </a:cubicBezTo>
                <a:cubicBezTo>
                  <a:pt x="16037" y="12812"/>
                  <a:pt x="16080" y="12744"/>
                  <a:pt x="16148" y="12725"/>
                </a:cubicBezTo>
                <a:cubicBezTo>
                  <a:pt x="16164" y="12725"/>
                  <a:pt x="16181" y="12725"/>
                  <a:pt x="16197" y="12725"/>
                </a:cubicBezTo>
                <a:cubicBezTo>
                  <a:pt x="16241" y="12812"/>
                  <a:pt x="16282" y="12899"/>
                  <a:pt x="16297" y="12998"/>
                </a:cubicBezTo>
                <a:cubicBezTo>
                  <a:pt x="16326" y="13193"/>
                  <a:pt x="16336" y="13403"/>
                  <a:pt x="16396" y="13593"/>
                </a:cubicBezTo>
                <a:cubicBezTo>
                  <a:pt x="16440" y="13734"/>
                  <a:pt x="16482" y="13872"/>
                  <a:pt x="16520" y="14015"/>
                </a:cubicBezTo>
                <a:cubicBezTo>
                  <a:pt x="16540" y="14092"/>
                  <a:pt x="16550" y="14165"/>
                  <a:pt x="16570" y="14238"/>
                </a:cubicBezTo>
                <a:cubicBezTo>
                  <a:pt x="16572" y="14244"/>
                  <a:pt x="16577" y="14252"/>
                  <a:pt x="16545" y="14188"/>
                </a:cubicBezTo>
              </a:path>
              <a:path w="7492" h="2481">
                <a:moveTo>
                  <a:pt x="15900" y="13791"/>
                </a:moveTo>
                <a:cubicBezTo>
                  <a:pt x="16003" y="13839"/>
                  <a:pt x="16109" y="13884"/>
                  <a:pt x="16222" y="13891"/>
                </a:cubicBezTo>
                <a:cubicBezTo>
                  <a:pt x="16280" y="13891"/>
                  <a:pt x="16338" y="13891"/>
                  <a:pt x="16396" y="13891"/>
                </a:cubicBezTo>
              </a:path>
              <a:path w="7492" h="2481">
                <a:moveTo>
                  <a:pt x="16867" y="13990"/>
                </a:moveTo>
                <a:cubicBezTo>
                  <a:pt x="16873" y="14127"/>
                  <a:pt x="16872" y="14276"/>
                  <a:pt x="16892" y="14412"/>
                </a:cubicBezTo>
                <a:cubicBezTo>
                  <a:pt x="16907" y="14520"/>
                  <a:pt x="16934" y="14625"/>
                  <a:pt x="16942" y="14734"/>
                </a:cubicBezTo>
                <a:cubicBezTo>
                  <a:pt x="16942" y="14759"/>
                  <a:pt x="16942" y="14767"/>
                  <a:pt x="16942" y="14734"/>
                </a:cubicBezTo>
              </a:path>
              <a:path w="7492" h="2481">
                <a:moveTo>
                  <a:pt x="17115" y="14163"/>
                </a:moveTo>
                <a:cubicBezTo>
                  <a:pt x="17071" y="14174"/>
                  <a:pt x="17028" y="14205"/>
                  <a:pt x="16991" y="14238"/>
                </a:cubicBezTo>
                <a:cubicBezTo>
                  <a:pt x="16956" y="14269"/>
                  <a:pt x="16899" y="14308"/>
                  <a:pt x="16917" y="14362"/>
                </a:cubicBezTo>
                <a:cubicBezTo>
                  <a:pt x="16941" y="14433"/>
                  <a:pt x="17032" y="14514"/>
                  <a:pt x="17090" y="14560"/>
                </a:cubicBezTo>
                <a:cubicBezTo>
                  <a:pt x="17164" y="14618"/>
                  <a:pt x="17230" y="14667"/>
                  <a:pt x="17314" y="14709"/>
                </a:cubicBezTo>
                <a:cubicBezTo>
                  <a:pt x="17330" y="14717"/>
                  <a:pt x="17347" y="14726"/>
                  <a:pt x="17363" y="14734"/>
                </a:cubicBezTo>
              </a:path>
              <a:path w="7492" h="2481">
                <a:moveTo>
                  <a:pt x="17438" y="14015"/>
                </a:moveTo>
                <a:cubicBezTo>
                  <a:pt x="17438" y="14138"/>
                  <a:pt x="17436" y="14268"/>
                  <a:pt x="17462" y="14387"/>
                </a:cubicBezTo>
                <a:cubicBezTo>
                  <a:pt x="17481" y="14474"/>
                  <a:pt x="17530" y="14547"/>
                  <a:pt x="17537" y="14635"/>
                </a:cubicBezTo>
                <a:cubicBezTo>
                  <a:pt x="17537" y="14643"/>
                  <a:pt x="17537" y="14652"/>
                  <a:pt x="17537" y="14660"/>
                </a:cubicBezTo>
              </a:path>
              <a:path w="7492" h="2481">
                <a:moveTo>
                  <a:pt x="17314" y="14362"/>
                </a:moveTo>
                <a:cubicBezTo>
                  <a:pt x="17414" y="14362"/>
                  <a:pt x="17520" y="14378"/>
                  <a:pt x="17611" y="14337"/>
                </a:cubicBezTo>
                <a:cubicBezTo>
                  <a:pt x="17628" y="14329"/>
                  <a:pt x="17644" y="14320"/>
                  <a:pt x="17661" y="14312"/>
                </a:cubicBezTo>
              </a:path>
              <a:path w="7492" h="2481">
                <a:moveTo>
                  <a:pt x="17785" y="14139"/>
                </a:moveTo>
                <a:cubicBezTo>
                  <a:pt x="17850" y="14191"/>
                  <a:pt x="17914" y="14248"/>
                  <a:pt x="17934" y="14337"/>
                </a:cubicBezTo>
                <a:cubicBezTo>
                  <a:pt x="17955" y="14429"/>
                  <a:pt x="17910" y="14480"/>
                  <a:pt x="17884" y="14560"/>
                </a:cubicBezTo>
                <a:cubicBezTo>
                  <a:pt x="17869" y="14605"/>
                  <a:pt x="17818" y="14706"/>
                  <a:pt x="17835" y="14759"/>
                </a:cubicBezTo>
                <a:cubicBezTo>
                  <a:pt x="17859" y="14834"/>
                  <a:pt x="17910" y="14855"/>
                  <a:pt x="17983" y="14858"/>
                </a:cubicBezTo>
                <a:cubicBezTo>
                  <a:pt x="18099" y="14863"/>
                  <a:pt x="18188" y="14772"/>
                  <a:pt x="18281" y="14709"/>
                </a:cubicBezTo>
              </a:path>
              <a:path w="7492" h="2481">
                <a:moveTo>
                  <a:pt x="18430" y="14064"/>
                </a:moveTo>
                <a:cubicBezTo>
                  <a:pt x="18531" y="14042"/>
                  <a:pt x="18569" y="14039"/>
                  <a:pt x="18628" y="14064"/>
                </a:cubicBezTo>
                <a:cubicBezTo>
                  <a:pt x="18636" y="14064"/>
                  <a:pt x="18645" y="14064"/>
                  <a:pt x="18653" y="14064"/>
                </a:cubicBezTo>
              </a:path>
              <a:path w="7492" h="2481">
                <a:moveTo>
                  <a:pt x="18380" y="14263"/>
                </a:moveTo>
                <a:cubicBezTo>
                  <a:pt x="18481" y="14317"/>
                  <a:pt x="18537" y="14330"/>
                  <a:pt x="18653" y="14288"/>
                </a:cubicBezTo>
                <a:cubicBezTo>
                  <a:pt x="18713" y="14258"/>
                  <a:pt x="18739" y="14243"/>
                  <a:pt x="18777" y="14213"/>
                </a:cubicBezTo>
              </a:path>
              <a:path w="7492" h="2481">
                <a:moveTo>
                  <a:pt x="19000" y="13915"/>
                </a:moveTo>
                <a:cubicBezTo>
                  <a:pt x="18950" y="14027"/>
                  <a:pt x="18885" y="14122"/>
                  <a:pt x="18926" y="14238"/>
                </a:cubicBezTo>
                <a:cubicBezTo>
                  <a:pt x="18958" y="14328"/>
                  <a:pt x="19017" y="14456"/>
                  <a:pt x="19124" y="14486"/>
                </a:cubicBezTo>
                <a:cubicBezTo>
                  <a:pt x="19204" y="14508"/>
                  <a:pt x="19229" y="14470"/>
                  <a:pt x="19248" y="14412"/>
                </a:cubicBezTo>
                <a:cubicBezTo>
                  <a:pt x="19276" y="14324"/>
                  <a:pt x="19290" y="14208"/>
                  <a:pt x="19273" y="14114"/>
                </a:cubicBezTo>
                <a:cubicBezTo>
                  <a:pt x="19253" y="14007"/>
                  <a:pt x="19217" y="13943"/>
                  <a:pt x="19124" y="13891"/>
                </a:cubicBezTo>
                <a:cubicBezTo>
                  <a:pt x="19080" y="13867"/>
                  <a:pt x="18964" y="13852"/>
                  <a:pt x="19000" y="13816"/>
                </a:cubicBezTo>
                <a:cubicBezTo>
                  <a:pt x="19017" y="13808"/>
                  <a:pt x="19033" y="13799"/>
                  <a:pt x="19050" y="13791"/>
                </a:cubicBezTo>
              </a:path>
              <a:path w="7492" h="2481">
                <a:moveTo>
                  <a:pt x="19323" y="14064"/>
                </a:moveTo>
                <a:cubicBezTo>
                  <a:pt x="19345" y="14179"/>
                  <a:pt x="19365" y="14273"/>
                  <a:pt x="19372" y="14387"/>
                </a:cubicBezTo>
                <a:cubicBezTo>
                  <a:pt x="19372" y="14456"/>
                  <a:pt x="19376" y="14301"/>
                  <a:pt x="19372" y="14288"/>
                </a:cubicBezTo>
                <a:cubicBezTo>
                  <a:pt x="19351" y="14210"/>
                  <a:pt x="19346" y="14146"/>
                  <a:pt x="19372" y="14064"/>
                </a:cubicBezTo>
                <a:cubicBezTo>
                  <a:pt x="19392" y="14000"/>
                  <a:pt x="19430" y="13937"/>
                  <a:pt x="19496" y="13915"/>
                </a:cubicBezTo>
                <a:cubicBezTo>
                  <a:pt x="19544" y="13899"/>
                  <a:pt x="19610" y="13912"/>
                  <a:pt x="19645" y="13940"/>
                </a:cubicBezTo>
                <a:cubicBezTo>
                  <a:pt x="19716" y="13997"/>
                  <a:pt x="19695" y="14130"/>
                  <a:pt x="19695" y="14213"/>
                </a:cubicBezTo>
                <a:cubicBezTo>
                  <a:pt x="19695" y="14296"/>
                  <a:pt x="19695" y="14378"/>
                  <a:pt x="19695" y="14461"/>
                </a:cubicBezTo>
              </a:path>
              <a:path w="7492" h="2481">
                <a:moveTo>
                  <a:pt x="19745" y="13791"/>
                </a:moveTo>
                <a:cubicBezTo>
                  <a:pt x="19745" y="13750"/>
                  <a:pt x="19781" y="13767"/>
                  <a:pt x="19819" y="13767"/>
                </a:cubicBezTo>
              </a:path>
              <a:path w="7492" h="2481">
                <a:moveTo>
                  <a:pt x="20042" y="14089"/>
                </a:moveTo>
                <a:cubicBezTo>
                  <a:pt x="19990" y="14162"/>
                  <a:pt x="19903" y="14251"/>
                  <a:pt x="19893" y="14337"/>
                </a:cubicBezTo>
                <a:cubicBezTo>
                  <a:pt x="19888" y="14378"/>
                  <a:pt x="19891" y="14446"/>
                  <a:pt x="19943" y="14461"/>
                </a:cubicBezTo>
                <a:cubicBezTo>
                  <a:pt x="20017" y="14482"/>
                  <a:pt x="20058" y="14429"/>
                  <a:pt x="20092" y="14387"/>
                </a:cubicBezTo>
                <a:cubicBezTo>
                  <a:pt x="20126" y="14346"/>
                  <a:pt x="20157" y="14283"/>
                  <a:pt x="20166" y="14238"/>
                </a:cubicBezTo>
                <a:cubicBezTo>
                  <a:pt x="20166" y="14221"/>
                  <a:pt x="20166" y="14205"/>
                  <a:pt x="20166" y="14188"/>
                </a:cubicBezTo>
                <a:cubicBezTo>
                  <a:pt x="20166" y="14128"/>
                  <a:pt x="20142" y="14288"/>
                  <a:pt x="20141" y="14312"/>
                </a:cubicBezTo>
                <a:cubicBezTo>
                  <a:pt x="20132" y="14560"/>
                  <a:pt x="20198" y="14870"/>
                  <a:pt x="20117" y="15106"/>
                </a:cubicBezTo>
                <a:cubicBezTo>
                  <a:pt x="20084" y="15201"/>
                  <a:pt x="20021" y="15216"/>
                  <a:pt x="19943" y="15180"/>
                </a:cubicBezTo>
                <a:cubicBezTo>
                  <a:pt x="19836" y="15131"/>
                  <a:pt x="19823" y="15102"/>
                  <a:pt x="19819" y="14982"/>
                </a:cubicBezTo>
                <a:cubicBezTo>
                  <a:pt x="19819" y="14882"/>
                  <a:pt x="19819" y="14848"/>
                  <a:pt x="19844" y="14784"/>
                </a:cubicBezTo>
              </a:path>
              <a:path w="7492" h="2481">
                <a:moveTo>
                  <a:pt x="20340" y="14163"/>
                </a:moveTo>
                <a:cubicBezTo>
                  <a:pt x="20363" y="14303"/>
                  <a:pt x="20378" y="14389"/>
                  <a:pt x="20439" y="14511"/>
                </a:cubicBezTo>
              </a:path>
              <a:path w="7492" h="2481">
                <a:moveTo>
                  <a:pt x="20414" y="13866"/>
                </a:moveTo>
                <a:cubicBezTo>
                  <a:pt x="20479" y="13909"/>
                  <a:pt x="20500" y="13915"/>
                  <a:pt x="20513" y="13965"/>
                </a:cubicBezTo>
              </a:path>
              <a:path w="7492" h="2481">
                <a:moveTo>
                  <a:pt x="20563" y="14362"/>
                </a:moveTo>
                <a:cubicBezTo>
                  <a:pt x="20563" y="14420"/>
                  <a:pt x="20563" y="14478"/>
                  <a:pt x="20563" y="14536"/>
                </a:cubicBezTo>
                <a:cubicBezTo>
                  <a:pt x="20592" y="14498"/>
                  <a:pt x="20599" y="14459"/>
                  <a:pt x="20613" y="14412"/>
                </a:cubicBezTo>
                <a:cubicBezTo>
                  <a:pt x="20636" y="14337"/>
                  <a:pt x="20685" y="14280"/>
                  <a:pt x="20712" y="14213"/>
                </a:cubicBezTo>
                <a:cubicBezTo>
                  <a:pt x="20712" y="14188"/>
                  <a:pt x="20712" y="14180"/>
                  <a:pt x="20737" y="14188"/>
                </a:cubicBezTo>
                <a:cubicBezTo>
                  <a:pt x="20819" y="14291"/>
                  <a:pt x="20814" y="14436"/>
                  <a:pt x="20861" y="14560"/>
                </a:cubicBezTo>
                <a:cubicBezTo>
                  <a:pt x="20881" y="14612"/>
                  <a:pt x="20890" y="14624"/>
                  <a:pt x="20935" y="14635"/>
                </a:cubicBezTo>
              </a:path>
              <a:path w="7492" h="2481">
                <a:moveTo>
                  <a:pt x="21109" y="14288"/>
                </a:moveTo>
                <a:cubicBezTo>
                  <a:pt x="21101" y="14271"/>
                  <a:pt x="21092" y="14255"/>
                  <a:pt x="21084" y="14238"/>
                </a:cubicBezTo>
                <a:cubicBezTo>
                  <a:pt x="21040" y="14282"/>
                  <a:pt x="20981" y="14325"/>
                  <a:pt x="20960" y="14387"/>
                </a:cubicBezTo>
                <a:cubicBezTo>
                  <a:pt x="20946" y="14428"/>
                  <a:pt x="20989" y="14459"/>
                  <a:pt x="21010" y="14486"/>
                </a:cubicBezTo>
                <a:cubicBezTo>
                  <a:pt x="21026" y="14481"/>
                  <a:pt x="21070" y="14462"/>
                  <a:pt x="21084" y="14436"/>
                </a:cubicBezTo>
                <a:cubicBezTo>
                  <a:pt x="21084" y="14412"/>
                  <a:pt x="21084" y="14403"/>
                  <a:pt x="21084" y="14387"/>
                </a:cubicBezTo>
                <a:cubicBezTo>
                  <a:pt x="21135" y="14412"/>
                  <a:pt x="21132" y="14455"/>
                  <a:pt x="21158" y="14511"/>
                </a:cubicBezTo>
                <a:cubicBezTo>
                  <a:pt x="21188" y="14575"/>
                  <a:pt x="21214" y="14596"/>
                  <a:pt x="21282" y="14610"/>
                </a:cubicBezTo>
              </a:path>
              <a:path w="7492" h="2481">
                <a:moveTo>
                  <a:pt x="21431" y="13667"/>
                </a:moveTo>
                <a:cubicBezTo>
                  <a:pt x="21431" y="13598"/>
                  <a:pt x="21406" y="13838"/>
                  <a:pt x="21406" y="13841"/>
                </a:cubicBezTo>
                <a:cubicBezTo>
                  <a:pt x="21392" y="13975"/>
                  <a:pt x="21431" y="14125"/>
                  <a:pt x="21431" y="14263"/>
                </a:cubicBezTo>
                <a:cubicBezTo>
                  <a:pt x="21431" y="14375"/>
                  <a:pt x="21436" y="14531"/>
                  <a:pt x="21481" y="14635"/>
                </a:cubicBezTo>
                <a:cubicBezTo>
                  <a:pt x="21506" y="14660"/>
                  <a:pt x="21514" y="14668"/>
                  <a:pt x="21530" y="14635"/>
                </a:cubicBezTo>
              </a:path>
              <a:path w="7492" h="2481">
                <a:moveTo>
                  <a:pt x="22027" y="13767"/>
                </a:moveTo>
                <a:cubicBezTo>
                  <a:pt x="22069" y="13895"/>
                  <a:pt x="22089" y="14006"/>
                  <a:pt x="22101" y="14139"/>
                </a:cubicBezTo>
                <a:cubicBezTo>
                  <a:pt x="22112" y="14264"/>
                  <a:pt x="22114" y="14503"/>
                  <a:pt x="22151" y="14635"/>
                </a:cubicBezTo>
                <a:cubicBezTo>
                  <a:pt x="22175" y="14660"/>
                  <a:pt x="22183" y="14668"/>
                  <a:pt x="22151" y="14684"/>
                </a:cubicBezTo>
              </a:path>
              <a:path w="7492" h="2481">
                <a:moveTo>
                  <a:pt x="21853" y="14238"/>
                </a:moveTo>
                <a:cubicBezTo>
                  <a:pt x="21931" y="14218"/>
                  <a:pt x="22009" y="14238"/>
                  <a:pt x="22101" y="14238"/>
                </a:cubicBezTo>
                <a:cubicBezTo>
                  <a:pt x="22179" y="14238"/>
                  <a:pt x="22228" y="14237"/>
                  <a:pt x="22299" y="14213"/>
                </a:cubicBezTo>
              </a:path>
              <a:path w="7492" h="2481">
                <a:moveTo>
                  <a:pt x="22498" y="13990"/>
                </a:moveTo>
                <a:cubicBezTo>
                  <a:pt x="22642" y="14019"/>
                  <a:pt x="22723" y="14024"/>
                  <a:pt x="22820" y="14139"/>
                </a:cubicBezTo>
                <a:cubicBezTo>
                  <a:pt x="22896" y="14230"/>
                  <a:pt x="22913" y="14346"/>
                  <a:pt x="22895" y="14461"/>
                </a:cubicBezTo>
                <a:cubicBezTo>
                  <a:pt x="22876" y="14585"/>
                  <a:pt x="22825" y="14706"/>
                  <a:pt x="22721" y="14784"/>
                </a:cubicBezTo>
                <a:cubicBezTo>
                  <a:pt x="22677" y="14817"/>
                  <a:pt x="22646" y="14804"/>
                  <a:pt x="22597" y="14808"/>
                </a:cubicBezTo>
                <a:cubicBezTo>
                  <a:pt x="22619" y="14770"/>
                  <a:pt x="22620" y="14746"/>
                  <a:pt x="22671" y="14734"/>
                </a:cubicBezTo>
                <a:cubicBezTo>
                  <a:pt x="22763" y="14712"/>
                  <a:pt x="22851" y="14749"/>
                  <a:pt x="22920" y="14808"/>
                </a:cubicBezTo>
                <a:cubicBezTo>
                  <a:pt x="23010" y="14885"/>
                  <a:pt x="23077" y="14985"/>
                  <a:pt x="23168" y="15056"/>
                </a:cubicBezTo>
                <a:cubicBezTo>
                  <a:pt x="23211" y="15078"/>
                  <a:pt x="23223" y="15082"/>
                  <a:pt x="23242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1800" y="4938840"/>
            <a:ext cx="2357280" cy="704880"/>
          </a:xfrm>
          <a:custGeom>
            <a:avLst/>
            <a:gdLst/>
            <a:ahLst/>
            <a:rect l="l" t="t" r="r" b="b"/>
            <a:pathLst>
              <a:path w="6549" h="1961">
                <a:moveTo>
                  <a:pt x="5755" y="13965"/>
                </a:moveTo>
                <a:cubicBezTo>
                  <a:pt x="5766" y="13962"/>
                  <a:pt x="5783" y="13918"/>
                  <a:pt x="5804" y="13990"/>
                </a:cubicBezTo>
                <a:cubicBezTo>
                  <a:pt x="5864" y="14198"/>
                  <a:pt x="5811" y="14559"/>
                  <a:pt x="5779" y="14759"/>
                </a:cubicBezTo>
                <a:cubicBezTo>
                  <a:pt x="5771" y="14810"/>
                  <a:pt x="5779" y="14815"/>
                  <a:pt x="5779" y="14759"/>
                </a:cubicBezTo>
                <a:cubicBezTo>
                  <a:pt x="5779" y="14564"/>
                  <a:pt x="5753" y="14352"/>
                  <a:pt x="5804" y="14163"/>
                </a:cubicBezTo>
                <a:cubicBezTo>
                  <a:pt x="5834" y="14050"/>
                  <a:pt x="5844" y="13988"/>
                  <a:pt x="5904" y="13891"/>
                </a:cubicBezTo>
                <a:cubicBezTo>
                  <a:pt x="5936" y="13840"/>
                  <a:pt x="5975" y="13742"/>
                  <a:pt x="6028" y="13717"/>
                </a:cubicBezTo>
                <a:cubicBezTo>
                  <a:pt x="6047" y="13708"/>
                  <a:pt x="6081" y="13722"/>
                  <a:pt x="6102" y="13717"/>
                </a:cubicBezTo>
                <a:cubicBezTo>
                  <a:pt x="6167" y="13782"/>
                  <a:pt x="6156" y="13804"/>
                  <a:pt x="6176" y="13891"/>
                </a:cubicBezTo>
                <a:cubicBezTo>
                  <a:pt x="6201" y="13999"/>
                  <a:pt x="6222" y="14106"/>
                  <a:pt x="6251" y="14213"/>
                </a:cubicBezTo>
                <a:cubicBezTo>
                  <a:pt x="6284" y="14334"/>
                  <a:pt x="6334" y="14460"/>
                  <a:pt x="6350" y="14585"/>
                </a:cubicBezTo>
                <a:cubicBezTo>
                  <a:pt x="6363" y="14685"/>
                  <a:pt x="6380" y="14765"/>
                  <a:pt x="6424" y="14858"/>
                </a:cubicBezTo>
                <a:cubicBezTo>
                  <a:pt x="6436" y="14884"/>
                  <a:pt x="6420" y="14880"/>
                  <a:pt x="6424" y="14908"/>
                </a:cubicBezTo>
              </a:path>
              <a:path w="6549" h="1961">
                <a:moveTo>
                  <a:pt x="5928" y="14461"/>
                </a:moveTo>
                <a:cubicBezTo>
                  <a:pt x="6018" y="14480"/>
                  <a:pt x="6111" y="14498"/>
                  <a:pt x="6201" y="14511"/>
                </a:cubicBezTo>
                <a:cubicBezTo>
                  <a:pt x="6259" y="14511"/>
                  <a:pt x="6284" y="14511"/>
                  <a:pt x="6325" y="14511"/>
                </a:cubicBezTo>
              </a:path>
              <a:path w="6549" h="1961">
                <a:moveTo>
                  <a:pt x="6573" y="14560"/>
                </a:moveTo>
                <a:cubicBezTo>
                  <a:pt x="6639" y="14578"/>
                  <a:pt x="6681" y="14585"/>
                  <a:pt x="6747" y="14585"/>
                </a:cubicBezTo>
                <a:cubicBezTo>
                  <a:pt x="6791" y="14585"/>
                  <a:pt x="6805" y="14588"/>
                  <a:pt x="6821" y="14560"/>
                </a:cubicBezTo>
              </a:path>
              <a:path w="6549" h="1961">
                <a:moveTo>
                  <a:pt x="6598" y="14610"/>
                </a:moveTo>
                <a:cubicBezTo>
                  <a:pt x="6585" y="14656"/>
                  <a:pt x="6572" y="14698"/>
                  <a:pt x="6623" y="14734"/>
                </a:cubicBezTo>
                <a:cubicBezTo>
                  <a:pt x="6681" y="14774"/>
                  <a:pt x="6721" y="14806"/>
                  <a:pt x="6772" y="14858"/>
                </a:cubicBezTo>
                <a:cubicBezTo>
                  <a:pt x="6831" y="14918"/>
                  <a:pt x="6846" y="14938"/>
                  <a:pt x="6871" y="15007"/>
                </a:cubicBezTo>
                <a:cubicBezTo>
                  <a:pt x="6902" y="15093"/>
                  <a:pt x="6882" y="15107"/>
                  <a:pt x="6821" y="15156"/>
                </a:cubicBezTo>
                <a:cubicBezTo>
                  <a:pt x="6778" y="15190"/>
                  <a:pt x="6726" y="15216"/>
                  <a:pt x="6672" y="15230"/>
                </a:cubicBezTo>
                <a:cubicBezTo>
                  <a:pt x="6626" y="15242"/>
                  <a:pt x="6569" y="15227"/>
                  <a:pt x="6548" y="15180"/>
                </a:cubicBezTo>
                <a:cubicBezTo>
                  <a:pt x="6534" y="15149"/>
                  <a:pt x="6568" y="15073"/>
                  <a:pt x="6573" y="15056"/>
                </a:cubicBezTo>
              </a:path>
              <a:path w="6549" h="1961">
                <a:moveTo>
                  <a:pt x="7094" y="14635"/>
                </a:moveTo>
                <a:cubicBezTo>
                  <a:pt x="7189" y="14657"/>
                  <a:pt x="7276" y="14688"/>
                  <a:pt x="7367" y="14709"/>
                </a:cubicBezTo>
                <a:cubicBezTo>
                  <a:pt x="7400" y="14709"/>
                  <a:pt x="7408" y="14701"/>
                  <a:pt x="7392" y="14660"/>
                </a:cubicBezTo>
              </a:path>
              <a:path w="6549" h="1961">
                <a:moveTo>
                  <a:pt x="7169" y="14784"/>
                </a:moveTo>
                <a:cubicBezTo>
                  <a:pt x="7335" y="14784"/>
                  <a:pt x="7396" y="14789"/>
                  <a:pt x="7541" y="14734"/>
                </a:cubicBezTo>
              </a:path>
              <a:path w="6549" h="1961">
                <a:moveTo>
                  <a:pt x="7789" y="14362"/>
                </a:moveTo>
                <a:cubicBezTo>
                  <a:pt x="7885" y="14327"/>
                  <a:pt x="7959" y="14293"/>
                  <a:pt x="8062" y="14288"/>
                </a:cubicBezTo>
                <a:cubicBezTo>
                  <a:pt x="8136" y="14285"/>
                  <a:pt x="8219" y="14275"/>
                  <a:pt x="8285" y="14312"/>
                </a:cubicBezTo>
                <a:cubicBezTo>
                  <a:pt x="8334" y="14340"/>
                  <a:pt x="8357" y="14386"/>
                  <a:pt x="8359" y="14436"/>
                </a:cubicBezTo>
                <a:cubicBezTo>
                  <a:pt x="8364" y="14538"/>
                  <a:pt x="8314" y="14555"/>
                  <a:pt x="8260" y="14635"/>
                </a:cubicBezTo>
                <a:cubicBezTo>
                  <a:pt x="8219" y="14695"/>
                  <a:pt x="8165" y="14730"/>
                  <a:pt x="8111" y="14784"/>
                </a:cubicBezTo>
                <a:cubicBezTo>
                  <a:pt x="8068" y="14827"/>
                  <a:pt x="8007" y="14872"/>
                  <a:pt x="7987" y="14932"/>
                </a:cubicBezTo>
                <a:cubicBezTo>
                  <a:pt x="7969" y="14985"/>
                  <a:pt x="7947" y="14996"/>
                  <a:pt x="7987" y="15056"/>
                </a:cubicBezTo>
                <a:cubicBezTo>
                  <a:pt x="8020" y="15105"/>
                  <a:pt x="8056" y="15128"/>
                  <a:pt x="8111" y="15131"/>
                </a:cubicBezTo>
                <a:cubicBezTo>
                  <a:pt x="8200" y="15135"/>
                  <a:pt x="8277" y="15134"/>
                  <a:pt x="8359" y="15106"/>
                </a:cubicBezTo>
              </a:path>
              <a:path w="6549" h="1961">
                <a:moveTo>
                  <a:pt x="8781" y="14387"/>
                </a:moveTo>
                <a:cubicBezTo>
                  <a:pt x="8781" y="14337"/>
                  <a:pt x="8746" y="14434"/>
                  <a:pt x="8731" y="14461"/>
                </a:cubicBezTo>
                <a:cubicBezTo>
                  <a:pt x="8689" y="14540"/>
                  <a:pt x="8640" y="14598"/>
                  <a:pt x="8607" y="14684"/>
                </a:cubicBezTo>
                <a:cubicBezTo>
                  <a:pt x="8572" y="14777"/>
                  <a:pt x="8552" y="14891"/>
                  <a:pt x="8582" y="14982"/>
                </a:cubicBezTo>
                <a:cubicBezTo>
                  <a:pt x="8601" y="15041"/>
                  <a:pt x="8640" y="15115"/>
                  <a:pt x="8706" y="15131"/>
                </a:cubicBezTo>
                <a:cubicBezTo>
                  <a:pt x="8770" y="15146"/>
                  <a:pt x="8855" y="15133"/>
                  <a:pt x="8905" y="15106"/>
                </a:cubicBezTo>
                <a:cubicBezTo>
                  <a:pt x="8954" y="15079"/>
                  <a:pt x="8973" y="15036"/>
                  <a:pt x="8979" y="14982"/>
                </a:cubicBezTo>
                <a:cubicBezTo>
                  <a:pt x="8979" y="14957"/>
                  <a:pt x="8979" y="14949"/>
                  <a:pt x="8979" y="14932"/>
                </a:cubicBezTo>
                <a:cubicBezTo>
                  <a:pt x="8929" y="14932"/>
                  <a:pt x="8897" y="14950"/>
                  <a:pt x="8855" y="14982"/>
                </a:cubicBezTo>
                <a:cubicBezTo>
                  <a:pt x="8812" y="15014"/>
                  <a:pt x="8807" y="15091"/>
                  <a:pt x="8830" y="15131"/>
                </a:cubicBezTo>
                <a:cubicBezTo>
                  <a:pt x="8853" y="15154"/>
                  <a:pt x="8857" y="15162"/>
                  <a:pt x="8880" y="15156"/>
                </a:cubicBezTo>
              </a:path>
              <a:path w="6549" h="1961">
                <a:moveTo>
                  <a:pt x="9153" y="14635"/>
                </a:moveTo>
                <a:cubicBezTo>
                  <a:pt x="9257" y="14635"/>
                  <a:pt x="9354" y="14644"/>
                  <a:pt x="9451" y="14610"/>
                </a:cubicBezTo>
                <a:cubicBezTo>
                  <a:pt x="9476" y="14602"/>
                  <a:pt x="9500" y="14593"/>
                  <a:pt x="9525" y="14585"/>
                </a:cubicBezTo>
              </a:path>
              <a:path w="6549" h="1961">
                <a:moveTo>
                  <a:pt x="9674" y="14312"/>
                </a:moveTo>
                <a:cubicBezTo>
                  <a:pt x="9779" y="14256"/>
                  <a:pt x="9808" y="14230"/>
                  <a:pt x="9922" y="14263"/>
                </a:cubicBezTo>
                <a:cubicBezTo>
                  <a:pt x="9965" y="14275"/>
                  <a:pt x="10040" y="14312"/>
                  <a:pt x="10071" y="14337"/>
                </a:cubicBezTo>
                <a:cubicBezTo>
                  <a:pt x="10117" y="14374"/>
                  <a:pt x="10100" y="14443"/>
                  <a:pt x="10071" y="14486"/>
                </a:cubicBezTo>
                <a:cubicBezTo>
                  <a:pt x="10031" y="14546"/>
                  <a:pt x="9982" y="14575"/>
                  <a:pt x="9947" y="14635"/>
                </a:cubicBezTo>
                <a:cubicBezTo>
                  <a:pt x="9906" y="14705"/>
                  <a:pt x="9849" y="14746"/>
                  <a:pt x="9798" y="14808"/>
                </a:cubicBezTo>
                <a:cubicBezTo>
                  <a:pt x="9746" y="14872"/>
                  <a:pt x="9689" y="14958"/>
                  <a:pt x="9674" y="15032"/>
                </a:cubicBezTo>
                <a:cubicBezTo>
                  <a:pt x="9661" y="15094"/>
                  <a:pt x="9682" y="15116"/>
                  <a:pt x="9723" y="15156"/>
                </a:cubicBezTo>
                <a:cubicBezTo>
                  <a:pt x="9758" y="15191"/>
                  <a:pt x="9799" y="15201"/>
                  <a:pt x="9847" y="15205"/>
                </a:cubicBezTo>
                <a:cubicBezTo>
                  <a:pt x="9987" y="15217"/>
                  <a:pt x="10043" y="15197"/>
                  <a:pt x="10170" y="15131"/>
                </a:cubicBezTo>
                <a:cubicBezTo>
                  <a:pt x="10224" y="15104"/>
                  <a:pt x="10244" y="15092"/>
                  <a:pt x="10269" y="15056"/>
                </a:cubicBezTo>
              </a:path>
              <a:path w="6549" h="1961">
                <a:moveTo>
                  <a:pt x="10418" y="14833"/>
                </a:moveTo>
                <a:cubicBezTo>
                  <a:pt x="10518" y="14833"/>
                  <a:pt x="10595" y="14834"/>
                  <a:pt x="10691" y="14808"/>
                </a:cubicBezTo>
              </a:path>
              <a:path w="6549" h="1961">
                <a:moveTo>
                  <a:pt x="10393" y="15032"/>
                </a:moveTo>
                <a:cubicBezTo>
                  <a:pt x="10432" y="15056"/>
                  <a:pt x="10538" y="15135"/>
                  <a:pt x="10592" y="15131"/>
                </a:cubicBezTo>
                <a:cubicBezTo>
                  <a:pt x="10625" y="15123"/>
                  <a:pt x="10658" y="15114"/>
                  <a:pt x="10691" y="15106"/>
                </a:cubicBezTo>
              </a:path>
              <a:path w="6549" h="1961">
                <a:moveTo>
                  <a:pt x="11237" y="14560"/>
                </a:moveTo>
                <a:cubicBezTo>
                  <a:pt x="11229" y="14568"/>
                  <a:pt x="11220" y="14577"/>
                  <a:pt x="11212" y="14585"/>
                </a:cubicBezTo>
                <a:cubicBezTo>
                  <a:pt x="11248" y="14585"/>
                  <a:pt x="11284" y="14578"/>
                  <a:pt x="11311" y="14560"/>
                </a:cubicBezTo>
                <a:cubicBezTo>
                  <a:pt x="11344" y="14539"/>
                  <a:pt x="11371" y="14515"/>
                  <a:pt x="11410" y="14511"/>
                </a:cubicBezTo>
                <a:cubicBezTo>
                  <a:pt x="11462" y="14505"/>
                  <a:pt x="11497" y="14504"/>
                  <a:pt x="11534" y="14536"/>
                </a:cubicBezTo>
                <a:cubicBezTo>
                  <a:pt x="11569" y="14566"/>
                  <a:pt x="11570" y="14639"/>
                  <a:pt x="11559" y="14684"/>
                </a:cubicBezTo>
                <a:cubicBezTo>
                  <a:pt x="11530" y="14797"/>
                  <a:pt x="11451" y="14868"/>
                  <a:pt x="11385" y="14957"/>
                </a:cubicBezTo>
                <a:cubicBezTo>
                  <a:pt x="11314" y="15053"/>
                  <a:pt x="11227" y="15109"/>
                  <a:pt x="11162" y="15180"/>
                </a:cubicBezTo>
                <a:cubicBezTo>
                  <a:pt x="11109" y="15238"/>
                  <a:pt x="11121" y="15248"/>
                  <a:pt x="11137" y="15280"/>
                </a:cubicBezTo>
                <a:cubicBezTo>
                  <a:pt x="11154" y="15314"/>
                  <a:pt x="11193" y="15305"/>
                  <a:pt x="11237" y="15329"/>
                </a:cubicBezTo>
                <a:cubicBezTo>
                  <a:pt x="11307" y="15367"/>
                  <a:pt x="11364" y="15422"/>
                  <a:pt x="11435" y="15453"/>
                </a:cubicBezTo>
                <a:cubicBezTo>
                  <a:pt x="11553" y="15504"/>
                  <a:pt x="11581" y="15507"/>
                  <a:pt x="11683" y="15429"/>
                </a:cubicBezTo>
              </a:path>
              <a:path w="6549" h="1961">
                <a:moveTo>
                  <a:pt x="11906" y="14660"/>
                </a:moveTo>
                <a:cubicBezTo>
                  <a:pt x="11906" y="14719"/>
                  <a:pt x="11894" y="14782"/>
                  <a:pt x="11931" y="14833"/>
                </a:cubicBezTo>
                <a:cubicBezTo>
                  <a:pt x="11951" y="14860"/>
                  <a:pt x="12017" y="14971"/>
                  <a:pt x="12055" y="14982"/>
                </a:cubicBezTo>
                <a:cubicBezTo>
                  <a:pt x="12100" y="14982"/>
                  <a:pt x="12113" y="14986"/>
                  <a:pt x="12129" y="14957"/>
                </a:cubicBezTo>
              </a:path>
              <a:path w="6549" h="1961">
                <a:moveTo>
                  <a:pt x="12303" y="14461"/>
                </a:moveTo>
                <a:cubicBezTo>
                  <a:pt x="12232" y="14596"/>
                  <a:pt x="12223" y="14685"/>
                  <a:pt x="12204" y="14833"/>
                </a:cubicBezTo>
                <a:cubicBezTo>
                  <a:pt x="12180" y="15024"/>
                  <a:pt x="12176" y="15214"/>
                  <a:pt x="12154" y="15404"/>
                </a:cubicBezTo>
                <a:cubicBezTo>
                  <a:pt x="12130" y="15545"/>
                  <a:pt x="12124" y="15586"/>
                  <a:pt x="12105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178000"/>
            <a:ext cx="295560" cy="27792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13271" y="6375"/>
                </a:moveTo>
                <a:cubicBezTo>
                  <a:pt x="13216" y="6357"/>
                  <a:pt x="13258" y="6339"/>
                  <a:pt x="13271" y="6300"/>
                </a:cubicBezTo>
                <a:cubicBezTo>
                  <a:pt x="13279" y="6277"/>
                  <a:pt x="13337" y="6216"/>
                  <a:pt x="13370" y="6201"/>
                </a:cubicBezTo>
                <a:cubicBezTo>
                  <a:pt x="13409" y="6184"/>
                  <a:pt x="13449" y="6178"/>
                  <a:pt x="13494" y="6201"/>
                </a:cubicBezTo>
                <a:cubicBezTo>
                  <a:pt x="13556" y="6232"/>
                  <a:pt x="13543" y="6322"/>
                  <a:pt x="13543" y="6375"/>
                </a:cubicBezTo>
                <a:cubicBezTo>
                  <a:pt x="13543" y="6450"/>
                  <a:pt x="13502" y="6507"/>
                  <a:pt x="13469" y="6573"/>
                </a:cubicBezTo>
                <a:cubicBezTo>
                  <a:pt x="13442" y="6626"/>
                  <a:pt x="13411" y="6656"/>
                  <a:pt x="13370" y="6697"/>
                </a:cubicBezTo>
                <a:cubicBezTo>
                  <a:pt x="13344" y="6723"/>
                  <a:pt x="13294" y="6744"/>
                  <a:pt x="13271" y="6697"/>
                </a:cubicBezTo>
                <a:cubicBezTo>
                  <a:pt x="13253" y="6660"/>
                  <a:pt x="13291" y="6633"/>
                  <a:pt x="13320" y="6623"/>
                </a:cubicBezTo>
                <a:cubicBezTo>
                  <a:pt x="13354" y="6612"/>
                  <a:pt x="13403" y="6648"/>
                  <a:pt x="13444" y="6648"/>
                </a:cubicBezTo>
                <a:cubicBezTo>
                  <a:pt x="13502" y="6648"/>
                  <a:pt x="13651" y="6673"/>
                  <a:pt x="13667" y="6623"/>
                </a:cubicBezTo>
              </a:path>
              <a:path w="820" h="770">
                <a:moveTo>
                  <a:pt x="12923" y="6226"/>
                </a:moveTo>
                <a:cubicBezTo>
                  <a:pt x="12912" y="6311"/>
                  <a:pt x="12867" y="6501"/>
                  <a:pt x="12898" y="6598"/>
                </a:cubicBezTo>
                <a:cubicBezTo>
                  <a:pt x="12909" y="6633"/>
                  <a:pt x="12941" y="6683"/>
                  <a:pt x="12948" y="6697"/>
                </a:cubicBezTo>
                <a:cubicBezTo>
                  <a:pt x="12954" y="6709"/>
                  <a:pt x="12927" y="6761"/>
                  <a:pt x="12948" y="6697"/>
                </a:cubicBezTo>
              </a:path>
              <a:path w="820" h="770">
                <a:moveTo>
                  <a:pt x="13395" y="6176"/>
                </a:moveTo>
                <a:cubicBezTo>
                  <a:pt x="13486" y="6134"/>
                  <a:pt x="13573" y="6099"/>
                  <a:pt x="13667" y="6077"/>
                </a:cubicBezTo>
                <a:cubicBezTo>
                  <a:pt x="13695" y="6077"/>
                  <a:pt x="13706" y="6075"/>
                  <a:pt x="13717" y="6052"/>
                </a:cubicBezTo>
              </a:path>
              <a:path w="820" h="770">
                <a:moveTo>
                  <a:pt x="13444" y="6251"/>
                </a:moveTo>
                <a:cubicBezTo>
                  <a:pt x="13351" y="6306"/>
                  <a:pt x="13336" y="6305"/>
                  <a:pt x="13295" y="6350"/>
                </a:cubicBezTo>
                <a:cubicBezTo>
                  <a:pt x="13363" y="6417"/>
                  <a:pt x="13384" y="6415"/>
                  <a:pt x="13469" y="6449"/>
                </a:cubicBezTo>
                <a:cubicBezTo>
                  <a:pt x="13517" y="6468"/>
                  <a:pt x="13589" y="6491"/>
                  <a:pt x="13593" y="6548"/>
                </a:cubicBezTo>
                <a:cubicBezTo>
                  <a:pt x="13599" y="6637"/>
                  <a:pt x="13506" y="6671"/>
                  <a:pt x="13444" y="6722"/>
                </a:cubicBezTo>
                <a:cubicBezTo>
                  <a:pt x="13399" y="6759"/>
                  <a:pt x="13372" y="6801"/>
                  <a:pt x="13320" y="68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59040"/>
            <a:ext cx="37476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2725" y="7739"/>
                </a:moveTo>
                <a:cubicBezTo>
                  <a:pt x="12725" y="7883"/>
                  <a:pt x="12730" y="8032"/>
                  <a:pt x="12750" y="8161"/>
                </a:cubicBezTo>
                <a:cubicBezTo>
                  <a:pt x="12758" y="8214"/>
                  <a:pt x="12727" y="8294"/>
                  <a:pt x="12774" y="8310"/>
                </a:cubicBezTo>
              </a:path>
              <a:path w="1043" h="720">
                <a:moveTo>
                  <a:pt x="13271" y="7888"/>
                </a:moveTo>
                <a:cubicBezTo>
                  <a:pt x="13271" y="7996"/>
                  <a:pt x="13273" y="8043"/>
                  <a:pt x="13295" y="8136"/>
                </a:cubicBezTo>
                <a:cubicBezTo>
                  <a:pt x="13306" y="8181"/>
                  <a:pt x="13289" y="8170"/>
                  <a:pt x="13320" y="8210"/>
                </a:cubicBezTo>
              </a:path>
              <a:path w="1043" h="720">
                <a:moveTo>
                  <a:pt x="13146" y="8037"/>
                </a:moveTo>
                <a:cubicBezTo>
                  <a:pt x="13215" y="8052"/>
                  <a:pt x="13321" y="8083"/>
                  <a:pt x="13395" y="8062"/>
                </a:cubicBezTo>
                <a:cubicBezTo>
                  <a:pt x="13411" y="8054"/>
                  <a:pt x="13428" y="8045"/>
                  <a:pt x="13444" y="8037"/>
                </a:cubicBezTo>
              </a:path>
              <a:path w="1043" h="720">
                <a:moveTo>
                  <a:pt x="13767" y="7863"/>
                </a:moveTo>
                <a:cubicBezTo>
                  <a:pt x="13760" y="7961"/>
                  <a:pt x="13738" y="8021"/>
                  <a:pt x="13717" y="8111"/>
                </a:cubicBezTo>
                <a:cubicBezTo>
                  <a:pt x="13709" y="8143"/>
                  <a:pt x="13727" y="8354"/>
                  <a:pt x="13742" y="8334"/>
                </a:cubicBezTo>
                <a:cubicBezTo>
                  <a:pt x="13742" y="8326"/>
                  <a:pt x="13742" y="8318"/>
                  <a:pt x="13742" y="8310"/>
                </a:cubicBezTo>
              </a:path>
              <a:path w="1043" h="720">
                <a:moveTo>
                  <a:pt x="12874" y="7888"/>
                </a:moveTo>
                <a:cubicBezTo>
                  <a:pt x="12853" y="7916"/>
                  <a:pt x="12823" y="7961"/>
                  <a:pt x="12874" y="7987"/>
                </a:cubicBezTo>
                <a:cubicBezTo>
                  <a:pt x="12923" y="8012"/>
                  <a:pt x="12987" y="7970"/>
                  <a:pt x="13022" y="7962"/>
                </a:cubicBezTo>
                <a:cubicBezTo>
                  <a:pt x="13039" y="7962"/>
                  <a:pt x="13055" y="7962"/>
                  <a:pt x="13072" y="7962"/>
                </a:cubicBezTo>
              </a:path>
              <a:path w="1043" h="720">
                <a:moveTo>
                  <a:pt x="13072" y="7665"/>
                </a:moveTo>
                <a:cubicBezTo>
                  <a:pt x="13072" y="7843"/>
                  <a:pt x="13066" y="8013"/>
                  <a:pt x="13047" y="8186"/>
                </a:cubicBezTo>
                <a:cubicBezTo>
                  <a:pt x="13040" y="8249"/>
                  <a:pt x="13047" y="8321"/>
                  <a:pt x="13047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ctorial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82880"/>
            <a:ext cx="44604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3200" y="5879"/>
                </a:moveTo>
                <a:cubicBezTo>
                  <a:pt x="3232" y="5847"/>
                  <a:pt x="3229" y="5827"/>
                  <a:pt x="3249" y="5804"/>
                </a:cubicBezTo>
                <a:cubicBezTo>
                  <a:pt x="3288" y="5760"/>
                  <a:pt x="3328" y="5739"/>
                  <a:pt x="3373" y="5705"/>
                </a:cubicBezTo>
                <a:cubicBezTo>
                  <a:pt x="3440" y="5654"/>
                  <a:pt x="3483" y="5622"/>
                  <a:pt x="3572" y="5606"/>
                </a:cubicBezTo>
                <a:cubicBezTo>
                  <a:pt x="3623" y="5597"/>
                  <a:pt x="3659" y="5602"/>
                  <a:pt x="3696" y="5631"/>
                </a:cubicBezTo>
                <a:cubicBezTo>
                  <a:pt x="3744" y="5668"/>
                  <a:pt x="3763" y="5717"/>
                  <a:pt x="3746" y="5779"/>
                </a:cubicBezTo>
                <a:cubicBezTo>
                  <a:pt x="3733" y="5826"/>
                  <a:pt x="3675" y="5915"/>
                  <a:pt x="3646" y="5953"/>
                </a:cubicBezTo>
                <a:cubicBezTo>
                  <a:pt x="3591" y="6024"/>
                  <a:pt x="3517" y="6075"/>
                  <a:pt x="3448" y="6127"/>
                </a:cubicBezTo>
                <a:cubicBezTo>
                  <a:pt x="3440" y="6135"/>
                  <a:pt x="3431" y="6144"/>
                  <a:pt x="3423" y="6152"/>
                </a:cubicBezTo>
                <a:cubicBezTo>
                  <a:pt x="3429" y="6108"/>
                  <a:pt x="3427" y="6103"/>
                  <a:pt x="3448" y="6077"/>
                </a:cubicBezTo>
                <a:cubicBezTo>
                  <a:pt x="3473" y="6046"/>
                  <a:pt x="3534" y="6041"/>
                  <a:pt x="3572" y="6052"/>
                </a:cubicBezTo>
                <a:cubicBezTo>
                  <a:pt x="3618" y="6065"/>
                  <a:pt x="3653" y="6101"/>
                  <a:pt x="3696" y="6127"/>
                </a:cubicBezTo>
                <a:cubicBezTo>
                  <a:pt x="3765" y="6169"/>
                  <a:pt x="3804" y="6241"/>
                  <a:pt x="3820" y="6325"/>
                </a:cubicBezTo>
                <a:cubicBezTo>
                  <a:pt x="3839" y="6427"/>
                  <a:pt x="3843" y="6457"/>
                  <a:pt x="3770" y="6548"/>
                </a:cubicBezTo>
                <a:cubicBezTo>
                  <a:pt x="3713" y="6619"/>
                  <a:pt x="3610" y="6656"/>
                  <a:pt x="3522" y="6672"/>
                </a:cubicBezTo>
                <a:cubicBezTo>
                  <a:pt x="3440" y="6687"/>
                  <a:pt x="3373" y="6660"/>
                  <a:pt x="3299" y="6648"/>
                </a:cubicBezTo>
                <a:cubicBezTo>
                  <a:pt x="3253" y="6641"/>
                  <a:pt x="3199" y="6626"/>
                  <a:pt x="3175" y="6573"/>
                </a:cubicBezTo>
                <a:cubicBezTo>
                  <a:pt x="3175" y="6565"/>
                  <a:pt x="3175" y="6556"/>
                  <a:pt x="3175" y="6548"/>
                </a:cubicBezTo>
              </a:path>
              <a:path w="1241" h="1266">
                <a:moveTo>
                  <a:pt x="4390" y="5507"/>
                </a:moveTo>
                <a:cubicBezTo>
                  <a:pt x="4390" y="5584"/>
                  <a:pt x="4370" y="5632"/>
                  <a:pt x="4366" y="5705"/>
                </a:cubicBezTo>
                <a:cubicBezTo>
                  <a:pt x="4358" y="5857"/>
                  <a:pt x="4368" y="6008"/>
                  <a:pt x="4390" y="6152"/>
                </a:cubicBezTo>
                <a:cubicBezTo>
                  <a:pt x="4402" y="6229"/>
                  <a:pt x="4371" y="6282"/>
                  <a:pt x="4366" y="6350"/>
                </a:cubicBezTo>
                <a:cubicBezTo>
                  <a:pt x="4362" y="6398"/>
                  <a:pt x="4383" y="6435"/>
                  <a:pt x="4341" y="6449"/>
                </a:cubicBezTo>
              </a:path>
              <a:path w="1241" h="1266">
                <a:moveTo>
                  <a:pt x="4366" y="6623"/>
                </a:moveTo>
                <a:cubicBezTo>
                  <a:pt x="4356" y="6653"/>
                  <a:pt x="4345" y="6664"/>
                  <a:pt x="4316" y="6697"/>
                </a:cubicBezTo>
                <a:cubicBezTo>
                  <a:pt x="4293" y="6720"/>
                  <a:pt x="4285" y="6724"/>
                  <a:pt x="4291" y="6747"/>
                </a:cubicBezTo>
                <a:cubicBezTo>
                  <a:pt x="4319" y="6768"/>
                  <a:pt x="4367" y="6782"/>
                  <a:pt x="4390" y="6747"/>
                </a:cubicBezTo>
                <a:cubicBezTo>
                  <a:pt x="4407" y="6721"/>
                  <a:pt x="4405" y="6728"/>
                  <a:pt x="4415" y="6697"/>
                </a:cubicBezTo>
                <a:cubicBezTo>
                  <a:pt x="4384" y="6697"/>
                  <a:pt x="4349" y="6705"/>
                  <a:pt x="4341" y="6722"/>
                </a:cubicBezTo>
                <a:cubicBezTo>
                  <a:pt x="4341" y="6747"/>
                  <a:pt x="4341" y="6755"/>
                  <a:pt x="4366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0880" y="1919160"/>
            <a:ext cx="1671480" cy="455760"/>
          </a:xfrm>
          <a:custGeom>
            <a:avLst/>
            <a:gdLst/>
            <a:ahLst/>
            <a:rect l="l" t="t" r="r" b="b"/>
            <a:pathLst>
              <a:path w="4640" h="1266">
                <a:moveTo>
                  <a:pt x="5060" y="5978"/>
                </a:moveTo>
                <a:cubicBezTo>
                  <a:pt x="5105" y="5967"/>
                  <a:pt x="5130" y="5953"/>
                  <a:pt x="5184" y="5953"/>
                </a:cubicBezTo>
                <a:cubicBezTo>
                  <a:pt x="5276" y="5953"/>
                  <a:pt x="5356" y="5928"/>
                  <a:pt x="5457" y="5928"/>
                </a:cubicBezTo>
                <a:cubicBezTo>
                  <a:pt x="5529" y="5928"/>
                  <a:pt x="5585" y="5919"/>
                  <a:pt x="5581" y="5928"/>
                </a:cubicBezTo>
                <a:cubicBezTo>
                  <a:pt x="5581" y="5936"/>
                  <a:pt x="5581" y="5945"/>
                  <a:pt x="5581" y="5953"/>
                </a:cubicBezTo>
              </a:path>
              <a:path w="4640" h="1266">
                <a:moveTo>
                  <a:pt x="5110" y="6276"/>
                </a:moveTo>
                <a:cubicBezTo>
                  <a:pt x="5275" y="6276"/>
                  <a:pt x="5721" y="6276"/>
                  <a:pt x="5556" y="6276"/>
                </a:cubicBezTo>
                <a:cubicBezTo>
                  <a:pt x="5548" y="6276"/>
                  <a:pt x="5539" y="6276"/>
                  <a:pt x="5531" y="6276"/>
                </a:cubicBezTo>
              </a:path>
              <a:path w="4640" h="1266">
                <a:moveTo>
                  <a:pt x="6251" y="5606"/>
                </a:moveTo>
                <a:cubicBezTo>
                  <a:pt x="6210" y="5631"/>
                  <a:pt x="6222" y="5624"/>
                  <a:pt x="6176" y="5631"/>
                </a:cubicBezTo>
                <a:cubicBezTo>
                  <a:pt x="6211" y="5596"/>
                  <a:pt x="6228" y="5569"/>
                  <a:pt x="6251" y="5531"/>
                </a:cubicBezTo>
                <a:cubicBezTo>
                  <a:pt x="6291" y="5465"/>
                  <a:pt x="6310" y="5448"/>
                  <a:pt x="6375" y="5407"/>
                </a:cubicBezTo>
                <a:cubicBezTo>
                  <a:pt x="6441" y="5365"/>
                  <a:pt x="6468" y="5320"/>
                  <a:pt x="6548" y="5333"/>
                </a:cubicBezTo>
                <a:cubicBezTo>
                  <a:pt x="6670" y="5353"/>
                  <a:pt x="6632" y="5401"/>
                  <a:pt x="6623" y="5482"/>
                </a:cubicBezTo>
                <a:cubicBezTo>
                  <a:pt x="6613" y="5578"/>
                  <a:pt x="6565" y="5601"/>
                  <a:pt x="6524" y="5680"/>
                </a:cubicBezTo>
                <a:cubicBezTo>
                  <a:pt x="6480" y="5765"/>
                  <a:pt x="6429" y="5802"/>
                  <a:pt x="6375" y="5879"/>
                </a:cubicBezTo>
                <a:cubicBezTo>
                  <a:pt x="6349" y="5916"/>
                  <a:pt x="6294" y="5954"/>
                  <a:pt x="6276" y="5978"/>
                </a:cubicBezTo>
                <a:cubicBezTo>
                  <a:pt x="6276" y="5986"/>
                  <a:pt x="6276" y="5995"/>
                  <a:pt x="6276" y="6003"/>
                </a:cubicBezTo>
                <a:cubicBezTo>
                  <a:pt x="6299" y="5980"/>
                  <a:pt x="6324" y="5974"/>
                  <a:pt x="6350" y="5953"/>
                </a:cubicBezTo>
                <a:cubicBezTo>
                  <a:pt x="6394" y="5918"/>
                  <a:pt x="6431" y="5927"/>
                  <a:pt x="6474" y="5953"/>
                </a:cubicBezTo>
                <a:cubicBezTo>
                  <a:pt x="6511" y="5976"/>
                  <a:pt x="6561" y="6036"/>
                  <a:pt x="6573" y="6077"/>
                </a:cubicBezTo>
                <a:cubicBezTo>
                  <a:pt x="6598" y="6167"/>
                  <a:pt x="6622" y="6290"/>
                  <a:pt x="6573" y="6375"/>
                </a:cubicBezTo>
                <a:cubicBezTo>
                  <a:pt x="6547" y="6421"/>
                  <a:pt x="6499" y="6499"/>
                  <a:pt x="6449" y="6524"/>
                </a:cubicBezTo>
                <a:cubicBezTo>
                  <a:pt x="6420" y="6538"/>
                  <a:pt x="6276" y="6601"/>
                  <a:pt x="6251" y="6598"/>
                </a:cubicBezTo>
                <a:cubicBezTo>
                  <a:pt x="6204" y="6592"/>
                  <a:pt x="6139" y="6574"/>
                  <a:pt x="6102" y="6548"/>
                </a:cubicBezTo>
                <a:cubicBezTo>
                  <a:pt x="6079" y="6532"/>
                  <a:pt x="6066" y="6522"/>
                  <a:pt x="6077" y="6474"/>
                </a:cubicBezTo>
                <a:cubicBezTo>
                  <a:pt x="6077" y="6446"/>
                  <a:pt x="6079" y="6435"/>
                  <a:pt x="6102" y="6424"/>
                </a:cubicBezTo>
              </a:path>
              <a:path w="4640" h="1266">
                <a:moveTo>
                  <a:pt x="6995" y="5978"/>
                </a:moveTo>
                <a:cubicBezTo>
                  <a:pt x="6967" y="6015"/>
                  <a:pt x="6956" y="6021"/>
                  <a:pt x="6945" y="6052"/>
                </a:cubicBezTo>
                <a:cubicBezTo>
                  <a:pt x="6978" y="6041"/>
                  <a:pt x="6970" y="6018"/>
                  <a:pt x="6970" y="6052"/>
                </a:cubicBezTo>
              </a:path>
              <a:path w="4640" h="1266">
                <a:moveTo>
                  <a:pt x="7367" y="5606"/>
                </a:moveTo>
                <a:cubicBezTo>
                  <a:pt x="7394" y="5568"/>
                  <a:pt x="7454" y="5464"/>
                  <a:pt x="7491" y="5432"/>
                </a:cubicBezTo>
                <a:cubicBezTo>
                  <a:pt x="7542" y="5388"/>
                  <a:pt x="7630" y="5403"/>
                  <a:pt x="7689" y="5383"/>
                </a:cubicBezTo>
                <a:cubicBezTo>
                  <a:pt x="7762" y="5359"/>
                  <a:pt x="7790" y="5356"/>
                  <a:pt x="7863" y="5383"/>
                </a:cubicBezTo>
                <a:cubicBezTo>
                  <a:pt x="7944" y="5413"/>
                  <a:pt x="7934" y="5433"/>
                  <a:pt x="7938" y="5507"/>
                </a:cubicBezTo>
                <a:cubicBezTo>
                  <a:pt x="7942" y="5582"/>
                  <a:pt x="7915" y="5612"/>
                  <a:pt x="7888" y="5680"/>
                </a:cubicBezTo>
                <a:cubicBezTo>
                  <a:pt x="7848" y="5782"/>
                  <a:pt x="7801" y="5838"/>
                  <a:pt x="7739" y="5928"/>
                </a:cubicBezTo>
                <a:cubicBezTo>
                  <a:pt x="7659" y="6043"/>
                  <a:pt x="7595" y="6162"/>
                  <a:pt x="7516" y="6276"/>
                </a:cubicBezTo>
                <a:cubicBezTo>
                  <a:pt x="7459" y="6358"/>
                  <a:pt x="7418" y="6443"/>
                  <a:pt x="7367" y="6524"/>
                </a:cubicBezTo>
                <a:cubicBezTo>
                  <a:pt x="7356" y="6541"/>
                  <a:pt x="7301" y="6604"/>
                  <a:pt x="7342" y="6573"/>
                </a:cubicBezTo>
                <a:cubicBezTo>
                  <a:pt x="7353" y="6564"/>
                  <a:pt x="7384" y="6530"/>
                  <a:pt x="7417" y="6524"/>
                </a:cubicBezTo>
                <a:cubicBezTo>
                  <a:pt x="7463" y="6515"/>
                  <a:pt x="7498" y="6542"/>
                  <a:pt x="7541" y="6548"/>
                </a:cubicBezTo>
                <a:cubicBezTo>
                  <a:pt x="7611" y="6558"/>
                  <a:pt x="7704" y="6551"/>
                  <a:pt x="7739" y="6524"/>
                </a:cubicBezTo>
                <a:cubicBezTo>
                  <a:pt x="7747" y="6516"/>
                  <a:pt x="7756" y="6507"/>
                  <a:pt x="7764" y="6499"/>
                </a:cubicBezTo>
              </a:path>
              <a:path w="4640" h="1266">
                <a:moveTo>
                  <a:pt x="8310" y="6052"/>
                </a:moveTo>
                <a:cubicBezTo>
                  <a:pt x="8274" y="6079"/>
                  <a:pt x="8241" y="6077"/>
                  <a:pt x="8235" y="6127"/>
                </a:cubicBezTo>
                <a:cubicBezTo>
                  <a:pt x="8235" y="6135"/>
                  <a:pt x="8235" y="6144"/>
                  <a:pt x="8235" y="6152"/>
                </a:cubicBezTo>
                <a:cubicBezTo>
                  <a:pt x="8247" y="6143"/>
                  <a:pt x="8321" y="6106"/>
                  <a:pt x="8285" y="6077"/>
                </a:cubicBezTo>
                <a:cubicBezTo>
                  <a:pt x="8260" y="6077"/>
                  <a:pt x="8252" y="6077"/>
                  <a:pt x="8260" y="6052"/>
                </a:cubicBezTo>
              </a:path>
              <a:path w="4640" h="1266">
                <a:moveTo>
                  <a:pt x="8905" y="5333"/>
                </a:moveTo>
                <a:cubicBezTo>
                  <a:pt x="8892" y="5384"/>
                  <a:pt x="8880" y="5396"/>
                  <a:pt x="8880" y="5457"/>
                </a:cubicBezTo>
                <a:cubicBezTo>
                  <a:pt x="8880" y="5651"/>
                  <a:pt x="8874" y="5837"/>
                  <a:pt x="8855" y="6028"/>
                </a:cubicBezTo>
                <a:cubicBezTo>
                  <a:pt x="8845" y="6135"/>
                  <a:pt x="8857" y="6247"/>
                  <a:pt x="8830" y="6350"/>
                </a:cubicBezTo>
                <a:cubicBezTo>
                  <a:pt x="8811" y="6421"/>
                  <a:pt x="8806" y="6472"/>
                  <a:pt x="8806" y="6548"/>
                </a:cubicBezTo>
                <a:cubicBezTo>
                  <a:pt x="8806" y="6607"/>
                  <a:pt x="8863" y="6496"/>
                  <a:pt x="8880" y="6474"/>
                </a:cubicBezTo>
              </a:path>
              <a:path w="4640" h="1266">
                <a:moveTo>
                  <a:pt x="9227" y="6003"/>
                </a:moveTo>
                <a:cubicBezTo>
                  <a:pt x="9315" y="5995"/>
                  <a:pt x="9384" y="5978"/>
                  <a:pt x="9475" y="5978"/>
                </a:cubicBezTo>
                <a:cubicBezTo>
                  <a:pt x="9501" y="5978"/>
                  <a:pt x="9726" y="5982"/>
                  <a:pt x="9699" y="6003"/>
                </a:cubicBezTo>
                <a:cubicBezTo>
                  <a:pt x="9691" y="6003"/>
                  <a:pt x="9682" y="6003"/>
                  <a:pt x="9674" y="6003"/>
                </a:cubicBezTo>
              </a:path>
              <a:path w="4640" h="1266">
                <a:moveTo>
                  <a:pt x="9302" y="6300"/>
                </a:moveTo>
                <a:cubicBezTo>
                  <a:pt x="9457" y="6300"/>
                  <a:pt x="9553" y="6302"/>
                  <a:pt x="9699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5120" y="1973160"/>
            <a:ext cx="287280" cy="42084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0468" y="5482"/>
                </a:moveTo>
                <a:cubicBezTo>
                  <a:pt x="10463" y="5546"/>
                  <a:pt x="10463" y="5571"/>
                  <a:pt x="10443" y="5631"/>
                </a:cubicBezTo>
                <a:cubicBezTo>
                  <a:pt x="10406" y="5741"/>
                  <a:pt x="10397" y="5842"/>
                  <a:pt x="10368" y="5953"/>
                </a:cubicBezTo>
                <a:cubicBezTo>
                  <a:pt x="10336" y="6074"/>
                  <a:pt x="10299" y="6175"/>
                  <a:pt x="10294" y="6300"/>
                </a:cubicBezTo>
                <a:cubicBezTo>
                  <a:pt x="10290" y="6394"/>
                  <a:pt x="10270" y="6483"/>
                  <a:pt x="10344" y="6548"/>
                </a:cubicBezTo>
                <a:cubicBezTo>
                  <a:pt x="10407" y="6604"/>
                  <a:pt x="10482" y="6638"/>
                  <a:pt x="10567" y="6648"/>
                </a:cubicBezTo>
                <a:cubicBezTo>
                  <a:pt x="10679" y="6661"/>
                  <a:pt x="10757" y="6607"/>
                  <a:pt x="10840" y="6548"/>
                </a:cubicBezTo>
                <a:cubicBezTo>
                  <a:pt x="10948" y="6472"/>
                  <a:pt x="11007" y="6442"/>
                  <a:pt x="11063" y="6325"/>
                </a:cubicBezTo>
                <a:cubicBezTo>
                  <a:pt x="11107" y="6235"/>
                  <a:pt x="11080" y="6201"/>
                  <a:pt x="11013" y="6127"/>
                </a:cubicBezTo>
                <a:cubicBezTo>
                  <a:pt x="10980" y="6091"/>
                  <a:pt x="10850" y="6096"/>
                  <a:pt x="10815" y="6127"/>
                </a:cubicBezTo>
                <a:cubicBezTo>
                  <a:pt x="10766" y="6171"/>
                  <a:pt x="10729" y="6234"/>
                  <a:pt x="10740" y="6300"/>
                </a:cubicBezTo>
                <a:cubicBezTo>
                  <a:pt x="10751" y="6360"/>
                  <a:pt x="10786" y="6395"/>
                  <a:pt x="10815" y="6449"/>
                </a:cubicBezTo>
                <a:cubicBezTo>
                  <a:pt x="10848" y="6511"/>
                  <a:pt x="10833" y="6508"/>
                  <a:pt x="10840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9800" y="2741760"/>
            <a:ext cx="436320" cy="509400"/>
          </a:xfrm>
          <a:custGeom>
            <a:avLst/>
            <a:gdLst/>
            <a:ahLst/>
            <a:rect l="l" t="t" r="r" b="b"/>
            <a:pathLst>
              <a:path w="1216" h="1415">
                <a:moveTo>
                  <a:pt x="2803" y="7813"/>
                </a:moveTo>
                <a:cubicBezTo>
                  <a:pt x="2850" y="7779"/>
                  <a:pt x="2891" y="7789"/>
                  <a:pt x="2952" y="7789"/>
                </a:cubicBezTo>
                <a:cubicBezTo>
                  <a:pt x="3064" y="7789"/>
                  <a:pt x="3171" y="7755"/>
                  <a:pt x="3274" y="7739"/>
                </a:cubicBezTo>
                <a:cubicBezTo>
                  <a:pt x="3319" y="7732"/>
                  <a:pt x="3463" y="7756"/>
                  <a:pt x="3423" y="7739"/>
                </a:cubicBezTo>
                <a:cubicBezTo>
                  <a:pt x="3406" y="7731"/>
                  <a:pt x="3390" y="7722"/>
                  <a:pt x="3373" y="7714"/>
                </a:cubicBezTo>
              </a:path>
              <a:path w="1216" h="1415">
                <a:moveTo>
                  <a:pt x="2952" y="7838"/>
                </a:moveTo>
                <a:cubicBezTo>
                  <a:pt x="2907" y="7927"/>
                  <a:pt x="2906" y="7995"/>
                  <a:pt x="2877" y="8086"/>
                </a:cubicBezTo>
                <a:cubicBezTo>
                  <a:pt x="2855" y="8153"/>
                  <a:pt x="2832" y="8214"/>
                  <a:pt x="2828" y="8285"/>
                </a:cubicBezTo>
                <a:cubicBezTo>
                  <a:pt x="2826" y="8321"/>
                  <a:pt x="2796" y="8356"/>
                  <a:pt x="2803" y="8384"/>
                </a:cubicBezTo>
                <a:cubicBezTo>
                  <a:pt x="2811" y="8384"/>
                  <a:pt x="2820" y="8384"/>
                  <a:pt x="2828" y="8384"/>
                </a:cubicBezTo>
                <a:cubicBezTo>
                  <a:pt x="2847" y="8360"/>
                  <a:pt x="2845" y="8342"/>
                  <a:pt x="2877" y="8310"/>
                </a:cubicBezTo>
                <a:cubicBezTo>
                  <a:pt x="2910" y="8277"/>
                  <a:pt x="2933" y="8243"/>
                  <a:pt x="2977" y="8235"/>
                </a:cubicBezTo>
                <a:cubicBezTo>
                  <a:pt x="3040" y="8224"/>
                  <a:pt x="3149" y="8242"/>
                  <a:pt x="3200" y="8260"/>
                </a:cubicBezTo>
                <a:cubicBezTo>
                  <a:pt x="3258" y="8280"/>
                  <a:pt x="3343" y="8385"/>
                  <a:pt x="3373" y="8434"/>
                </a:cubicBezTo>
                <a:cubicBezTo>
                  <a:pt x="3423" y="8516"/>
                  <a:pt x="3458" y="8618"/>
                  <a:pt x="3423" y="8706"/>
                </a:cubicBezTo>
                <a:cubicBezTo>
                  <a:pt x="3384" y="8802"/>
                  <a:pt x="3304" y="8880"/>
                  <a:pt x="3200" y="8905"/>
                </a:cubicBezTo>
                <a:cubicBezTo>
                  <a:pt x="3115" y="8925"/>
                  <a:pt x="3058" y="8933"/>
                  <a:pt x="2977" y="8905"/>
                </a:cubicBezTo>
                <a:cubicBezTo>
                  <a:pt x="2944" y="8894"/>
                  <a:pt x="2877" y="8878"/>
                  <a:pt x="2877" y="8830"/>
                </a:cubicBezTo>
                <a:cubicBezTo>
                  <a:pt x="2906" y="8802"/>
                  <a:pt x="2914" y="8789"/>
                  <a:pt x="2902" y="8756"/>
                </a:cubicBezTo>
              </a:path>
              <a:path w="1216" h="1415">
                <a:moveTo>
                  <a:pt x="4018" y="7615"/>
                </a:moveTo>
                <a:cubicBezTo>
                  <a:pt x="4018" y="7694"/>
                  <a:pt x="4003" y="7765"/>
                  <a:pt x="3994" y="7838"/>
                </a:cubicBezTo>
                <a:cubicBezTo>
                  <a:pt x="3982" y="7936"/>
                  <a:pt x="3973" y="8039"/>
                  <a:pt x="3969" y="8136"/>
                </a:cubicBezTo>
                <a:cubicBezTo>
                  <a:pt x="3966" y="8225"/>
                  <a:pt x="3957" y="8301"/>
                  <a:pt x="3944" y="8384"/>
                </a:cubicBezTo>
                <a:cubicBezTo>
                  <a:pt x="3931" y="8464"/>
                  <a:pt x="3941" y="8526"/>
                  <a:pt x="3919" y="8607"/>
                </a:cubicBezTo>
              </a:path>
              <a:path w="1216" h="1415">
                <a:moveTo>
                  <a:pt x="3919" y="8905"/>
                </a:moveTo>
                <a:cubicBezTo>
                  <a:pt x="3899" y="8965"/>
                  <a:pt x="3900" y="8979"/>
                  <a:pt x="3870" y="9004"/>
                </a:cubicBezTo>
                <a:cubicBezTo>
                  <a:pt x="3952" y="9040"/>
                  <a:pt x="3922" y="9012"/>
                  <a:pt x="3994" y="9004"/>
                </a:cubicBezTo>
                <a:cubicBezTo>
                  <a:pt x="4002" y="9004"/>
                  <a:pt x="4010" y="9004"/>
                  <a:pt x="4018" y="9004"/>
                </a:cubicBezTo>
                <a:cubicBezTo>
                  <a:pt x="4018" y="8952"/>
                  <a:pt x="4021" y="8954"/>
                  <a:pt x="3969" y="8954"/>
                </a:cubicBezTo>
                <a:cubicBezTo>
                  <a:pt x="3933" y="8954"/>
                  <a:pt x="3845" y="8952"/>
                  <a:pt x="3870" y="8979"/>
                </a:cubicBezTo>
                <a:cubicBezTo>
                  <a:pt x="3898" y="8979"/>
                  <a:pt x="3908" y="8976"/>
                  <a:pt x="3919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5760" y="3009960"/>
            <a:ext cx="1155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4539" y="8384"/>
                </a:moveTo>
                <a:cubicBezTo>
                  <a:pt x="4613" y="8384"/>
                  <a:pt x="4677" y="8371"/>
                  <a:pt x="4738" y="8359"/>
                </a:cubicBezTo>
                <a:cubicBezTo>
                  <a:pt x="4787" y="8359"/>
                  <a:pt x="4804" y="8359"/>
                  <a:pt x="4837" y="8359"/>
                </a:cubicBezTo>
              </a:path>
              <a:path w="324" h="274">
                <a:moveTo>
                  <a:pt x="4514" y="8607"/>
                </a:moveTo>
                <a:cubicBezTo>
                  <a:pt x="4576" y="8626"/>
                  <a:pt x="4672" y="8656"/>
                  <a:pt x="4738" y="8632"/>
                </a:cubicBezTo>
                <a:cubicBezTo>
                  <a:pt x="4746" y="8624"/>
                  <a:pt x="4754" y="8615"/>
                  <a:pt x="4762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8880" y="2751120"/>
            <a:ext cx="1589040" cy="480960"/>
          </a:xfrm>
          <a:custGeom>
            <a:avLst/>
            <a:gdLst/>
            <a:ahLst/>
            <a:rect l="l" t="t" r="r" b="b"/>
            <a:pathLst>
              <a:path w="4416" h="1340">
                <a:moveTo>
                  <a:pt x="5482" y="7789"/>
                </a:moveTo>
                <a:cubicBezTo>
                  <a:pt x="5580" y="7754"/>
                  <a:pt x="5679" y="7727"/>
                  <a:pt x="5779" y="7714"/>
                </a:cubicBezTo>
                <a:cubicBezTo>
                  <a:pt x="5821" y="7709"/>
                  <a:pt x="5928" y="7715"/>
                  <a:pt x="5953" y="7665"/>
                </a:cubicBezTo>
                <a:cubicBezTo>
                  <a:pt x="5953" y="7657"/>
                  <a:pt x="5953" y="7648"/>
                  <a:pt x="5953" y="7640"/>
                </a:cubicBezTo>
              </a:path>
              <a:path w="4416" h="1340">
                <a:moveTo>
                  <a:pt x="5507" y="7789"/>
                </a:moveTo>
                <a:cubicBezTo>
                  <a:pt x="5450" y="7902"/>
                  <a:pt x="5429" y="7997"/>
                  <a:pt x="5383" y="8111"/>
                </a:cubicBezTo>
                <a:cubicBezTo>
                  <a:pt x="5367" y="8150"/>
                  <a:pt x="5358" y="8139"/>
                  <a:pt x="5358" y="8186"/>
                </a:cubicBezTo>
                <a:cubicBezTo>
                  <a:pt x="5396" y="8204"/>
                  <a:pt x="5417" y="8188"/>
                  <a:pt x="5457" y="8161"/>
                </a:cubicBezTo>
                <a:cubicBezTo>
                  <a:pt x="5489" y="8139"/>
                  <a:pt x="5545" y="8072"/>
                  <a:pt x="5581" y="8062"/>
                </a:cubicBezTo>
                <a:cubicBezTo>
                  <a:pt x="5628" y="8049"/>
                  <a:pt x="5696" y="8059"/>
                  <a:pt x="5730" y="8086"/>
                </a:cubicBezTo>
                <a:cubicBezTo>
                  <a:pt x="5790" y="8133"/>
                  <a:pt x="5824" y="8160"/>
                  <a:pt x="5854" y="8235"/>
                </a:cubicBezTo>
                <a:cubicBezTo>
                  <a:pt x="5887" y="8318"/>
                  <a:pt x="5901" y="8420"/>
                  <a:pt x="5904" y="8508"/>
                </a:cubicBezTo>
                <a:cubicBezTo>
                  <a:pt x="5909" y="8627"/>
                  <a:pt x="5855" y="8701"/>
                  <a:pt x="5755" y="8756"/>
                </a:cubicBezTo>
                <a:cubicBezTo>
                  <a:pt x="5681" y="8797"/>
                  <a:pt x="5596" y="8854"/>
                  <a:pt x="5507" y="8830"/>
                </a:cubicBezTo>
                <a:cubicBezTo>
                  <a:pt x="5480" y="8823"/>
                  <a:pt x="5371" y="8801"/>
                  <a:pt x="5358" y="8781"/>
                </a:cubicBezTo>
                <a:cubicBezTo>
                  <a:pt x="5339" y="8753"/>
                  <a:pt x="5370" y="8723"/>
                  <a:pt x="5383" y="8706"/>
                </a:cubicBezTo>
              </a:path>
              <a:path w="4416" h="1340">
                <a:moveTo>
                  <a:pt x="6300" y="8384"/>
                </a:moveTo>
                <a:cubicBezTo>
                  <a:pt x="6248" y="8438"/>
                  <a:pt x="6301" y="8377"/>
                  <a:pt x="6325" y="8359"/>
                </a:cubicBezTo>
              </a:path>
              <a:path w="4416" h="1340">
                <a:moveTo>
                  <a:pt x="6821" y="7789"/>
                </a:moveTo>
                <a:cubicBezTo>
                  <a:pt x="6787" y="7871"/>
                  <a:pt x="6749" y="7963"/>
                  <a:pt x="6697" y="8037"/>
                </a:cubicBezTo>
                <a:cubicBezTo>
                  <a:pt x="6671" y="8075"/>
                  <a:pt x="6639" y="8137"/>
                  <a:pt x="6623" y="8186"/>
                </a:cubicBezTo>
                <a:cubicBezTo>
                  <a:pt x="6606" y="8236"/>
                  <a:pt x="6626" y="8268"/>
                  <a:pt x="6672" y="8285"/>
                </a:cubicBezTo>
                <a:cubicBezTo>
                  <a:pt x="6721" y="8303"/>
                  <a:pt x="6767" y="8310"/>
                  <a:pt x="6821" y="8310"/>
                </a:cubicBezTo>
                <a:cubicBezTo>
                  <a:pt x="6888" y="8310"/>
                  <a:pt x="6986" y="8312"/>
                  <a:pt x="7045" y="8285"/>
                </a:cubicBezTo>
                <a:cubicBezTo>
                  <a:pt x="7105" y="8257"/>
                  <a:pt x="7148" y="8207"/>
                  <a:pt x="7193" y="8161"/>
                </a:cubicBezTo>
              </a:path>
              <a:path w="4416" h="1340">
                <a:moveTo>
                  <a:pt x="7144" y="7665"/>
                </a:moveTo>
                <a:cubicBezTo>
                  <a:pt x="7119" y="7756"/>
                  <a:pt x="7114" y="7847"/>
                  <a:pt x="7094" y="7938"/>
                </a:cubicBezTo>
                <a:cubicBezTo>
                  <a:pt x="7066" y="8061"/>
                  <a:pt x="7066" y="8186"/>
                  <a:pt x="7045" y="8310"/>
                </a:cubicBezTo>
                <a:cubicBezTo>
                  <a:pt x="7021" y="8456"/>
                  <a:pt x="7000" y="8608"/>
                  <a:pt x="6995" y="8756"/>
                </a:cubicBezTo>
                <a:cubicBezTo>
                  <a:pt x="6992" y="8835"/>
                  <a:pt x="6999" y="8913"/>
                  <a:pt x="7020" y="8954"/>
                </a:cubicBezTo>
                <a:cubicBezTo>
                  <a:pt x="7041" y="8995"/>
                  <a:pt x="7020" y="8936"/>
                  <a:pt x="7020" y="8905"/>
                </a:cubicBezTo>
              </a:path>
              <a:path w="4416" h="1340">
                <a:moveTo>
                  <a:pt x="7392" y="8458"/>
                </a:moveTo>
                <a:cubicBezTo>
                  <a:pt x="7392" y="8483"/>
                  <a:pt x="7392" y="8491"/>
                  <a:pt x="7392" y="8458"/>
                </a:cubicBezTo>
              </a:path>
              <a:path w="4416" h="1340">
                <a:moveTo>
                  <a:pt x="7714" y="7987"/>
                </a:moveTo>
                <a:cubicBezTo>
                  <a:pt x="7802" y="7909"/>
                  <a:pt x="7889" y="7816"/>
                  <a:pt x="8012" y="7789"/>
                </a:cubicBezTo>
                <a:cubicBezTo>
                  <a:pt x="8057" y="7779"/>
                  <a:pt x="8156" y="7769"/>
                  <a:pt x="8186" y="7813"/>
                </a:cubicBezTo>
                <a:cubicBezTo>
                  <a:pt x="8223" y="7867"/>
                  <a:pt x="8224" y="7958"/>
                  <a:pt x="8186" y="8012"/>
                </a:cubicBezTo>
                <a:cubicBezTo>
                  <a:pt x="8139" y="8077"/>
                  <a:pt x="8080" y="8142"/>
                  <a:pt x="8012" y="8186"/>
                </a:cubicBezTo>
                <a:cubicBezTo>
                  <a:pt x="7970" y="8214"/>
                  <a:pt x="7908" y="8267"/>
                  <a:pt x="7863" y="8285"/>
                </a:cubicBezTo>
                <a:cubicBezTo>
                  <a:pt x="7855" y="8285"/>
                  <a:pt x="7846" y="8285"/>
                  <a:pt x="7838" y="8285"/>
                </a:cubicBezTo>
                <a:cubicBezTo>
                  <a:pt x="7865" y="8298"/>
                  <a:pt x="7918" y="8303"/>
                  <a:pt x="7962" y="8285"/>
                </a:cubicBezTo>
                <a:cubicBezTo>
                  <a:pt x="8000" y="8270"/>
                  <a:pt x="8035" y="8228"/>
                  <a:pt x="8086" y="8235"/>
                </a:cubicBezTo>
                <a:cubicBezTo>
                  <a:pt x="8104" y="8237"/>
                  <a:pt x="8179" y="8288"/>
                  <a:pt x="8186" y="8310"/>
                </a:cubicBezTo>
                <a:cubicBezTo>
                  <a:pt x="8211" y="8397"/>
                  <a:pt x="8171" y="8503"/>
                  <a:pt x="8161" y="8582"/>
                </a:cubicBezTo>
                <a:cubicBezTo>
                  <a:pt x="8150" y="8668"/>
                  <a:pt x="8134" y="8813"/>
                  <a:pt x="8062" y="8880"/>
                </a:cubicBezTo>
                <a:cubicBezTo>
                  <a:pt x="8002" y="8936"/>
                  <a:pt x="7942" y="8930"/>
                  <a:pt x="7863" y="8930"/>
                </a:cubicBezTo>
                <a:cubicBezTo>
                  <a:pt x="7819" y="8930"/>
                  <a:pt x="7770" y="8907"/>
                  <a:pt x="7739" y="8880"/>
                </a:cubicBezTo>
                <a:cubicBezTo>
                  <a:pt x="7693" y="8839"/>
                  <a:pt x="7717" y="8822"/>
                  <a:pt x="7739" y="8781"/>
                </a:cubicBezTo>
                <a:cubicBezTo>
                  <a:pt x="7747" y="8764"/>
                  <a:pt x="7756" y="8748"/>
                  <a:pt x="7764" y="8731"/>
                </a:cubicBezTo>
              </a:path>
              <a:path w="4416" h="1340">
                <a:moveTo>
                  <a:pt x="8558" y="8384"/>
                </a:moveTo>
                <a:cubicBezTo>
                  <a:pt x="8530" y="8384"/>
                  <a:pt x="8524" y="8382"/>
                  <a:pt x="8558" y="8359"/>
                </a:cubicBezTo>
              </a:path>
              <a:path w="4416" h="1340">
                <a:moveTo>
                  <a:pt x="8954" y="7888"/>
                </a:moveTo>
                <a:cubicBezTo>
                  <a:pt x="9035" y="7830"/>
                  <a:pt x="9105" y="7777"/>
                  <a:pt x="9203" y="7764"/>
                </a:cubicBezTo>
                <a:cubicBezTo>
                  <a:pt x="9264" y="7756"/>
                  <a:pt x="9373" y="7781"/>
                  <a:pt x="9426" y="7813"/>
                </a:cubicBezTo>
                <a:cubicBezTo>
                  <a:pt x="9487" y="7850"/>
                  <a:pt x="9475" y="7927"/>
                  <a:pt x="9475" y="7987"/>
                </a:cubicBezTo>
                <a:cubicBezTo>
                  <a:pt x="9475" y="8080"/>
                  <a:pt x="9426" y="8139"/>
                  <a:pt x="9376" y="8210"/>
                </a:cubicBezTo>
                <a:cubicBezTo>
                  <a:pt x="9303" y="8314"/>
                  <a:pt x="9215" y="8415"/>
                  <a:pt x="9128" y="8508"/>
                </a:cubicBezTo>
                <a:cubicBezTo>
                  <a:pt x="9060" y="8581"/>
                  <a:pt x="8990" y="8628"/>
                  <a:pt x="8930" y="8706"/>
                </a:cubicBezTo>
                <a:cubicBezTo>
                  <a:pt x="8899" y="8746"/>
                  <a:pt x="8869" y="8785"/>
                  <a:pt x="8855" y="8830"/>
                </a:cubicBezTo>
                <a:cubicBezTo>
                  <a:pt x="8855" y="8838"/>
                  <a:pt x="8855" y="8847"/>
                  <a:pt x="8855" y="8855"/>
                </a:cubicBezTo>
                <a:cubicBezTo>
                  <a:pt x="8983" y="8855"/>
                  <a:pt x="9114" y="8857"/>
                  <a:pt x="9227" y="8880"/>
                </a:cubicBezTo>
                <a:cubicBezTo>
                  <a:pt x="9289" y="8893"/>
                  <a:pt x="9404" y="8893"/>
                  <a:pt x="9451" y="8855"/>
                </a:cubicBezTo>
                <a:cubicBezTo>
                  <a:pt x="9467" y="8839"/>
                  <a:pt x="9484" y="8822"/>
                  <a:pt x="9500" y="8806"/>
                </a:cubicBezTo>
              </a:path>
              <a:path w="4416" h="1340">
                <a:moveTo>
                  <a:pt x="9723" y="8483"/>
                </a:moveTo>
                <a:cubicBezTo>
                  <a:pt x="9715" y="8483"/>
                  <a:pt x="9707" y="8483"/>
                  <a:pt x="9699" y="8483"/>
                </a:cubicBezTo>
                <a:cubicBezTo>
                  <a:pt x="9713" y="8528"/>
                  <a:pt x="9737" y="8510"/>
                  <a:pt x="9773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4840" y="2776680"/>
            <a:ext cx="357120" cy="44748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0567" y="7714"/>
                </a:moveTo>
                <a:cubicBezTo>
                  <a:pt x="10558" y="7780"/>
                  <a:pt x="10543" y="7845"/>
                  <a:pt x="10517" y="7913"/>
                </a:cubicBezTo>
                <a:cubicBezTo>
                  <a:pt x="10482" y="8003"/>
                  <a:pt x="10449" y="8094"/>
                  <a:pt x="10418" y="8186"/>
                </a:cubicBezTo>
                <a:cubicBezTo>
                  <a:pt x="10388" y="8274"/>
                  <a:pt x="10357" y="8390"/>
                  <a:pt x="10344" y="8483"/>
                </a:cubicBezTo>
                <a:cubicBezTo>
                  <a:pt x="10330" y="8581"/>
                  <a:pt x="10336" y="8693"/>
                  <a:pt x="10344" y="8781"/>
                </a:cubicBezTo>
                <a:cubicBezTo>
                  <a:pt x="10349" y="8834"/>
                  <a:pt x="10339" y="8888"/>
                  <a:pt x="10368" y="8930"/>
                </a:cubicBezTo>
                <a:cubicBezTo>
                  <a:pt x="10396" y="8972"/>
                  <a:pt x="10408" y="8958"/>
                  <a:pt x="10418" y="8930"/>
                </a:cubicBezTo>
              </a:path>
              <a:path w="993" h="1241">
                <a:moveTo>
                  <a:pt x="10964" y="8409"/>
                </a:moveTo>
                <a:cubicBezTo>
                  <a:pt x="11055" y="8409"/>
                  <a:pt x="11146" y="8409"/>
                  <a:pt x="11237" y="8409"/>
                </a:cubicBezTo>
              </a:path>
              <a:path w="993" h="1241">
                <a:moveTo>
                  <a:pt x="11137" y="8582"/>
                </a:moveTo>
                <a:cubicBezTo>
                  <a:pt x="11224" y="8582"/>
                  <a:pt x="11242" y="8602"/>
                  <a:pt x="11311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2840040"/>
            <a:ext cx="731880" cy="446040"/>
          </a:xfrm>
          <a:custGeom>
            <a:avLst/>
            <a:gdLst/>
            <a:ahLst/>
            <a:rect l="l" t="t" r="r" b="b"/>
            <a:pathLst>
              <a:path w="2035" h="1241">
                <a:moveTo>
                  <a:pt x="12179" y="7888"/>
                </a:moveTo>
                <a:cubicBezTo>
                  <a:pt x="12179" y="7971"/>
                  <a:pt x="12148" y="8057"/>
                  <a:pt x="12129" y="8136"/>
                </a:cubicBezTo>
                <a:cubicBezTo>
                  <a:pt x="12103" y="8245"/>
                  <a:pt x="12066" y="8345"/>
                  <a:pt x="12055" y="8458"/>
                </a:cubicBezTo>
                <a:cubicBezTo>
                  <a:pt x="12044" y="8568"/>
                  <a:pt x="12020" y="8673"/>
                  <a:pt x="12005" y="8781"/>
                </a:cubicBezTo>
                <a:cubicBezTo>
                  <a:pt x="11996" y="8849"/>
                  <a:pt x="11981" y="8910"/>
                  <a:pt x="11981" y="8979"/>
                </a:cubicBezTo>
                <a:cubicBezTo>
                  <a:pt x="11981" y="9004"/>
                  <a:pt x="11981" y="9012"/>
                  <a:pt x="11981" y="9029"/>
                </a:cubicBezTo>
                <a:cubicBezTo>
                  <a:pt x="11999" y="8973"/>
                  <a:pt x="11991" y="9039"/>
                  <a:pt x="12005" y="8954"/>
                </a:cubicBezTo>
              </a:path>
              <a:path w="2035" h="1241">
                <a:moveTo>
                  <a:pt x="12576" y="8012"/>
                </a:moveTo>
                <a:cubicBezTo>
                  <a:pt x="12669" y="7946"/>
                  <a:pt x="12709" y="7885"/>
                  <a:pt x="12824" y="7913"/>
                </a:cubicBezTo>
                <a:cubicBezTo>
                  <a:pt x="12896" y="7930"/>
                  <a:pt x="12913" y="8000"/>
                  <a:pt x="12923" y="8062"/>
                </a:cubicBezTo>
                <a:cubicBezTo>
                  <a:pt x="12938" y="8153"/>
                  <a:pt x="12860" y="8345"/>
                  <a:pt x="12824" y="8409"/>
                </a:cubicBezTo>
                <a:cubicBezTo>
                  <a:pt x="12778" y="8492"/>
                  <a:pt x="12663" y="8584"/>
                  <a:pt x="12601" y="8657"/>
                </a:cubicBezTo>
                <a:cubicBezTo>
                  <a:pt x="12544" y="8725"/>
                  <a:pt x="12503" y="8757"/>
                  <a:pt x="12452" y="8830"/>
                </a:cubicBezTo>
                <a:cubicBezTo>
                  <a:pt x="12431" y="8859"/>
                  <a:pt x="12414" y="8889"/>
                  <a:pt x="12427" y="8930"/>
                </a:cubicBezTo>
                <a:cubicBezTo>
                  <a:pt x="12438" y="8965"/>
                  <a:pt x="12464" y="8963"/>
                  <a:pt x="12502" y="8979"/>
                </a:cubicBezTo>
                <a:cubicBezTo>
                  <a:pt x="12578" y="9010"/>
                  <a:pt x="12602" y="8989"/>
                  <a:pt x="12675" y="8979"/>
                </a:cubicBezTo>
                <a:cubicBezTo>
                  <a:pt x="12752" y="8969"/>
                  <a:pt x="12825" y="8978"/>
                  <a:pt x="12898" y="8954"/>
                </a:cubicBezTo>
                <a:cubicBezTo>
                  <a:pt x="12969" y="8920"/>
                  <a:pt x="13004" y="8898"/>
                  <a:pt x="13047" y="8855"/>
                </a:cubicBezTo>
              </a:path>
              <a:path w="2035" h="1241">
                <a:moveTo>
                  <a:pt x="13444" y="8186"/>
                </a:moveTo>
                <a:cubicBezTo>
                  <a:pt x="13407" y="8297"/>
                  <a:pt x="13358" y="8396"/>
                  <a:pt x="13320" y="8508"/>
                </a:cubicBezTo>
                <a:cubicBezTo>
                  <a:pt x="13284" y="8615"/>
                  <a:pt x="13271" y="8693"/>
                  <a:pt x="13271" y="8806"/>
                </a:cubicBezTo>
                <a:cubicBezTo>
                  <a:pt x="13271" y="8861"/>
                  <a:pt x="13302" y="8964"/>
                  <a:pt x="13345" y="9004"/>
                </a:cubicBezTo>
                <a:cubicBezTo>
                  <a:pt x="13392" y="9048"/>
                  <a:pt x="13448" y="9112"/>
                  <a:pt x="13519" y="9128"/>
                </a:cubicBezTo>
                <a:cubicBezTo>
                  <a:pt x="13588" y="9143"/>
                  <a:pt x="13686" y="9121"/>
                  <a:pt x="13742" y="9079"/>
                </a:cubicBezTo>
                <a:cubicBezTo>
                  <a:pt x="13819" y="9022"/>
                  <a:pt x="13891" y="8964"/>
                  <a:pt x="13940" y="8880"/>
                </a:cubicBezTo>
                <a:cubicBezTo>
                  <a:pt x="14011" y="8756"/>
                  <a:pt x="14019" y="8591"/>
                  <a:pt x="13990" y="8458"/>
                </a:cubicBezTo>
                <a:cubicBezTo>
                  <a:pt x="13972" y="8376"/>
                  <a:pt x="13896" y="8315"/>
                  <a:pt x="13841" y="8260"/>
                </a:cubicBezTo>
                <a:cubicBezTo>
                  <a:pt x="13797" y="8216"/>
                  <a:pt x="13751" y="8189"/>
                  <a:pt x="13692" y="8186"/>
                </a:cubicBezTo>
                <a:cubicBezTo>
                  <a:pt x="13631" y="8186"/>
                  <a:pt x="13616" y="8177"/>
                  <a:pt x="13593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4800" y="3776760"/>
            <a:ext cx="189000" cy="366480"/>
          </a:xfrm>
          <a:custGeom>
            <a:avLst/>
            <a:gdLst/>
            <a:ahLst/>
            <a:rect l="l" t="t" r="r" b="b"/>
            <a:pathLst>
              <a:path w="522" h="1018">
                <a:moveTo>
                  <a:pt x="2952" y="10567"/>
                </a:moveTo>
                <a:cubicBezTo>
                  <a:pt x="2939" y="10514"/>
                  <a:pt x="2884" y="10501"/>
                  <a:pt x="2828" y="10492"/>
                </a:cubicBezTo>
                <a:cubicBezTo>
                  <a:pt x="2750" y="10479"/>
                  <a:pt x="2680" y="10513"/>
                  <a:pt x="2604" y="10517"/>
                </a:cubicBezTo>
                <a:cubicBezTo>
                  <a:pt x="2535" y="10521"/>
                  <a:pt x="2469" y="10551"/>
                  <a:pt x="2431" y="10616"/>
                </a:cubicBezTo>
                <a:cubicBezTo>
                  <a:pt x="2398" y="10672"/>
                  <a:pt x="2448" y="10731"/>
                  <a:pt x="2480" y="10765"/>
                </a:cubicBezTo>
                <a:cubicBezTo>
                  <a:pt x="2554" y="10844"/>
                  <a:pt x="2636" y="10929"/>
                  <a:pt x="2704" y="11013"/>
                </a:cubicBezTo>
                <a:cubicBezTo>
                  <a:pt x="2780" y="11108"/>
                  <a:pt x="2794" y="11231"/>
                  <a:pt x="2828" y="11336"/>
                </a:cubicBezTo>
                <a:cubicBezTo>
                  <a:pt x="2844" y="11387"/>
                  <a:pt x="2880" y="11456"/>
                  <a:pt x="2803" y="11485"/>
                </a:cubicBezTo>
                <a:cubicBezTo>
                  <a:pt x="2706" y="11521"/>
                  <a:pt x="2652" y="11500"/>
                  <a:pt x="2580" y="11435"/>
                </a:cubicBezTo>
                <a:cubicBezTo>
                  <a:pt x="2537" y="11396"/>
                  <a:pt x="2494" y="11321"/>
                  <a:pt x="2505" y="11261"/>
                </a:cubicBezTo>
                <a:cubicBezTo>
                  <a:pt x="2521" y="11172"/>
                  <a:pt x="2579" y="11058"/>
                  <a:pt x="2629" y="10988"/>
                </a:cubicBezTo>
                <a:cubicBezTo>
                  <a:pt x="2710" y="10875"/>
                  <a:pt x="2859" y="10786"/>
                  <a:pt x="2927" y="10666"/>
                </a:cubicBezTo>
                <a:cubicBezTo>
                  <a:pt x="2935" y="10641"/>
                  <a:pt x="2944" y="10617"/>
                  <a:pt x="2952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4280" y="3768840"/>
            <a:ext cx="27000" cy="392040"/>
          </a:xfrm>
          <a:custGeom>
            <a:avLst/>
            <a:gdLst/>
            <a:ahLst/>
            <a:rect l="l" t="t" r="r" b="b"/>
            <a:pathLst>
              <a:path w="76" h="1092">
                <a:moveTo>
                  <a:pt x="3398" y="10468"/>
                </a:moveTo>
                <a:cubicBezTo>
                  <a:pt x="3398" y="10591"/>
                  <a:pt x="3378" y="10696"/>
                  <a:pt x="3373" y="10815"/>
                </a:cubicBezTo>
                <a:cubicBezTo>
                  <a:pt x="3369" y="10906"/>
                  <a:pt x="3373" y="10997"/>
                  <a:pt x="3373" y="11088"/>
                </a:cubicBezTo>
              </a:path>
              <a:path w="76" h="1092">
                <a:moveTo>
                  <a:pt x="3423" y="11534"/>
                </a:moveTo>
                <a:cubicBezTo>
                  <a:pt x="3454" y="11534"/>
                  <a:pt x="3423" y="11565"/>
                  <a:pt x="3423" y="11534"/>
                </a:cubicBezTo>
                <a:cubicBezTo>
                  <a:pt x="3423" y="11506"/>
                  <a:pt x="3425" y="11495"/>
                  <a:pt x="3448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0" y="3963960"/>
            <a:ext cx="88920" cy="1000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3919" y="11013"/>
                </a:moveTo>
                <a:cubicBezTo>
                  <a:pt x="4002" y="11013"/>
                  <a:pt x="4084" y="11013"/>
                  <a:pt x="4167" y="11013"/>
                </a:cubicBezTo>
              </a:path>
              <a:path w="249" h="274">
                <a:moveTo>
                  <a:pt x="3919" y="11261"/>
                </a:moveTo>
                <a:cubicBezTo>
                  <a:pt x="4010" y="11284"/>
                  <a:pt x="4072" y="11286"/>
                  <a:pt x="4167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4040" y="3840120"/>
            <a:ext cx="2901960" cy="500040"/>
          </a:xfrm>
          <a:custGeom>
            <a:avLst/>
            <a:gdLst/>
            <a:ahLst/>
            <a:rect l="l" t="t" r="r" b="b"/>
            <a:pathLst>
              <a:path w="8063" h="1390">
                <a:moveTo>
                  <a:pt x="5159" y="10691"/>
                </a:moveTo>
                <a:cubicBezTo>
                  <a:pt x="5059" y="10682"/>
                  <a:pt x="4929" y="10650"/>
                  <a:pt x="4837" y="10716"/>
                </a:cubicBezTo>
                <a:cubicBezTo>
                  <a:pt x="4790" y="10749"/>
                  <a:pt x="4760" y="10830"/>
                  <a:pt x="4787" y="10889"/>
                </a:cubicBezTo>
                <a:cubicBezTo>
                  <a:pt x="4849" y="11024"/>
                  <a:pt x="4978" y="11127"/>
                  <a:pt x="5035" y="11261"/>
                </a:cubicBezTo>
                <a:cubicBezTo>
                  <a:pt x="5076" y="11358"/>
                  <a:pt x="5095" y="11442"/>
                  <a:pt x="5085" y="11534"/>
                </a:cubicBezTo>
                <a:cubicBezTo>
                  <a:pt x="5080" y="11585"/>
                  <a:pt x="5072" y="11629"/>
                  <a:pt x="5011" y="11633"/>
                </a:cubicBezTo>
                <a:cubicBezTo>
                  <a:pt x="4931" y="11639"/>
                  <a:pt x="4881" y="11584"/>
                  <a:pt x="4862" y="11509"/>
                </a:cubicBezTo>
                <a:cubicBezTo>
                  <a:pt x="4843" y="11432"/>
                  <a:pt x="4879" y="11353"/>
                  <a:pt x="4911" y="11286"/>
                </a:cubicBezTo>
                <a:cubicBezTo>
                  <a:pt x="4955" y="11193"/>
                  <a:pt x="4992" y="11118"/>
                  <a:pt x="5060" y="11038"/>
                </a:cubicBezTo>
                <a:cubicBezTo>
                  <a:pt x="5109" y="10981"/>
                  <a:pt x="5140" y="10922"/>
                  <a:pt x="5184" y="10864"/>
                </a:cubicBezTo>
                <a:cubicBezTo>
                  <a:pt x="5214" y="10825"/>
                  <a:pt x="5249" y="10817"/>
                  <a:pt x="5283" y="10790"/>
                </a:cubicBezTo>
              </a:path>
              <a:path w="8063" h="1390">
                <a:moveTo>
                  <a:pt x="5432" y="11261"/>
                </a:moveTo>
                <a:cubicBezTo>
                  <a:pt x="5476" y="11294"/>
                  <a:pt x="5463" y="11294"/>
                  <a:pt x="5507" y="11261"/>
                </a:cubicBezTo>
              </a:path>
              <a:path w="8063" h="1390">
                <a:moveTo>
                  <a:pt x="5879" y="10691"/>
                </a:moveTo>
                <a:cubicBezTo>
                  <a:pt x="5963" y="10673"/>
                  <a:pt x="6064" y="10647"/>
                  <a:pt x="6152" y="10666"/>
                </a:cubicBezTo>
                <a:cubicBezTo>
                  <a:pt x="6240" y="10685"/>
                  <a:pt x="6308" y="10691"/>
                  <a:pt x="6400" y="10691"/>
                </a:cubicBezTo>
                <a:cubicBezTo>
                  <a:pt x="6425" y="10691"/>
                  <a:pt x="6449" y="10691"/>
                  <a:pt x="6474" y="10691"/>
                </a:cubicBezTo>
                <a:cubicBezTo>
                  <a:pt x="6464" y="10730"/>
                  <a:pt x="6441" y="10758"/>
                  <a:pt x="6424" y="10790"/>
                </a:cubicBezTo>
                <a:cubicBezTo>
                  <a:pt x="6389" y="10856"/>
                  <a:pt x="6346" y="10881"/>
                  <a:pt x="6325" y="10964"/>
                </a:cubicBezTo>
                <a:cubicBezTo>
                  <a:pt x="6287" y="11116"/>
                  <a:pt x="6258" y="11283"/>
                  <a:pt x="6251" y="11435"/>
                </a:cubicBezTo>
                <a:cubicBezTo>
                  <a:pt x="6248" y="11498"/>
                  <a:pt x="6226" y="11544"/>
                  <a:pt x="6226" y="11609"/>
                </a:cubicBezTo>
                <a:cubicBezTo>
                  <a:pt x="6226" y="11669"/>
                  <a:pt x="6193" y="11708"/>
                  <a:pt x="6226" y="11658"/>
                </a:cubicBezTo>
              </a:path>
              <a:path w="8063" h="1390">
                <a:moveTo>
                  <a:pt x="6697" y="11261"/>
                </a:moveTo>
                <a:cubicBezTo>
                  <a:pt x="6762" y="11261"/>
                  <a:pt x="6738" y="11257"/>
                  <a:pt x="6772" y="11212"/>
                </a:cubicBezTo>
              </a:path>
              <a:path w="8063" h="1390">
                <a:moveTo>
                  <a:pt x="7243" y="10666"/>
                </a:moveTo>
                <a:cubicBezTo>
                  <a:pt x="7235" y="10771"/>
                  <a:pt x="7204" y="10835"/>
                  <a:pt x="7169" y="10939"/>
                </a:cubicBezTo>
                <a:cubicBezTo>
                  <a:pt x="7129" y="11060"/>
                  <a:pt x="7093" y="11137"/>
                  <a:pt x="7069" y="11261"/>
                </a:cubicBezTo>
                <a:cubicBezTo>
                  <a:pt x="7047" y="11373"/>
                  <a:pt x="7048" y="11422"/>
                  <a:pt x="7094" y="11534"/>
                </a:cubicBezTo>
                <a:cubicBezTo>
                  <a:pt x="7120" y="11598"/>
                  <a:pt x="7182" y="11680"/>
                  <a:pt x="7243" y="11708"/>
                </a:cubicBezTo>
                <a:cubicBezTo>
                  <a:pt x="7324" y="11745"/>
                  <a:pt x="7395" y="11739"/>
                  <a:pt x="7466" y="11683"/>
                </a:cubicBezTo>
                <a:cubicBezTo>
                  <a:pt x="7533" y="11631"/>
                  <a:pt x="7595" y="11515"/>
                  <a:pt x="7615" y="11435"/>
                </a:cubicBezTo>
                <a:cubicBezTo>
                  <a:pt x="7632" y="11367"/>
                  <a:pt x="7587" y="11340"/>
                  <a:pt x="7541" y="11336"/>
                </a:cubicBezTo>
                <a:cubicBezTo>
                  <a:pt x="7461" y="11329"/>
                  <a:pt x="7445" y="11403"/>
                  <a:pt x="7417" y="11460"/>
                </a:cubicBezTo>
                <a:cubicBezTo>
                  <a:pt x="7394" y="11505"/>
                  <a:pt x="7376" y="11580"/>
                  <a:pt x="7392" y="11633"/>
                </a:cubicBezTo>
                <a:cubicBezTo>
                  <a:pt x="7406" y="11680"/>
                  <a:pt x="7444" y="11728"/>
                  <a:pt x="7491" y="11733"/>
                </a:cubicBezTo>
                <a:cubicBezTo>
                  <a:pt x="7499" y="11733"/>
                  <a:pt x="7508" y="11733"/>
                  <a:pt x="7516" y="11733"/>
                </a:cubicBezTo>
              </a:path>
              <a:path w="8063" h="1390">
                <a:moveTo>
                  <a:pt x="7913" y="11311"/>
                </a:moveTo>
                <a:cubicBezTo>
                  <a:pt x="7947" y="11311"/>
                  <a:pt x="7960" y="11245"/>
                  <a:pt x="7987" y="11212"/>
                </a:cubicBezTo>
              </a:path>
              <a:path w="8063" h="1390">
                <a:moveTo>
                  <a:pt x="8483" y="10765"/>
                </a:moveTo>
                <a:cubicBezTo>
                  <a:pt x="8523" y="10762"/>
                  <a:pt x="8820" y="10767"/>
                  <a:pt x="8905" y="10716"/>
                </a:cubicBezTo>
                <a:cubicBezTo>
                  <a:pt x="8913" y="10708"/>
                  <a:pt x="8922" y="10699"/>
                  <a:pt x="8930" y="10691"/>
                </a:cubicBezTo>
              </a:path>
              <a:path w="8063" h="1390">
                <a:moveTo>
                  <a:pt x="8458" y="10765"/>
                </a:moveTo>
                <a:cubicBezTo>
                  <a:pt x="8399" y="10850"/>
                  <a:pt x="8294" y="10956"/>
                  <a:pt x="8285" y="11063"/>
                </a:cubicBezTo>
                <a:cubicBezTo>
                  <a:pt x="8281" y="11114"/>
                  <a:pt x="8283" y="11117"/>
                  <a:pt x="8310" y="11137"/>
                </a:cubicBezTo>
                <a:cubicBezTo>
                  <a:pt x="8368" y="11181"/>
                  <a:pt x="8354" y="11149"/>
                  <a:pt x="8409" y="11137"/>
                </a:cubicBezTo>
                <a:cubicBezTo>
                  <a:pt x="8463" y="11125"/>
                  <a:pt x="8498" y="11112"/>
                  <a:pt x="8558" y="11112"/>
                </a:cubicBezTo>
                <a:cubicBezTo>
                  <a:pt x="8599" y="11112"/>
                  <a:pt x="8700" y="11128"/>
                  <a:pt x="8731" y="11162"/>
                </a:cubicBezTo>
                <a:cubicBezTo>
                  <a:pt x="8780" y="11216"/>
                  <a:pt x="8843" y="11311"/>
                  <a:pt x="8855" y="11385"/>
                </a:cubicBezTo>
                <a:cubicBezTo>
                  <a:pt x="8872" y="11487"/>
                  <a:pt x="8844" y="11590"/>
                  <a:pt x="8806" y="11683"/>
                </a:cubicBezTo>
                <a:cubicBezTo>
                  <a:pt x="8782" y="11742"/>
                  <a:pt x="8710" y="11800"/>
                  <a:pt x="8657" y="11832"/>
                </a:cubicBezTo>
                <a:cubicBezTo>
                  <a:pt x="8612" y="11859"/>
                  <a:pt x="8496" y="11877"/>
                  <a:pt x="8458" y="11832"/>
                </a:cubicBezTo>
                <a:cubicBezTo>
                  <a:pt x="8425" y="11793"/>
                  <a:pt x="8434" y="11749"/>
                  <a:pt x="8458" y="11708"/>
                </a:cubicBezTo>
              </a:path>
              <a:path w="8063" h="1390">
                <a:moveTo>
                  <a:pt x="9227" y="11435"/>
                </a:moveTo>
                <a:cubicBezTo>
                  <a:pt x="9272" y="11413"/>
                  <a:pt x="9290" y="11357"/>
                  <a:pt x="9327" y="11311"/>
                </a:cubicBezTo>
              </a:path>
              <a:path w="8063" h="1390">
                <a:moveTo>
                  <a:pt x="9723" y="10988"/>
                </a:moveTo>
                <a:cubicBezTo>
                  <a:pt x="9686" y="11114"/>
                  <a:pt x="9642" y="11163"/>
                  <a:pt x="9723" y="11261"/>
                </a:cubicBezTo>
                <a:cubicBezTo>
                  <a:pt x="9772" y="11320"/>
                  <a:pt x="9870" y="11375"/>
                  <a:pt x="9947" y="11385"/>
                </a:cubicBezTo>
                <a:cubicBezTo>
                  <a:pt x="10038" y="11385"/>
                  <a:pt x="10062" y="11385"/>
                  <a:pt x="10120" y="11385"/>
                </a:cubicBezTo>
              </a:path>
              <a:path w="8063" h="1390">
                <a:moveTo>
                  <a:pt x="10244" y="10815"/>
                </a:moveTo>
                <a:cubicBezTo>
                  <a:pt x="10204" y="10954"/>
                  <a:pt x="10136" y="11116"/>
                  <a:pt x="10120" y="11261"/>
                </a:cubicBezTo>
                <a:cubicBezTo>
                  <a:pt x="10105" y="11392"/>
                  <a:pt x="10082" y="11527"/>
                  <a:pt x="10071" y="11658"/>
                </a:cubicBezTo>
                <a:cubicBezTo>
                  <a:pt x="10063" y="11758"/>
                  <a:pt x="10051" y="11858"/>
                  <a:pt x="10046" y="11956"/>
                </a:cubicBezTo>
                <a:cubicBezTo>
                  <a:pt x="10043" y="12010"/>
                  <a:pt x="10024" y="12061"/>
                  <a:pt x="10071" y="12030"/>
                </a:cubicBezTo>
              </a:path>
              <a:path w="8063" h="1390">
                <a:moveTo>
                  <a:pt x="10418" y="11534"/>
                </a:moveTo>
                <a:cubicBezTo>
                  <a:pt x="10473" y="11479"/>
                  <a:pt x="10490" y="11436"/>
                  <a:pt x="10517" y="11361"/>
                </a:cubicBezTo>
              </a:path>
              <a:path w="8063" h="1390">
                <a:moveTo>
                  <a:pt x="10964" y="10889"/>
                </a:moveTo>
                <a:cubicBezTo>
                  <a:pt x="11072" y="10910"/>
                  <a:pt x="11229" y="10896"/>
                  <a:pt x="11261" y="11038"/>
                </a:cubicBezTo>
                <a:cubicBezTo>
                  <a:pt x="11279" y="11116"/>
                  <a:pt x="11198" y="11239"/>
                  <a:pt x="11137" y="11286"/>
                </a:cubicBezTo>
                <a:cubicBezTo>
                  <a:pt x="11092" y="11321"/>
                  <a:pt x="11031" y="11335"/>
                  <a:pt x="10988" y="11361"/>
                </a:cubicBezTo>
                <a:cubicBezTo>
                  <a:pt x="10966" y="11383"/>
                  <a:pt x="10961" y="11391"/>
                  <a:pt x="10939" y="11385"/>
                </a:cubicBezTo>
                <a:cubicBezTo>
                  <a:pt x="10973" y="11360"/>
                  <a:pt x="11016" y="11346"/>
                  <a:pt x="11063" y="11361"/>
                </a:cubicBezTo>
                <a:cubicBezTo>
                  <a:pt x="11148" y="11389"/>
                  <a:pt x="11131" y="11439"/>
                  <a:pt x="11162" y="11509"/>
                </a:cubicBezTo>
                <a:cubicBezTo>
                  <a:pt x="11195" y="11583"/>
                  <a:pt x="11187" y="11651"/>
                  <a:pt x="11187" y="11733"/>
                </a:cubicBezTo>
                <a:cubicBezTo>
                  <a:pt x="11187" y="11836"/>
                  <a:pt x="11157" y="11861"/>
                  <a:pt x="11088" y="11931"/>
                </a:cubicBezTo>
                <a:cubicBezTo>
                  <a:pt x="11042" y="11977"/>
                  <a:pt x="10980" y="11962"/>
                  <a:pt x="10939" y="11956"/>
                </a:cubicBezTo>
                <a:cubicBezTo>
                  <a:pt x="10853" y="11945"/>
                  <a:pt x="10826" y="11884"/>
                  <a:pt x="10815" y="11807"/>
                </a:cubicBezTo>
              </a:path>
              <a:path w="8063" h="1390">
                <a:moveTo>
                  <a:pt x="11485" y="11485"/>
                </a:moveTo>
                <a:cubicBezTo>
                  <a:pt x="11538" y="11485"/>
                  <a:pt x="11546" y="11473"/>
                  <a:pt x="11584" y="11435"/>
                </a:cubicBezTo>
                <a:cubicBezTo>
                  <a:pt x="11609" y="11410"/>
                  <a:pt x="11633" y="11386"/>
                  <a:pt x="11658" y="11361"/>
                </a:cubicBezTo>
              </a:path>
              <a:path w="8063" h="1390">
                <a:moveTo>
                  <a:pt x="11881" y="11013"/>
                </a:moveTo>
                <a:cubicBezTo>
                  <a:pt x="12004" y="10986"/>
                  <a:pt x="12039" y="10988"/>
                  <a:pt x="12154" y="11038"/>
                </a:cubicBezTo>
                <a:cubicBezTo>
                  <a:pt x="12235" y="11073"/>
                  <a:pt x="12289" y="11150"/>
                  <a:pt x="12303" y="11237"/>
                </a:cubicBezTo>
                <a:cubicBezTo>
                  <a:pt x="12318" y="11328"/>
                  <a:pt x="12300" y="11453"/>
                  <a:pt x="12254" y="11534"/>
                </a:cubicBezTo>
                <a:cubicBezTo>
                  <a:pt x="12181" y="11662"/>
                  <a:pt x="12086" y="11720"/>
                  <a:pt x="12005" y="11832"/>
                </a:cubicBezTo>
                <a:cubicBezTo>
                  <a:pt x="11968" y="11884"/>
                  <a:pt x="11928" y="11909"/>
                  <a:pt x="11881" y="11956"/>
                </a:cubicBezTo>
                <a:cubicBezTo>
                  <a:pt x="11911" y="11978"/>
                  <a:pt x="11966" y="11998"/>
                  <a:pt x="12005" y="12005"/>
                </a:cubicBezTo>
                <a:cubicBezTo>
                  <a:pt x="12094" y="12020"/>
                  <a:pt x="12189" y="12045"/>
                  <a:pt x="12278" y="12055"/>
                </a:cubicBezTo>
                <a:cubicBezTo>
                  <a:pt x="12354" y="12063"/>
                  <a:pt x="12409" y="12053"/>
                  <a:pt x="12477" y="12030"/>
                </a:cubicBezTo>
              </a:path>
              <a:path w="8063" h="1390">
                <a:moveTo>
                  <a:pt x="12774" y="11509"/>
                </a:moveTo>
                <a:cubicBezTo>
                  <a:pt x="12815" y="11529"/>
                  <a:pt x="12821" y="11538"/>
                  <a:pt x="12849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13200" y="3983040"/>
            <a:ext cx="54000" cy="36684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3444" y="11063"/>
                </a:moveTo>
                <a:cubicBezTo>
                  <a:pt x="13415" y="11193"/>
                  <a:pt x="13415" y="11307"/>
                  <a:pt x="13395" y="11435"/>
                </a:cubicBezTo>
                <a:cubicBezTo>
                  <a:pt x="13376" y="11562"/>
                  <a:pt x="13370" y="11677"/>
                  <a:pt x="13370" y="11807"/>
                </a:cubicBezTo>
                <a:cubicBezTo>
                  <a:pt x="13370" y="11885"/>
                  <a:pt x="13364" y="11985"/>
                  <a:pt x="13395" y="12055"/>
                </a:cubicBezTo>
                <a:cubicBezTo>
                  <a:pt x="13420" y="12110"/>
                  <a:pt x="13486" y="12069"/>
                  <a:pt x="13519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7760" y="4160880"/>
            <a:ext cx="16956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3965" y="11584"/>
                </a:moveTo>
                <a:cubicBezTo>
                  <a:pt x="14081" y="11584"/>
                  <a:pt x="14267" y="11617"/>
                  <a:pt x="14362" y="11559"/>
                </a:cubicBezTo>
              </a:path>
              <a:path w="472" h="373">
                <a:moveTo>
                  <a:pt x="14114" y="11832"/>
                </a:moveTo>
                <a:cubicBezTo>
                  <a:pt x="14235" y="11932"/>
                  <a:pt x="14279" y="11931"/>
                  <a:pt x="14436" y="119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57920" y="2071800"/>
            <a:ext cx="2778120" cy="652320"/>
          </a:xfrm>
          <a:custGeom>
            <a:avLst/>
            <a:gdLst/>
            <a:ahLst/>
            <a:rect l="l" t="t" r="r" b="b"/>
            <a:pathLst>
              <a:path w="7715" h="1811">
                <a:moveTo>
                  <a:pt x="16346" y="6127"/>
                </a:moveTo>
                <a:cubicBezTo>
                  <a:pt x="16346" y="6177"/>
                  <a:pt x="16357" y="6177"/>
                  <a:pt x="16346" y="6226"/>
                </a:cubicBezTo>
                <a:cubicBezTo>
                  <a:pt x="16305" y="6412"/>
                  <a:pt x="16322" y="6606"/>
                  <a:pt x="16297" y="6796"/>
                </a:cubicBezTo>
                <a:cubicBezTo>
                  <a:pt x="16282" y="6908"/>
                  <a:pt x="16243" y="7054"/>
                  <a:pt x="16272" y="7169"/>
                </a:cubicBezTo>
                <a:cubicBezTo>
                  <a:pt x="16296" y="7217"/>
                  <a:pt x="16305" y="7231"/>
                  <a:pt x="16297" y="7268"/>
                </a:cubicBezTo>
                <a:cubicBezTo>
                  <a:pt x="16332" y="7208"/>
                  <a:pt x="16321" y="7189"/>
                  <a:pt x="16321" y="7119"/>
                </a:cubicBezTo>
                <a:cubicBezTo>
                  <a:pt x="16321" y="6927"/>
                  <a:pt x="16383" y="6736"/>
                  <a:pt x="16421" y="6548"/>
                </a:cubicBezTo>
                <a:cubicBezTo>
                  <a:pt x="16457" y="6367"/>
                  <a:pt x="16487" y="6182"/>
                  <a:pt x="16520" y="6003"/>
                </a:cubicBezTo>
                <a:cubicBezTo>
                  <a:pt x="16533" y="5932"/>
                  <a:pt x="16554" y="5848"/>
                  <a:pt x="16619" y="5804"/>
                </a:cubicBezTo>
                <a:cubicBezTo>
                  <a:pt x="16627" y="5804"/>
                  <a:pt x="16636" y="5804"/>
                  <a:pt x="16644" y="5804"/>
                </a:cubicBezTo>
                <a:cubicBezTo>
                  <a:pt x="16662" y="5882"/>
                  <a:pt x="16686" y="5987"/>
                  <a:pt x="16694" y="6077"/>
                </a:cubicBezTo>
                <a:cubicBezTo>
                  <a:pt x="16709" y="6259"/>
                  <a:pt x="16666" y="6447"/>
                  <a:pt x="16718" y="6623"/>
                </a:cubicBezTo>
                <a:cubicBezTo>
                  <a:pt x="16741" y="6699"/>
                  <a:pt x="16763" y="6773"/>
                  <a:pt x="16768" y="6846"/>
                </a:cubicBezTo>
                <a:cubicBezTo>
                  <a:pt x="16768" y="6854"/>
                  <a:pt x="16768" y="6863"/>
                  <a:pt x="16768" y="6871"/>
                </a:cubicBezTo>
                <a:cubicBezTo>
                  <a:pt x="16768" y="6623"/>
                  <a:pt x="16728" y="6342"/>
                  <a:pt x="16793" y="6102"/>
                </a:cubicBezTo>
                <a:cubicBezTo>
                  <a:pt x="16815" y="6022"/>
                  <a:pt x="16840" y="5895"/>
                  <a:pt x="16892" y="5829"/>
                </a:cubicBezTo>
                <a:cubicBezTo>
                  <a:pt x="16919" y="5795"/>
                  <a:pt x="16967" y="5774"/>
                  <a:pt x="16991" y="5755"/>
                </a:cubicBezTo>
                <a:cubicBezTo>
                  <a:pt x="17099" y="5755"/>
                  <a:pt x="17139" y="5788"/>
                  <a:pt x="17190" y="5904"/>
                </a:cubicBezTo>
                <a:cubicBezTo>
                  <a:pt x="17247" y="6033"/>
                  <a:pt x="17254" y="6213"/>
                  <a:pt x="17264" y="6350"/>
                </a:cubicBezTo>
                <a:cubicBezTo>
                  <a:pt x="17278" y="6540"/>
                  <a:pt x="17299" y="6785"/>
                  <a:pt x="17289" y="6970"/>
                </a:cubicBezTo>
                <a:cubicBezTo>
                  <a:pt x="17284" y="7061"/>
                  <a:pt x="17264" y="7149"/>
                  <a:pt x="17264" y="7243"/>
                </a:cubicBezTo>
                <a:cubicBezTo>
                  <a:pt x="17264" y="7251"/>
                  <a:pt x="17264" y="7260"/>
                  <a:pt x="17264" y="7268"/>
                </a:cubicBezTo>
              </a:path>
              <a:path w="7715" h="1811">
                <a:moveTo>
                  <a:pt x="17835" y="6449"/>
                </a:moveTo>
                <a:cubicBezTo>
                  <a:pt x="17779" y="6477"/>
                  <a:pt x="17697" y="6611"/>
                  <a:pt x="17661" y="6672"/>
                </a:cubicBezTo>
                <a:cubicBezTo>
                  <a:pt x="17597" y="6778"/>
                  <a:pt x="17523" y="6901"/>
                  <a:pt x="17512" y="7020"/>
                </a:cubicBezTo>
                <a:cubicBezTo>
                  <a:pt x="17509" y="7056"/>
                  <a:pt x="17533" y="7135"/>
                  <a:pt x="17587" y="7119"/>
                </a:cubicBezTo>
                <a:cubicBezTo>
                  <a:pt x="17639" y="7104"/>
                  <a:pt x="17707" y="7062"/>
                  <a:pt x="17735" y="7020"/>
                </a:cubicBezTo>
                <a:cubicBezTo>
                  <a:pt x="17777" y="6958"/>
                  <a:pt x="17815" y="6860"/>
                  <a:pt x="17835" y="6796"/>
                </a:cubicBezTo>
                <a:cubicBezTo>
                  <a:pt x="17835" y="6788"/>
                  <a:pt x="17835" y="6780"/>
                  <a:pt x="17835" y="6772"/>
                </a:cubicBezTo>
                <a:cubicBezTo>
                  <a:pt x="17835" y="6851"/>
                  <a:pt x="17851" y="6919"/>
                  <a:pt x="17859" y="6995"/>
                </a:cubicBezTo>
                <a:cubicBezTo>
                  <a:pt x="17865" y="7053"/>
                  <a:pt x="17868" y="7115"/>
                  <a:pt x="17934" y="7144"/>
                </a:cubicBezTo>
                <a:cubicBezTo>
                  <a:pt x="17967" y="7144"/>
                  <a:pt x="17983" y="7144"/>
                  <a:pt x="18008" y="7144"/>
                </a:cubicBezTo>
              </a:path>
              <a:path w="7715" h="1811">
                <a:moveTo>
                  <a:pt x="18182" y="6400"/>
                </a:moveTo>
                <a:cubicBezTo>
                  <a:pt x="18182" y="6547"/>
                  <a:pt x="18193" y="6678"/>
                  <a:pt x="18207" y="6821"/>
                </a:cubicBezTo>
                <a:cubicBezTo>
                  <a:pt x="18216" y="6912"/>
                  <a:pt x="18224" y="7004"/>
                  <a:pt x="18231" y="7094"/>
                </a:cubicBezTo>
                <a:cubicBezTo>
                  <a:pt x="18236" y="7152"/>
                  <a:pt x="18196" y="7084"/>
                  <a:pt x="18182" y="7069"/>
                </a:cubicBezTo>
              </a:path>
              <a:path w="7715" h="1811">
                <a:moveTo>
                  <a:pt x="17983" y="6871"/>
                </a:moveTo>
                <a:cubicBezTo>
                  <a:pt x="18050" y="6858"/>
                  <a:pt x="18118" y="6826"/>
                  <a:pt x="18182" y="6796"/>
                </a:cubicBezTo>
                <a:cubicBezTo>
                  <a:pt x="18238" y="6768"/>
                  <a:pt x="18262" y="6758"/>
                  <a:pt x="18306" y="6747"/>
                </a:cubicBezTo>
              </a:path>
              <a:path w="7715" h="1811">
                <a:moveTo>
                  <a:pt x="18479" y="6077"/>
                </a:moveTo>
                <a:cubicBezTo>
                  <a:pt x="18503" y="6221"/>
                  <a:pt x="18504" y="6352"/>
                  <a:pt x="18504" y="6499"/>
                </a:cubicBezTo>
                <a:cubicBezTo>
                  <a:pt x="18504" y="6638"/>
                  <a:pt x="18503" y="6785"/>
                  <a:pt x="18529" y="6921"/>
                </a:cubicBezTo>
                <a:cubicBezTo>
                  <a:pt x="18544" y="6996"/>
                  <a:pt x="18538" y="7104"/>
                  <a:pt x="18579" y="7169"/>
                </a:cubicBezTo>
                <a:cubicBezTo>
                  <a:pt x="18579" y="7193"/>
                  <a:pt x="18579" y="7201"/>
                  <a:pt x="18604" y="7193"/>
                </a:cubicBezTo>
                <a:cubicBezTo>
                  <a:pt x="18611" y="7112"/>
                  <a:pt x="18627" y="7049"/>
                  <a:pt x="18653" y="6970"/>
                </a:cubicBezTo>
                <a:cubicBezTo>
                  <a:pt x="18686" y="6873"/>
                  <a:pt x="18679" y="6763"/>
                  <a:pt x="18728" y="6672"/>
                </a:cubicBezTo>
                <a:cubicBezTo>
                  <a:pt x="18736" y="6664"/>
                  <a:pt x="18744" y="6656"/>
                  <a:pt x="18752" y="6648"/>
                </a:cubicBezTo>
                <a:cubicBezTo>
                  <a:pt x="18817" y="6693"/>
                  <a:pt x="18865" y="6758"/>
                  <a:pt x="18876" y="6846"/>
                </a:cubicBezTo>
                <a:cubicBezTo>
                  <a:pt x="18890" y="6955"/>
                  <a:pt x="18883" y="7064"/>
                  <a:pt x="18901" y="7169"/>
                </a:cubicBezTo>
                <a:cubicBezTo>
                  <a:pt x="18902" y="7173"/>
                  <a:pt x="18925" y="7303"/>
                  <a:pt x="18951" y="7268"/>
                </a:cubicBezTo>
                <a:cubicBezTo>
                  <a:pt x="18951" y="7260"/>
                  <a:pt x="18951" y="7251"/>
                  <a:pt x="18951" y="7243"/>
                </a:cubicBezTo>
              </a:path>
              <a:path w="7715" h="1811">
                <a:moveTo>
                  <a:pt x="19124" y="6796"/>
                </a:moveTo>
                <a:cubicBezTo>
                  <a:pt x="19245" y="6775"/>
                  <a:pt x="19349" y="6772"/>
                  <a:pt x="19472" y="6772"/>
                </a:cubicBezTo>
                <a:cubicBezTo>
                  <a:pt x="19555" y="6772"/>
                  <a:pt x="19637" y="6772"/>
                  <a:pt x="19720" y="6772"/>
                </a:cubicBezTo>
              </a:path>
              <a:path w="7715" h="1811">
                <a:moveTo>
                  <a:pt x="19397" y="6548"/>
                </a:moveTo>
                <a:cubicBezTo>
                  <a:pt x="19534" y="6548"/>
                  <a:pt x="19660" y="6560"/>
                  <a:pt x="19794" y="6573"/>
                </a:cubicBezTo>
                <a:cubicBezTo>
                  <a:pt x="19867" y="6580"/>
                  <a:pt x="19953" y="6559"/>
                  <a:pt x="20017" y="6598"/>
                </a:cubicBezTo>
                <a:cubicBezTo>
                  <a:pt x="20049" y="6618"/>
                  <a:pt x="20052" y="6689"/>
                  <a:pt x="20042" y="6722"/>
                </a:cubicBezTo>
                <a:cubicBezTo>
                  <a:pt x="20014" y="6816"/>
                  <a:pt x="19958" y="6890"/>
                  <a:pt x="19918" y="6970"/>
                </a:cubicBezTo>
                <a:cubicBezTo>
                  <a:pt x="19884" y="7038"/>
                  <a:pt x="19839" y="7104"/>
                  <a:pt x="19819" y="7169"/>
                </a:cubicBezTo>
                <a:cubicBezTo>
                  <a:pt x="19796" y="7243"/>
                  <a:pt x="19854" y="7210"/>
                  <a:pt x="19893" y="7193"/>
                </a:cubicBezTo>
              </a:path>
              <a:path w="7715" h="1811">
                <a:moveTo>
                  <a:pt x="20538" y="6176"/>
                </a:moveTo>
                <a:cubicBezTo>
                  <a:pt x="20532" y="6361"/>
                  <a:pt x="20490" y="6562"/>
                  <a:pt x="20513" y="6747"/>
                </a:cubicBezTo>
                <a:cubicBezTo>
                  <a:pt x="20532" y="6898"/>
                  <a:pt x="20525" y="7072"/>
                  <a:pt x="20563" y="7218"/>
                </a:cubicBezTo>
                <a:cubicBezTo>
                  <a:pt x="20575" y="7265"/>
                  <a:pt x="20588" y="7301"/>
                  <a:pt x="20613" y="7317"/>
                </a:cubicBezTo>
                <a:cubicBezTo>
                  <a:pt x="20613" y="7193"/>
                  <a:pt x="20613" y="7069"/>
                  <a:pt x="20613" y="6945"/>
                </a:cubicBezTo>
              </a:path>
              <a:path w="7715" h="1811">
                <a:moveTo>
                  <a:pt x="20340" y="6127"/>
                </a:moveTo>
                <a:cubicBezTo>
                  <a:pt x="20358" y="6008"/>
                  <a:pt x="20390" y="5959"/>
                  <a:pt x="20538" y="5978"/>
                </a:cubicBezTo>
                <a:cubicBezTo>
                  <a:pt x="20679" y="5996"/>
                  <a:pt x="20827" y="6089"/>
                  <a:pt x="20935" y="6176"/>
                </a:cubicBezTo>
                <a:cubicBezTo>
                  <a:pt x="21029" y="6252"/>
                  <a:pt x="21069" y="6337"/>
                  <a:pt x="21034" y="6449"/>
                </a:cubicBezTo>
                <a:cubicBezTo>
                  <a:pt x="21005" y="6542"/>
                  <a:pt x="20937" y="6599"/>
                  <a:pt x="20861" y="6648"/>
                </a:cubicBezTo>
                <a:cubicBezTo>
                  <a:pt x="20790" y="6694"/>
                  <a:pt x="20696" y="6713"/>
                  <a:pt x="20662" y="6796"/>
                </a:cubicBezTo>
                <a:cubicBezTo>
                  <a:pt x="20640" y="6850"/>
                  <a:pt x="20676" y="6840"/>
                  <a:pt x="20712" y="6846"/>
                </a:cubicBezTo>
              </a:path>
              <a:path w="7715" h="1811">
                <a:moveTo>
                  <a:pt x="21109" y="6945"/>
                </a:moveTo>
                <a:cubicBezTo>
                  <a:pt x="21109" y="7020"/>
                  <a:pt x="21109" y="7094"/>
                  <a:pt x="21109" y="7169"/>
                </a:cubicBezTo>
                <a:cubicBezTo>
                  <a:pt x="21135" y="7160"/>
                  <a:pt x="21151" y="7110"/>
                  <a:pt x="21158" y="7069"/>
                </a:cubicBezTo>
                <a:cubicBezTo>
                  <a:pt x="21175" y="6968"/>
                  <a:pt x="21186" y="6911"/>
                  <a:pt x="21233" y="6821"/>
                </a:cubicBezTo>
                <a:cubicBezTo>
                  <a:pt x="21260" y="6770"/>
                  <a:pt x="21295" y="6712"/>
                  <a:pt x="21357" y="6697"/>
                </a:cubicBezTo>
                <a:cubicBezTo>
                  <a:pt x="21449" y="6675"/>
                  <a:pt x="21516" y="6643"/>
                  <a:pt x="21605" y="6598"/>
                </a:cubicBezTo>
              </a:path>
              <a:path w="7715" h="1811">
                <a:moveTo>
                  <a:pt x="21779" y="5953"/>
                </a:moveTo>
                <a:cubicBezTo>
                  <a:pt x="21813" y="6092"/>
                  <a:pt x="21803" y="6230"/>
                  <a:pt x="21803" y="6375"/>
                </a:cubicBezTo>
                <a:cubicBezTo>
                  <a:pt x="21803" y="6527"/>
                  <a:pt x="21816" y="6672"/>
                  <a:pt x="21828" y="6821"/>
                </a:cubicBezTo>
                <a:cubicBezTo>
                  <a:pt x="21840" y="6966"/>
                  <a:pt x="21798" y="7140"/>
                  <a:pt x="21853" y="7268"/>
                </a:cubicBezTo>
                <a:cubicBezTo>
                  <a:pt x="21860" y="7212"/>
                  <a:pt x="21863" y="7147"/>
                  <a:pt x="21878" y="7094"/>
                </a:cubicBezTo>
                <a:cubicBezTo>
                  <a:pt x="21901" y="7015"/>
                  <a:pt x="21914" y="6948"/>
                  <a:pt x="21952" y="6871"/>
                </a:cubicBezTo>
                <a:cubicBezTo>
                  <a:pt x="21983" y="6809"/>
                  <a:pt x="22018" y="6738"/>
                  <a:pt x="22101" y="6747"/>
                </a:cubicBezTo>
                <a:cubicBezTo>
                  <a:pt x="22181" y="6756"/>
                  <a:pt x="22259" y="6878"/>
                  <a:pt x="22275" y="6945"/>
                </a:cubicBezTo>
                <a:cubicBezTo>
                  <a:pt x="22305" y="7071"/>
                  <a:pt x="22296" y="7141"/>
                  <a:pt x="22225" y="7243"/>
                </a:cubicBezTo>
                <a:cubicBezTo>
                  <a:pt x="22177" y="7312"/>
                  <a:pt x="22116" y="7298"/>
                  <a:pt x="22051" y="7317"/>
                </a:cubicBezTo>
                <a:cubicBezTo>
                  <a:pt x="21965" y="7343"/>
                  <a:pt x="21959" y="7324"/>
                  <a:pt x="21878" y="7317"/>
                </a:cubicBezTo>
                <a:cubicBezTo>
                  <a:pt x="21870" y="7317"/>
                  <a:pt x="21861" y="7317"/>
                  <a:pt x="21853" y="7317"/>
                </a:cubicBezTo>
              </a:path>
              <a:path w="7715" h="1811">
                <a:moveTo>
                  <a:pt x="22523" y="6796"/>
                </a:moveTo>
                <a:cubicBezTo>
                  <a:pt x="22614" y="6796"/>
                  <a:pt x="22834" y="6841"/>
                  <a:pt x="22895" y="6747"/>
                </a:cubicBezTo>
                <a:cubicBezTo>
                  <a:pt x="22895" y="6739"/>
                  <a:pt x="22895" y="6730"/>
                  <a:pt x="22895" y="6722"/>
                </a:cubicBezTo>
              </a:path>
              <a:path w="7715" h="1811">
                <a:moveTo>
                  <a:pt x="22696" y="6499"/>
                </a:moveTo>
                <a:cubicBezTo>
                  <a:pt x="22800" y="6526"/>
                  <a:pt x="22893" y="6563"/>
                  <a:pt x="22994" y="6598"/>
                </a:cubicBezTo>
                <a:cubicBezTo>
                  <a:pt x="23052" y="6618"/>
                  <a:pt x="23133" y="6644"/>
                  <a:pt x="23192" y="6648"/>
                </a:cubicBezTo>
                <a:cubicBezTo>
                  <a:pt x="23209" y="6648"/>
                  <a:pt x="23225" y="6648"/>
                  <a:pt x="23242" y="6648"/>
                </a:cubicBezTo>
                <a:cubicBezTo>
                  <a:pt x="23186" y="6703"/>
                  <a:pt x="23143" y="6762"/>
                  <a:pt x="23093" y="6821"/>
                </a:cubicBezTo>
                <a:cubicBezTo>
                  <a:pt x="23017" y="6910"/>
                  <a:pt x="22968" y="6989"/>
                  <a:pt x="22920" y="7094"/>
                </a:cubicBezTo>
                <a:cubicBezTo>
                  <a:pt x="22894" y="7152"/>
                  <a:pt x="22895" y="7180"/>
                  <a:pt x="22895" y="7243"/>
                </a:cubicBezTo>
              </a:path>
              <a:path w="7715" h="1811">
                <a:moveTo>
                  <a:pt x="23564" y="6375"/>
                </a:moveTo>
                <a:cubicBezTo>
                  <a:pt x="23557" y="6472"/>
                  <a:pt x="23547" y="6540"/>
                  <a:pt x="23490" y="6623"/>
                </a:cubicBezTo>
                <a:cubicBezTo>
                  <a:pt x="23474" y="6646"/>
                  <a:pt x="23446" y="6688"/>
                  <a:pt x="23465" y="6722"/>
                </a:cubicBezTo>
                <a:cubicBezTo>
                  <a:pt x="23497" y="6780"/>
                  <a:pt x="23560" y="6772"/>
                  <a:pt x="23614" y="6796"/>
                </a:cubicBezTo>
                <a:cubicBezTo>
                  <a:pt x="23714" y="6840"/>
                  <a:pt x="23815" y="6830"/>
                  <a:pt x="23912" y="6772"/>
                </a:cubicBezTo>
                <a:cubicBezTo>
                  <a:pt x="23963" y="6720"/>
                  <a:pt x="23980" y="6701"/>
                  <a:pt x="23986" y="6648"/>
                </a:cubicBezTo>
              </a:path>
              <a:path w="7715" h="1811">
                <a:moveTo>
                  <a:pt x="23937" y="5953"/>
                </a:moveTo>
                <a:cubicBezTo>
                  <a:pt x="23964" y="6104"/>
                  <a:pt x="23972" y="6267"/>
                  <a:pt x="23961" y="6424"/>
                </a:cubicBezTo>
                <a:cubicBezTo>
                  <a:pt x="23946" y="6642"/>
                  <a:pt x="23915" y="6874"/>
                  <a:pt x="23937" y="7094"/>
                </a:cubicBezTo>
                <a:cubicBezTo>
                  <a:pt x="23951" y="7237"/>
                  <a:pt x="23961" y="7371"/>
                  <a:pt x="23961" y="7516"/>
                </a:cubicBezTo>
                <a:cubicBezTo>
                  <a:pt x="23961" y="7532"/>
                  <a:pt x="23961" y="7549"/>
                  <a:pt x="23961" y="75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59280" y="3071880"/>
            <a:ext cx="598680" cy="598320"/>
          </a:xfrm>
          <a:custGeom>
            <a:avLst/>
            <a:gdLst/>
            <a:ahLst/>
            <a:rect l="l" t="t" r="r" b="b"/>
            <a:pathLst>
              <a:path w="1663" h="1663">
                <a:moveTo>
                  <a:pt x="15999" y="8930"/>
                </a:moveTo>
                <a:cubicBezTo>
                  <a:pt x="16053" y="8899"/>
                  <a:pt x="16111" y="8844"/>
                  <a:pt x="16173" y="8830"/>
                </a:cubicBezTo>
                <a:cubicBezTo>
                  <a:pt x="16265" y="8809"/>
                  <a:pt x="16411" y="8820"/>
                  <a:pt x="16495" y="8855"/>
                </a:cubicBezTo>
                <a:cubicBezTo>
                  <a:pt x="16590" y="8895"/>
                  <a:pt x="16573" y="8950"/>
                  <a:pt x="16545" y="9029"/>
                </a:cubicBezTo>
                <a:cubicBezTo>
                  <a:pt x="16485" y="9200"/>
                  <a:pt x="16372" y="9301"/>
                  <a:pt x="16272" y="9451"/>
                </a:cubicBezTo>
                <a:cubicBezTo>
                  <a:pt x="16187" y="9578"/>
                  <a:pt x="16119" y="9702"/>
                  <a:pt x="16073" y="9847"/>
                </a:cubicBezTo>
                <a:cubicBezTo>
                  <a:pt x="16050" y="9919"/>
                  <a:pt x="16030" y="10020"/>
                  <a:pt x="16049" y="10096"/>
                </a:cubicBezTo>
                <a:cubicBezTo>
                  <a:pt x="16079" y="10213"/>
                  <a:pt x="16184" y="10197"/>
                  <a:pt x="16272" y="10170"/>
                </a:cubicBezTo>
                <a:cubicBezTo>
                  <a:pt x="16358" y="10143"/>
                  <a:pt x="16421" y="10096"/>
                  <a:pt x="16495" y="10046"/>
                </a:cubicBezTo>
              </a:path>
              <a:path w="1663" h="1663">
                <a:moveTo>
                  <a:pt x="16867" y="9079"/>
                </a:moveTo>
                <a:cubicBezTo>
                  <a:pt x="16848" y="9185"/>
                  <a:pt x="16776" y="9334"/>
                  <a:pt x="16842" y="9426"/>
                </a:cubicBezTo>
                <a:cubicBezTo>
                  <a:pt x="16842" y="9316"/>
                  <a:pt x="16835" y="9210"/>
                  <a:pt x="16867" y="9103"/>
                </a:cubicBezTo>
                <a:cubicBezTo>
                  <a:pt x="16894" y="9014"/>
                  <a:pt x="16949" y="8981"/>
                  <a:pt x="17016" y="8930"/>
                </a:cubicBezTo>
                <a:cubicBezTo>
                  <a:pt x="17044" y="8902"/>
                  <a:pt x="17057" y="8893"/>
                  <a:pt x="17090" y="8905"/>
                </a:cubicBezTo>
                <a:cubicBezTo>
                  <a:pt x="17123" y="8959"/>
                  <a:pt x="17123" y="9016"/>
                  <a:pt x="17140" y="9079"/>
                </a:cubicBezTo>
                <a:cubicBezTo>
                  <a:pt x="17162" y="9163"/>
                  <a:pt x="17140" y="9193"/>
                  <a:pt x="17140" y="9277"/>
                </a:cubicBezTo>
                <a:cubicBezTo>
                  <a:pt x="17140" y="9305"/>
                  <a:pt x="17142" y="9316"/>
                  <a:pt x="17165" y="9327"/>
                </a:cubicBezTo>
              </a:path>
              <a:path w="1663" h="1663">
                <a:moveTo>
                  <a:pt x="17462" y="8979"/>
                </a:moveTo>
                <a:cubicBezTo>
                  <a:pt x="17454" y="8994"/>
                  <a:pt x="17297" y="9229"/>
                  <a:pt x="17363" y="9302"/>
                </a:cubicBezTo>
                <a:cubicBezTo>
                  <a:pt x="17384" y="9325"/>
                  <a:pt x="17451" y="9363"/>
                  <a:pt x="17487" y="9351"/>
                </a:cubicBezTo>
                <a:cubicBezTo>
                  <a:pt x="17556" y="9327"/>
                  <a:pt x="17586" y="9243"/>
                  <a:pt x="17611" y="9178"/>
                </a:cubicBezTo>
                <a:cubicBezTo>
                  <a:pt x="17655" y="9064"/>
                  <a:pt x="17661" y="8976"/>
                  <a:pt x="17661" y="8855"/>
                </a:cubicBezTo>
                <a:cubicBezTo>
                  <a:pt x="17661" y="8776"/>
                  <a:pt x="17656" y="8658"/>
                  <a:pt x="17636" y="8582"/>
                </a:cubicBezTo>
                <a:cubicBezTo>
                  <a:pt x="17628" y="8566"/>
                  <a:pt x="17619" y="8549"/>
                  <a:pt x="17611" y="8533"/>
                </a:cubicBezTo>
                <a:cubicBezTo>
                  <a:pt x="17611" y="8732"/>
                  <a:pt x="17574" y="8967"/>
                  <a:pt x="17587" y="9153"/>
                </a:cubicBezTo>
                <a:cubicBezTo>
                  <a:pt x="17591" y="9213"/>
                  <a:pt x="17618" y="9280"/>
                  <a:pt x="1766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72160" y="3259080"/>
            <a:ext cx="268200" cy="465120"/>
          </a:xfrm>
          <a:custGeom>
            <a:avLst/>
            <a:gdLst/>
            <a:ahLst/>
            <a:rect l="l" t="t" r="r" b="b"/>
            <a:pathLst>
              <a:path w="745" h="1291">
                <a:moveTo>
                  <a:pt x="18430" y="9054"/>
                </a:moveTo>
                <a:cubicBezTo>
                  <a:pt x="18404" y="9237"/>
                  <a:pt x="18358" y="9355"/>
                  <a:pt x="18306" y="9525"/>
                </a:cubicBezTo>
                <a:cubicBezTo>
                  <a:pt x="18266" y="9655"/>
                  <a:pt x="18234" y="9810"/>
                  <a:pt x="18256" y="9947"/>
                </a:cubicBezTo>
                <a:cubicBezTo>
                  <a:pt x="18267" y="10018"/>
                  <a:pt x="18329" y="10198"/>
                  <a:pt x="18380" y="10244"/>
                </a:cubicBezTo>
                <a:cubicBezTo>
                  <a:pt x="18451" y="10308"/>
                  <a:pt x="18601" y="10382"/>
                  <a:pt x="18703" y="10344"/>
                </a:cubicBezTo>
                <a:cubicBezTo>
                  <a:pt x="18803" y="10307"/>
                  <a:pt x="18881" y="10213"/>
                  <a:pt x="18926" y="10120"/>
                </a:cubicBezTo>
                <a:cubicBezTo>
                  <a:pt x="18976" y="10017"/>
                  <a:pt x="19012" y="9862"/>
                  <a:pt x="19000" y="9748"/>
                </a:cubicBezTo>
                <a:cubicBezTo>
                  <a:pt x="18988" y="9637"/>
                  <a:pt x="18951" y="9477"/>
                  <a:pt x="18901" y="9376"/>
                </a:cubicBezTo>
                <a:cubicBezTo>
                  <a:pt x="18870" y="9313"/>
                  <a:pt x="18784" y="9194"/>
                  <a:pt x="18728" y="9153"/>
                </a:cubicBezTo>
                <a:cubicBezTo>
                  <a:pt x="18671" y="9111"/>
                  <a:pt x="18620" y="9107"/>
                  <a:pt x="18554" y="9103"/>
                </a:cubicBezTo>
                <a:cubicBezTo>
                  <a:pt x="18546" y="9103"/>
                  <a:pt x="18537" y="9103"/>
                  <a:pt x="18529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18Z</dcterms:created>
  <dc:creator>jnewman</dc:creator>
  <dc:description/>
  <dc:language>en-US</dc:language>
  <cp:lastModifiedBy>abeason</cp:lastModifiedBy>
  <dcterms:modified xsi:type="dcterms:W3CDTF">2009-03-09T16:32:37Z</dcterms:modified>
  <cp:revision>9</cp:revision>
  <dc:subject/>
  <dc:title>Lesson 9.1 part one</dc:title>
</cp:coreProperties>
</file>